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08F7-E182-4E19-A250-7684FD9A82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3D3F-1AC4-4446-A0B1-CC9FDD15F1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9E95-15AE-4F5F-A6C9-2EEF140A3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7B47-AE77-415D-971F-4DD62EC4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8059-CF3C-4BBF-9305-8169B0E55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1CCE-8887-4FAF-83CE-CC67DED47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6837-AF88-4E00-A570-65A89EFF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79ED-426E-4483-AE3A-6A9AF2CB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4C6C-6B80-46A6-9C62-55145CFB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8126-B9A2-42D9-B6DE-245DE56A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2352-4B8E-4509-A835-0174BAD8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216C-3715-4E74-AD49-DF344D46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CDC3-9117-4685-B786-CA06D007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E440-BE93-47E8-A7A8-F356FBDD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329F-1045-4225-9695-C9A60D1120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8480" y="285840"/>
            <a:ext cx="642924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Максим Горький – юным читателя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Users\зина\Pictures\М.Горький\i.jpg"/>
          <p:cNvPicPr/>
          <p:nvPr/>
        </p:nvPicPr>
        <p:blipFill>
          <a:blip r:embed="rId1"/>
          <a:srcRect l="15000" t="0" r="15000" b="0"/>
          <a:stretch/>
        </p:blipFill>
        <p:spPr>
          <a:xfrm>
            <a:off x="1944720" y="1857240"/>
            <a:ext cx="5587920" cy="3214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43040" y="5214600"/>
            <a:ext cx="614376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дготовила Тверская З.П.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читель русского языка и литературы МКОУ СОШ п.Заря Опаринского района Кировской обл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574800" y="272520"/>
            <a:ext cx="5111640" cy="58532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5480" y="214200"/>
            <a:ext cx="321444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усские матросы начали оказывать необходимую помощь пострадавшим. Они спасли множество людей. За этот подвиг каждого из матросов и офицеров правительство Италии наградило орденами и медаля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C:\Users\зина\Pictures\М.Горький\34.jpg"/>
          <p:cNvPicPr/>
          <p:nvPr/>
        </p:nvPicPr>
        <p:blipFill>
          <a:blip r:embed="rId2"/>
          <a:stretch/>
        </p:blipFill>
        <p:spPr>
          <a:xfrm>
            <a:off x="3500280" y="1143000"/>
            <a:ext cx="5429520" cy="423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285480"/>
            <a:ext cx="346536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орький в это время жил на острове Капри, работал и лечился. «А что я могу сделать для пострадавших? - думал писатель. - Они нуждаются в лекарствах, одежде, деньгах. Им надо строить новые дома, чтобы жить дальше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Users\зина\Pictures\М.Горький\в Италии.jpg"/>
          <p:cNvPicPr/>
          <p:nvPr/>
        </p:nvPicPr>
        <p:blipFill>
          <a:blip r:embed="rId1"/>
          <a:stretch/>
        </p:blipFill>
        <p:spPr>
          <a:xfrm>
            <a:off x="3481560" y="898560"/>
            <a:ext cx="5519520" cy="40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356760"/>
            <a:ext cx="347184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днажды из России прибыли деньги и письмо, написанное детским почерком. Неизвестные малыши из Баилова (предместье Баку) писали: «Пожалуйста, передайте наши деньги… писателю Максиму Горькому для мессинцев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C:\Users\зина\Pictures\М.Горький\35.jpg"/>
          <p:cNvPicPr/>
          <p:nvPr/>
        </p:nvPicPr>
        <p:blipFill>
          <a:blip r:embed="rId1"/>
          <a:stretch/>
        </p:blipFill>
        <p:spPr>
          <a:xfrm>
            <a:off x="3929040" y="574560"/>
            <a:ext cx="5000760" cy="524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9d380.jpg" descr="C:\Users\зина\Pictures\М.Горький\9d380.jpg"/>
          <p:cNvPicPr/>
          <p:nvPr/>
        </p:nvPicPr>
        <p:blipFill>
          <a:blip r:embed=""/>
          <a:stretch/>
        </p:blipFill>
        <p:spPr>
          <a:xfrm>
            <a:off x="4478400" y="368280"/>
            <a:ext cx="4094280" cy="59184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14200"/>
            <a:ext cx="300816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дин из мальчиков «Школы шалунов» просил написать сказку  про воробьишку или как мальчик удит рыбу. Горький  отблагодарил  хороших маленьких людей  рассказами, сказками, стих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00024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казка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«Утро»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писана в 1910 году, напечатана впервые в детском журнале «Жаворонок». Это гимн природе и человеку-труженику, украшающему  жизн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C:\Users\зина\Pictures\М.Горький\утро.jpg"/>
          <p:cNvPicPr/>
          <p:nvPr/>
        </p:nvPicPr>
        <p:blipFill>
          <a:blip r:embed="rId1"/>
          <a:stretch/>
        </p:blipFill>
        <p:spPr>
          <a:xfrm>
            <a:off x="3214800" y="214200"/>
            <a:ext cx="5929200" cy="41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85480"/>
            <a:ext cx="300816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казка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«Случай с Евсейкой»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писана в 1912 году, напечатана в газете «День». Автор учит никогда не унывать в сложной ситуации, быть стойким и мужественны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C:\Users\зина\Pictures\М.Горький\14.jpg"/>
          <p:cNvPicPr/>
          <p:nvPr/>
        </p:nvPicPr>
        <p:blipFill>
          <a:blip r:embed="rId1"/>
          <a:stretch/>
        </p:blipFill>
        <p:spPr>
          <a:xfrm>
            <a:off x="3575160" y="1071720"/>
            <a:ext cx="53546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85840" y="285480"/>
            <a:ext cx="31795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казка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«Воробьишко»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писана в 1912 году и  впервые напечатана в сборнике «Голубая книжка». Автору нравится самостоятельность Пудика, его доброта, стремление все зна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C:\Users\зина\Pictures\М.Горький\26.jpg"/>
          <p:cNvPicPr/>
          <p:nvPr/>
        </p:nvPicPr>
        <p:blipFill>
          <a:blip r:embed="rId1"/>
          <a:stretch/>
        </p:blipFill>
        <p:spPr>
          <a:xfrm>
            <a:off x="4187880" y="504720"/>
            <a:ext cx="4241880" cy="563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645120"/>
            <a:ext cx="300816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13840" y="142560"/>
            <a:ext cx="371484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казку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«Самовар»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исатель создал в 1913 году и  включил в первую составленную и отредактированную им книгу для детей - «Елка». На примере Самовара автор показал, что хвастовство, себялюбие всегда осуждают. Эти качества до добра не доведу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C:\Users\зина\Pictures\М.Горький\16.jpg"/>
          <p:cNvPicPr/>
          <p:nvPr/>
        </p:nvPicPr>
        <p:blipFill>
          <a:blip r:embed="rId1"/>
          <a:stretch/>
        </p:blipFill>
        <p:spPr>
          <a:xfrm>
            <a:off x="4143240" y="214200"/>
            <a:ext cx="4819680" cy="58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5480" y="214200"/>
            <a:ext cx="3786120" cy="621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казка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«Про Иванушку-дурачка»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сходит к русским народным традициям, написана в 1918 году. Главный герой Иванушка оказался не глупым и пустым человеком, а добрым, понимающим людей и животных юношей, с которым всем легко и весел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3" descr="C:\Users\зина\Pictures\М.Горький\28.jpg"/>
          <p:cNvPicPr/>
          <p:nvPr/>
        </p:nvPicPr>
        <p:blipFill>
          <a:blip r:embed="rId1"/>
          <a:stretch/>
        </p:blipFill>
        <p:spPr>
          <a:xfrm>
            <a:off x="4500720" y="500040"/>
            <a:ext cx="4406760" cy="55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54348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казка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«Яшка»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первые напечатана в журнале «Северное сияние» в 1919 году. Главный герой оказался в раю, но быстро понял, что жизнь лучше и надо ею дорожить с дет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C:\Users\зина\Pictures\М.Горький\Я.jpg"/>
          <p:cNvPicPr/>
          <p:nvPr/>
        </p:nvPicPr>
        <p:blipFill>
          <a:blip r:embed="rId1"/>
          <a:stretch/>
        </p:blipFill>
        <p:spPr>
          <a:xfrm>
            <a:off x="4357800" y="785880"/>
            <a:ext cx="4000320" cy="523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-360" y="285480"/>
            <a:ext cx="36147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читывая выдающийся вклад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лексея Максимовича Горького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отечественную и мировую культуру, Президент России Владимир Путин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здал Указ о праздновании 150-летия со дня рождения писате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2018 год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зина\Pictures\М.Горький\П.jpg"/>
          <p:cNvPicPr/>
          <p:nvPr/>
        </p:nvPicPr>
        <p:blipFill>
          <a:blip r:embed="rId1"/>
          <a:stretch/>
        </p:blipFill>
        <p:spPr>
          <a:xfrm>
            <a:off x="4572000" y="1000080"/>
            <a:ext cx="3819600" cy="48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645120"/>
            <a:ext cx="300816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85480"/>
            <a:ext cx="300816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орький считал, что его произведения могут достичь цели: «насыщение человека знаниями о мире и о нём самом, формирование характера и воли, развитие способностей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C:\Users\зина\Pictures\М.Горький\25.jpg"/>
          <p:cNvPicPr/>
          <p:nvPr/>
        </p:nvPicPr>
        <p:blipFill>
          <a:blip r:embed="rId1"/>
          <a:stretch/>
        </p:blipFill>
        <p:spPr>
          <a:xfrm>
            <a:off x="4141800" y="272880"/>
            <a:ext cx="4788000" cy="58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3840" y="285840"/>
            <a:ext cx="364356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ожелание писателя детям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4200" y="1357200"/>
            <a:ext cx="38577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Живите дружно, как пальцы чудесно работающих рук музыканта. Учитесь понимать значение труда и науки - двух сил, которые решают все загадки жизни, преодолевают все препятствия на пути, указанном вам отцами…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C:\Users\зина\Pictures\М.Горький\5.jpg"/>
          <p:cNvPicPr/>
          <p:nvPr/>
        </p:nvPicPr>
        <p:blipFill>
          <a:blip r:embed="rId1"/>
          <a:stretch/>
        </p:blipFill>
        <p:spPr>
          <a:xfrm>
            <a:off x="4214880" y="857160"/>
            <a:ext cx="4749840" cy="393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роверим себ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0717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. Когда и где родился Максим Горький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28 марта 1868 года в Нижнем Новгород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. Кто скрывается под псевдонимом Максим Горький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Алексей Максимович Пеш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 В каком произведении писатель рассказал о своем детств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 повести «Детство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 Почему Максим Горький решил писать сказки для детей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Его попросили воспитанники «Школы шалунов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роверим себ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213920"/>
            <a:ext cx="8229600" cy="621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. В какой сказке герой не слушался свою мам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«Воробьишко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6. Какая сказка учит мужеству и стойкост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«Случай с Евсейкой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7. Над каким героем из какой сказки посмеивается автор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Над Самоваром из одноименной сказ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8. Какое пожелание детям высказал Максим Горький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Жить дружно, трудиться, учиться, преодолевать неудач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Использованные Интернет – ресурсы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http://gorkiy-lit.ru/gorkiy/proza/rasskaz/sluchaj-s-evsejkoj.ht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https://knowledge.allbest.ru/literature/3c0b65635a3bc78b4d53b88521316d27_0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https://subscribe.ru/group/mir-iskusstva-tvorchestva-i-krasotyi/4463127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4"/>
          <p:cNvSpPr/>
          <p:nvPr/>
        </p:nvSpPr>
        <p:spPr>
          <a:xfrm>
            <a:off x="1143000" y="1500120"/>
            <a:ext cx="728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Благодарим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657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Детство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8 марта 1868 года в Нижнем Новгороде родился мальчик Алёша Пеш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Users\зина\Pictures\М.Горький\9.jpg"/>
          <p:cNvPicPr/>
          <p:nvPr/>
        </p:nvPicPr>
        <p:blipFill>
          <a:blip r:embed="rId1"/>
          <a:stretch/>
        </p:blipFill>
        <p:spPr>
          <a:xfrm>
            <a:off x="393840" y="1500120"/>
            <a:ext cx="8451720" cy="35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45120"/>
            <a:ext cx="300816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0040" y="285480"/>
            <a:ext cx="300816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лёша рано остался без родителей. Он воспитывался в семье деда  и бабушки Кашириных, изображённых  впоследствии в повести «Детство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Users\зина\Pictures\М.Горький\17.jpg"/>
          <p:cNvPicPr/>
          <p:nvPr/>
        </p:nvPicPr>
        <p:blipFill>
          <a:blip r:embed="rId1"/>
          <a:stretch/>
        </p:blipFill>
        <p:spPr>
          <a:xfrm>
            <a:off x="3821040" y="187200"/>
            <a:ext cx="4751640" cy="581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3840" y="285480"/>
            <a:ext cx="32511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лексей Пешков всего два года          (1877-1879)  учился в Нижегородском Канавинском ремесленном училище. За прилежание и успехи «в науках и благонравии» награждён Похвальной грамот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зина\Pictures\М.Горький\18.jpg"/>
          <p:cNvPicPr/>
          <p:nvPr/>
        </p:nvPicPr>
        <p:blipFill>
          <a:blip r:embed="rId1"/>
          <a:stretch/>
        </p:blipFill>
        <p:spPr>
          <a:xfrm>
            <a:off x="3429000" y="928800"/>
            <a:ext cx="5572080" cy="41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356760"/>
            <a:ext cx="300816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 11 лет мальчик был вынужден начать работать: Алёша был посыльным при магазине, буфетчиком на пароходе, помощником пекаря и иконописц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Users\зина\Pictures\М.Горький\1.jpg"/>
          <p:cNvPicPr/>
          <p:nvPr/>
        </p:nvPicPr>
        <p:blipFill>
          <a:blip r:embed="rId1"/>
          <a:stretch/>
        </p:blipFill>
        <p:spPr>
          <a:xfrm>
            <a:off x="3429000" y="928800"/>
            <a:ext cx="5500800" cy="39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544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сентябре 1892 года в газете «Кавказ» печатается первый рассказ «Макар Чудра», тогда же появляется псевдоним  - Максим Горьк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499680"/>
            <a:ext cx="300816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Твочеств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C:\Users\зина\Pictures\М.Горький\104523726_0.jpg"/>
          <p:cNvPicPr/>
          <p:nvPr/>
        </p:nvPicPr>
        <p:blipFill>
          <a:blip r:embed="rId1"/>
          <a:stretch/>
        </p:blipFill>
        <p:spPr>
          <a:xfrm>
            <a:off x="4286160" y="285840"/>
            <a:ext cx="4222800" cy="608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14200"/>
            <a:ext cx="300816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 школе читают и изучают произведения писателя: «Детство»,  «Сказки об Италии», «Челкаш»,  «Старуха Изергиль»,, «Легенда о Данко»,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На дне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зина\Pictures\М.Горький\1011486106.jpg"/>
          <p:cNvPicPr/>
          <p:nvPr/>
        </p:nvPicPr>
        <p:blipFill>
          <a:blip r:embed="rId1"/>
          <a:stretch/>
        </p:blipFill>
        <p:spPr>
          <a:xfrm>
            <a:off x="4243320" y="272880"/>
            <a:ext cx="3775320" cy="58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300816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Сказки для дет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30081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стория их написания связана с землетрясением, которое случилось на юге Италии, в Мессине. Катастрофа произошла 15 декабря 1908 год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Users\зина\Pictures\М.Горький\4679b153402a.jpg"/>
          <p:cNvPicPr/>
          <p:nvPr/>
        </p:nvPicPr>
        <p:blipFill>
          <a:blip r:embed="rId1"/>
          <a:srcRect l="0" t="14583" r="0" b="14583"/>
          <a:stretch/>
        </p:blipFill>
        <p:spPr>
          <a:xfrm>
            <a:off x="3429000" y="164304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574800" y="272520"/>
            <a:ext cx="5111640" cy="5853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5T16:49:56Z</dcterms:created>
  <dc:creator>зина</dc:creator>
  <dc:description/>
  <dc:language>en-US</dc:language>
  <cp:lastModifiedBy>зина</cp:lastModifiedBy>
  <dcterms:modified xsi:type="dcterms:W3CDTF">2019-01-13T18:42:31Z</dcterms:modified>
  <cp:revision>128</cp:revision>
  <dc:subject/>
  <dc:title>Слайд 1</dc:title>
</cp:coreProperties>
</file>