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51D-CA87-4D8F-A7EC-D773A508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883-8E30-4110-B943-3D2ECA4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57E-4B55-4BF1-8411-F96D04A2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3C8-A644-46F8-B69B-FD89EB84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C9F-0015-4CD2-AB55-AC7EF94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240-FA41-4C8A-B3A3-A841A074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88F-B411-425C-B931-A8B9904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0C0-E201-44F3-A546-50789FA5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749-AFCF-42AE-A578-722D30C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CB9-3170-4469-8A37-AD6A5AA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491-6B37-476D-8B21-294AD88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50D-45FD-41AF-9EDE-194D2E2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E25-A66F-4EDD-9857-570A8B9A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2860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лов с парны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глас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5880" y="228600"/>
            <a:ext cx="2895840" cy="1219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енажё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55627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номарева О.И. -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лиала МБОУ «Покрово-Пригородн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 с. Красносвобо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724280"/>
            <a:ext cx="11430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БЕРЕ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8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19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ЛЕ…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5 0.33334 E">
                                      <p:cBhvr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ЗБУ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10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БЕР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8600" y="3809880"/>
            <a:ext cx="8915400" cy="3048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 Интер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 для 1,2,14 слайдов:httpsdnepr.detivgorode.uarebus-domus-intellekt-st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anovaya-poznavatelno-razvlekatelnaya-programma-skazochnaya-str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для 3-13 слайдов:httpsst3.depositphotos.com208102117533v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positphotos_175330740-stock-illustration-the-fantastic-country.j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ка:https://vilingstore.net/Vovka-v-Tridevyatom-carstve-i79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ка за партой:https://pikabu.ru/story/a_kto_pomnitvovka_v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ridevyatom_tsarstve_nemnogo_starogo_pozitiva_65547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-пирожное:https://ru.pngtree.com/freepng/vector-pastry_209424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- мороженое:https://ru.depositphotos.com/119632038/stoc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llustration-hand-drawn-icecream-in-co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600200" y="1066680"/>
            <a:ext cx="2514600" cy="2819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0"/>
            <a:ext cx="3124080" cy="1295280"/>
          </a:xfrm>
          <a:prstGeom prst="wedgeEllipseCallout">
            <a:avLst>
              <a:gd name="adj1" fmla="val -56402"/>
              <a:gd name="adj2" fmla="val 7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61080" y="0"/>
            <a:ext cx="226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12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и по запросу хочу пирожное хочу мороженое"/>
          <p:cNvPicPr/>
          <p:nvPr/>
        </p:nvPicPr>
        <p:blipFill>
          <a:blip r:embed="rId2"/>
          <a:srcRect l="18228" t="0" r="20659" b="0"/>
          <a:stretch/>
        </p:blipFill>
        <p:spPr>
          <a:xfrm>
            <a:off x="5105520" y="25146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52280"/>
            <a:ext cx="3657600" cy="152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ята, помогите В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ить в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ущ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ные согласные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724280"/>
            <a:ext cx="914400" cy="45720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1524240" cy="914400"/>
          </a:xfrm>
          <a:prstGeom prst="wedgeEllipseCallout">
            <a:avLst>
              <a:gd name="adj1" fmla="val -1250"/>
              <a:gd name="adj2" fmla="val 63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6400" y="1839960"/>
            <a:ext cx="104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ак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у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став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КА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5 0.33334 E">
                                      <p:cBhvr>
                                        <p:cTn id="1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МЫ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3 0.32222 E">
                                      <p:cBhvr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ЛА…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3334 0.35556 E">
                                      <p:cBhvr>
                                        <p:cTn id="3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ТРА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5 0.33334 E">
                                      <p:cBhvr>
                                        <p:cTn id="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ШУ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РЫ…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5 0.33334 E">
                                      <p:cBhvr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76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и по запросу хочу пирожное хочу мороженое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743200" y="14479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images" descr="Похожее изображение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0" y="4863960"/>
            <a:ext cx="2133720" cy="199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71600" y="4572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ЛИ…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00600" y="50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9625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325 0.33333 E">
                                      <p:cBhvr>
                                        <p:cTn id="7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7-27T21:21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