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D3B-2AFE-43C6-9CDE-C339AC6A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BD7-7776-44E6-AC6F-611DBFAF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235-9D6C-419F-83DB-6766DA31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E43-CCD5-4899-8202-D73F1A91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C63C-BC4D-4B0E-B5F1-40753899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5966-F49E-4FE5-A534-1C2D9228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A26E-E1FF-43DC-8CEE-190112CE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5A52-E8EB-41A3-8B90-F8CD124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8B8F-0019-48EB-B067-1B7E7F19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D8C3-EE0D-40BD-9BB7-64DA5CC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1BB8-2002-4D93-97C4-B4B82018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2CD-8EF7-42F6-911A-F049EC7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2D1-277C-48C0-9F5B-18805BF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6ED8-D5DD-4CF2-BC6B-0401A49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088C-03A1-4885-9D56-E5F6D777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908E-BFE6-4E0E-A949-A6F651FE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84C0-A957-4453-B90B-F23ACBCB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E36-B2A3-4680-A355-5BFA5FE4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567-B76C-4E70-A2D2-F1D1B55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F2C-D2CB-404E-9DD4-017C4C7B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6C3-FBE4-4AAE-BFB6-220E284E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387-8506-456F-AE3C-1312C9E3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6A0-03E0-4AD7-BD07-D05E225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198-DD0E-468C-BB3D-92C7FE1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7FCC-EB60-497B-B833-1888EDC3E6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0F76-4CDA-4E04-8B18-D548A490E8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Будет и на нашей улице празд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Вести праздный образ жиз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Праздник придёт – гостей приведё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У ленивого всегда празд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0920" y="1989000"/>
            <a:ext cx="4249800" cy="2952720"/>
          </a:xfrm>
          <a:prstGeom prst="sun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НЕПРОИЗНОСИМ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СОГЛАС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333360"/>
            <a:ext cx="2304720" cy="1366920"/>
          </a:xfrm>
          <a:prstGeom prst="wedgeEllipseCallout">
            <a:avLst>
              <a:gd name="adj1" fmla="val 620"/>
              <a:gd name="adj2" fmla="val 626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- зДн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441800">
            <a:off x="306360" y="856800"/>
            <a:ext cx="1968480" cy="1897200"/>
          </a:xfrm>
          <a:prstGeom prst="wedgeEllipseCallout">
            <a:avLst>
              <a:gd name="adj1" fmla="val 69430"/>
              <a:gd name="adj2" fmla="val 106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Arial"/>
              </a:rPr>
              <a:t>-сТн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1052640"/>
            <a:ext cx="2232360" cy="1726920"/>
          </a:xfrm>
          <a:prstGeom prst="wedgeEllipseCallout">
            <a:avLst>
              <a:gd name="adj1" fmla="val -64439"/>
              <a:gd name="adj2" fmla="val 2454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- рДц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94000">
            <a:off x="6163920" y="4183200"/>
            <a:ext cx="2149560" cy="1652400"/>
          </a:xfrm>
          <a:prstGeom prst="wedgeEllipseCallout">
            <a:avLst>
              <a:gd name="adj1" fmla="val -71300"/>
              <a:gd name="adj2" fmla="val -1588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-Лнц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874200">
            <a:off x="604800" y="4263840"/>
            <a:ext cx="1913040" cy="1904760"/>
          </a:xfrm>
          <a:prstGeom prst="wedgeEllipseCallout">
            <a:avLst>
              <a:gd name="adj1" fmla="val -27828"/>
              <a:gd name="adj2" fmla="val 6118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-Вств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647600">
            <a:off x="3347640" y="5589360"/>
            <a:ext cx="2087640" cy="1079280"/>
          </a:xfrm>
          <a:prstGeom prst="wedgeRoundRectCallout">
            <a:avLst>
              <a:gd name="adj1" fmla="val 6347"/>
              <a:gd name="adj2" fmla="val 9978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-сн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устный 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честный поступ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известный арт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радостное собы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поздний ч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      …  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      …  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поступ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      …  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арт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      …  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собы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      …  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ч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устный отве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честный поступок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известный артист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радостное собы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поздний час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зве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позд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409840" cy="2779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20920" y="33228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Мороз и солнце, день чудесны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Ещё ты дремлешь, друг преле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2960" y="4651920"/>
            <a:ext cx="835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Здравствуй, князь ты мой прекрасны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Что ты тих, как день ненастны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Опечалился чему?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Говорит она 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удесный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елестный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дравствуй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екрасный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ненастный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уд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ел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дра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екра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ненасть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Упр. 24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12000" y="3933720"/>
            <a:ext cx="244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15:06:50Z</dcterms:created>
  <dc:creator>1</dc:creator>
  <dc:description/>
  <dc:language>en-US</dc:language>
  <cp:lastModifiedBy>Customer</cp:lastModifiedBy>
  <dcterms:modified xsi:type="dcterms:W3CDTF">2012-01-29T12:19:21Z</dcterms:modified>
  <cp:revision>3</cp:revision>
  <dc:subject/>
  <dc:title>ЗОЛОТЫЕ  ПРАВИЛА  РУССКОЙ  ОРФОГРАФИИ</dc:title>
</cp:coreProperties>
</file>