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6091-5C59-4984-9A11-7562D788EF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ит наличие действительных корней уравн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корней могут иметь квадратные уравн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вид имеет  приведённое квадратное уравн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формулы для нахождения корней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F0A7-61DE-4A12-ADEE-D98B1BCB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00B0-96D6-4F42-B7A3-43E983B6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4537-3050-400B-BEB7-FB46DEC7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02E4-4DC7-4132-A371-D29B84FD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59C6-90C8-4EE7-AAC8-D6A1D562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395B-82FB-4F24-8FA3-B51DEA88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FF64-01B1-4825-AA20-1A681D78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641F-8CD9-4EDD-9A4B-B65D973D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59D3-5FB0-4043-BBA6-A8AB22A5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D4A0-CC1E-4E25-A486-3D414644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A211-04FC-43B6-AF47-917A8B28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BAC-464C-44CC-A463-8F7D9C4C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66FC-D007-409B-968D-F962A412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A6B5-6987-4729-B0DA-50598031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4EB0-4816-4BD6-99C9-3552ECF0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7FD3-A814-4F49-8E37-63138B3E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3607-1367-4B81-9C38-F127EB02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13844-7978-4BFD-AAFA-EAD53D32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25A24-6E03-4F45-8B85-1E16C621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FC1DD-7867-4BBE-9E7B-0AFA0A7B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8550D-1EC2-4956-8C53-D2AFAF18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BA628-8CD6-4BCE-8CDD-EF8F46F9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84B-A1D5-44B5-A79D-0A3E2D25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237A9-6B2C-4509-BFFF-13B34A69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A8ADF-A7A4-439A-83F9-28E5F988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E3007-A827-4E9B-B7A1-6F9F29A5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141FF-7904-40CF-8A56-721CCC15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1A2A9-B134-423F-9801-C0B4B375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AFCAA-EDA8-4CF8-BE60-2FC37781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7E50C-0A18-4E40-8F2D-9D934E5D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D2FE-5E6B-4FEE-8ACB-5282D0E6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25FF-427D-4B39-B570-291D9CB4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A825-8ECD-4E8D-8F8E-CF19BC1D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035-4CAD-4E3E-A519-B1824ADA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86CC-8CF4-4733-91CF-2E4CD9C3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441-4D0C-4707-8407-F340C423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0DFC-8C07-4F22-91D4-36646EF76A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F265-14F4-4991-A5B9-BC52FC9BAF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754A-3CDC-4CD8-ADD9-C2DF7DC63B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phizmat.org.ua/2009-10-27-13-31-30/817-stihi-o-fransua-vieta" TargetMode="External"/><Relationship Id="rId2" Type="http://schemas.openxmlformats.org/officeDocument/2006/relationships/hyperlink" Target="http://revolution.allbest.ru/pedagogics/00249255_0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6"/>
          <p:cNvSpPr/>
          <p:nvPr/>
        </p:nvSpPr>
        <p:spPr>
          <a:xfrm>
            <a:off x="900000" y="90792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924000" y="5084640"/>
            <a:ext cx="48956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тель математи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дко Юлия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5"/>
          <p:cNvSpPr txBox="1"/>
          <p:nvPr/>
        </p:nvSpPr>
        <p:spPr>
          <a:xfrm>
            <a:off x="1547640" y="3282840"/>
            <a:ext cx="604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10 способов решения </a:t>
            </a:r>
            <a:endParaRPr b="0" lang="en-US" sz="3600" spc="1" strike="noStrike">
              <a:ln w="1260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вадратных уравнений</a:t>
            </a:r>
            <a:endParaRPr b="0" lang="en-US" sz="3600" spc="1" strike="noStrike">
              <a:ln w="1260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187280" y="385920"/>
            <a:ext cx="70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ИСТЕРСТВО ПРОФЕССИОНАЛЬНОГО ОБРАЗОВАНИЯ И ЗАНЯТОСТИ НАСЕЛЕНИЯ ПРИМОРСКОГО КР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евое государственное автономное профессиональное образовательное учрежд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пасский политехнический колледж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следовательский прое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Text Box 9" descr=""/>
          <p:cNvPicPr/>
          <p:nvPr/>
        </p:nvPicPr>
        <p:blipFill>
          <a:blip r:embed="rId1"/>
          <a:stretch/>
        </p:blipFill>
        <p:spPr>
          <a:xfrm>
            <a:off x="755640" y="2206800"/>
            <a:ext cx="8064360" cy="1012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2. СПОСО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тод выделения полного квадр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63640" y="2204640"/>
            <a:ext cx="5832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м уравне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+ 6х - 7 =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ыделим в левой части полный квадр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уем теперь левую часть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+ 6х - 7 =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 прибавляя к ней и вычит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ме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+ 6х - 7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• х • 3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7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= (х + 3)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9 - 7 = (х + 3)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данное уравнение можно записать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х + 3)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16 =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х + 3)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= 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 + 3 - 4 = 0, или х + 3 = 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= 1,                х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= -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755640" y="1557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Суть метод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привести квадратное уравнение общего вида к неполному квадратному уравнени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98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98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98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98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98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564000" y="1052640"/>
            <a:ext cx="149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572000" y="1125360"/>
            <a:ext cx="117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1258920" y="1557360"/>
                <a:ext cx="1728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5"/>
              <p:cNvSpPr txBox="1"/>
              <p:nvPr/>
            </p:nvSpPr>
            <p:spPr>
              <a:xfrm>
                <a:off x="1116000" y="1989000"/>
                <a:ext cx="198108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Text Box 6"/>
          <p:cNvSpPr/>
          <p:nvPr/>
        </p:nvSpPr>
        <p:spPr>
          <a:xfrm>
            <a:off x="2195640" y="2565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ы корне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403280" y="5950080"/>
            <a:ext cx="622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1187280" y="4005360"/>
                <a:ext cx="2592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sSub>
                          <m:e>
                            <m:r>
                              <m:t xml:space="preserve">,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;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3" name="Rectangle 9"/>
          <p:cNvSpPr/>
          <p:nvPr/>
        </p:nvSpPr>
        <p:spPr>
          <a:xfrm>
            <a:off x="4572000" y="1628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кор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4500720" y="21337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т кор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1743120" y="-842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2"/>
              <p:cNvSpPr txBox="1"/>
              <p:nvPr/>
            </p:nvSpPr>
            <p:spPr>
              <a:xfrm>
                <a:off x="1332000" y="1125360"/>
                <a:ext cx="151272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3"/>
              <p:cNvSpPr txBox="1"/>
              <p:nvPr/>
            </p:nvSpPr>
            <p:spPr>
              <a:xfrm>
                <a:off x="4211640" y="3860640"/>
                <a:ext cx="27367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Text Box 14"/>
          <p:cNvSpPr/>
          <p:nvPr/>
        </p:nvSpPr>
        <p:spPr>
          <a:xfrm flipV="1" rot="10731000">
            <a:off x="1523880" y="5409720"/>
            <a:ext cx="19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=2k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15"/>
              <p:cNvSpPr txBox="1"/>
              <p:nvPr/>
            </p:nvSpPr>
            <p:spPr>
              <a:xfrm>
                <a:off x="3720960" y="5229360"/>
                <a:ext cx="28544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Text Box 17"/>
          <p:cNvSpPr/>
          <p:nvPr/>
        </p:nvSpPr>
        <p:spPr>
          <a:xfrm>
            <a:off x="5487840" y="32274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19"/>
          <p:cNvSpPr/>
          <p:nvPr/>
        </p:nvSpPr>
        <p:spPr>
          <a:xfrm>
            <a:off x="3780000" y="4724280"/>
            <a:ext cx="863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0"/>
          <p:cNvSpPr/>
          <p:nvPr/>
        </p:nvSpPr>
        <p:spPr>
          <a:xfrm>
            <a:off x="971640" y="0"/>
            <a:ext cx="68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3. СПОСОБ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Решение квадратных уравнений по форму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1979640" y="3357720"/>
            <a:ext cx="1008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2"/>
          <p:cNvSpPr/>
          <p:nvPr/>
        </p:nvSpPr>
        <p:spPr>
          <a:xfrm>
            <a:off x="5508720" y="3284640"/>
            <a:ext cx="863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4. СПОСОБ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Решение уравнений с использованием теоремы Ви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известно, приведенное квадратное уравнение имеет 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x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= 0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корни удовлетворяют теореме Виета, которая пр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=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ет ви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324000" y="3068640"/>
            <a:ext cx="204480" cy="515880"/>
          </a:xfrm>
          <a:custGeom>
            <a:avLst/>
            <a:gdLst>
              <a:gd name="textAreaLeft" fmla="*/ 130680 w 204480"/>
              <a:gd name="textAreaRight" fmla="*/ 204840 w 204480"/>
              <a:gd name="textAreaTop" fmla="*/ 13320 h 515880"/>
              <a:gd name="textAreaBottom" fmla="*/ 502560 h 51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268360" y="3068640"/>
            <a:ext cx="64072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тсюда можно сделать следующие выво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 коэффициента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жно предсказать знаки корней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&gt;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то уравнение имеет два одинаковых по знаку корня и это зависти от второго коэффициент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 &lt;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оба корня отрицательн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 &lt;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оба корня  положительн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5. СПОСОБ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Решение уравнений способом «переброс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684360" y="141300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и этом способе коэффициен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умножается на свободный член, как бы «перебрасывается» к нему, поэтому его называю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способом «переброски»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 Этот способ применяют, когда можно легко найти корни уравнения, используя теорему Виета и, что самое важное, когда дискриминант есть точный квадра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3789000"/>
            <a:ext cx="713916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м уравнение 2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11х + 15 = 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еребросим» коэффициент 2 к свободному члену, в результате получим 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11у + 30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теореме Виета у = 5, у =6, то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5/2, х = 6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,5;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98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6. СПОСОБ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Свойства коэффициентов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вадратного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сть дано квадратное уравн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х</a:t>
            </a:r>
            <a:r>
              <a:rPr b="0" i="1" lang="ru-RU" sz="1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х + с = 0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а ≠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Если, а+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 + с = 0 , 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7"/>
              <p:cNvSpPr txBox="1"/>
              <p:nvPr/>
            </p:nvSpPr>
            <p:spPr>
              <a:xfrm>
                <a:off x="611280" y="364500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Text Box 4"/>
          <p:cNvSpPr/>
          <p:nvPr/>
        </p:nvSpPr>
        <p:spPr>
          <a:xfrm>
            <a:off x="4356000" y="170028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68360" y="4076640"/>
            <a:ext cx="29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 flipV="1" rot="10800000">
            <a:off x="395280" y="3141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ли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b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, т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9"/>
              <p:cNvSpPr txBox="1"/>
              <p:nvPr/>
            </p:nvSpPr>
            <p:spPr>
              <a:xfrm>
                <a:off x="611280" y="2565360"/>
                <a:ext cx="14065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9" name="Text Box 11"/>
          <p:cNvSpPr/>
          <p:nvPr/>
        </p:nvSpPr>
        <p:spPr>
          <a:xfrm>
            <a:off x="4572000" y="1773360"/>
            <a:ext cx="42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2"/>
              <p:cNvSpPr txBox="1"/>
              <p:nvPr/>
            </p:nvSpPr>
            <p:spPr>
              <a:xfrm>
                <a:off x="4356000" y="1623960"/>
                <a:ext cx="35956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7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8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3"/>
              <p:cNvSpPr txBox="1"/>
              <p:nvPr/>
            </p:nvSpPr>
            <p:spPr>
              <a:xfrm>
                <a:off x="4788000" y="2133720"/>
                <a:ext cx="151272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8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4"/>
              <p:cNvSpPr txBox="1"/>
              <p:nvPr/>
            </p:nvSpPr>
            <p:spPr>
              <a:xfrm>
                <a:off x="4459320" y="3573360"/>
                <a:ext cx="36036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8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6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5"/>
              <p:cNvSpPr txBox="1"/>
              <p:nvPr/>
            </p:nvSpPr>
            <p:spPr>
              <a:xfrm>
                <a:off x="4716360" y="4292640"/>
                <a:ext cx="17272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6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19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ipe dir="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9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98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98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98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98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98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7. СПОСОБ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Графическое решение квадратного уравн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5905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образуем уравн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х</a:t>
            </a:r>
            <a:r>
              <a:rPr b="1" i="1" lang="ru-RU" sz="16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px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1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= -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x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роим графики зависимости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у = х</a:t>
            </a:r>
            <a:r>
              <a:rPr b="1" lang="ru-RU" sz="16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у = -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x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афик первой зависимости - парабола, проходящ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рез начало координат. График втор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висимости - прямая (рис.1). Возможны следующ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уча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13" descr=""/>
          <p:cNvPicPr/>
          <p:nvPr/>
        </p:nvPicPr>
        <p:blipFill>
          <a:blip r:embed="rId1"/>
          <a:stretch/>
        </p:blipFill>
        <p:spPr>
          <a:xfrm>
            <a:off x="6300720" y="1484280"/>
            <a:ext cx="2592360" cy="23763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7"/>
          <p:cNvSpPr/>
          <p:nvPr/>
        </p:nvSpPr>
        <p:spPr>
          <a:xfrm>
            <a:off x="5292720" y="4005360"/>
            <a:ext cx="2592360" cy="16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ая и парабола могут пересекаться в двух точках, абсциссы точек пересечения являются корнями квадратн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468360" y="3789360"/>
            <a:ext cx="2160720" cy="19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бо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г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саться ( тольк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а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име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 реш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2771640" y="4076640"/>
            <a:ext cx="2374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ая 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бола 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ют общих точек, т.е. квадратное уравнение не имеет корн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98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98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98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98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98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8. СПОСОБ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Решение квадратных уравнений с помощью циркуля и линей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49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 + с 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построим точки (центр окружности)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0; 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роведем окружность с радиусо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абсциссы точек пересечения этой окружности с осью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вляются корнями исходного квадратного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возможны три случ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17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2381400" cy="24480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7"/>
          <p:cNvSpPr/>
          <p:nvPr/>
        </p:nvSpPr>
        <p:spPr>
          <a:xfrm>
            <a:off x="5364000" y="479736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4140360" y="4221000"/>
            <a:ext cx="338436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ужность касается оси Ох в точк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В(х1; 0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х1 - корень квадратного уравн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окружность не имеет общих точек с осью абсцисс (рис.6,в), в этом случае уравнение не имеет решени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324000" y="4724280"/>
            <a:ext cx="29527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ужность пересекает ось Ох в двух точка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(х1;0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х2; 0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х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х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корни квадратн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равнени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х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х + с = 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98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98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98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98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98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98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9. СПОСОБ: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Решение квадратных уравнений с помощью  ном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62643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аблица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XII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с.83 (см. Брадис В.М. Четырехзначные математические таблицы. - М., Просвещение, 1990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омограмма для решения уравнени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ru-RU" sz="1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pz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Эта номограмма позволяет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 решая квадратног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ения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 его коэффициентам определить корни уравне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риволинейная шкала номограммы построен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 формулам (рис.11)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ru-RU" sz="19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pz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 = 0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чем буква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значает метку любо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очки криволинейной шкал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Рисунок 27" descr=""/>
          <p:cNvPicPr/>
          <p:nvPr/>
        </p:nvPicPr>
        <p:blipFill>
          <a:blip r:embed="rId1"/>
          <a:stretch/>
        </p:blipFill>
        <p:spPr>
          <a:xfrm>
            <a:off x="6300720" y="1341360"/>
            <a:ext cx="2592360" cy="273528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10" descr=""/>
          <p:cNvPicPr/>
          <p:nvPr/>
        </p:nvPicPr>
        <p:blipFill>
          <a:blip r:embed="rId2"/>
          <a:stretch/>
        </p:blipFill>
        <p:spPr>
          <a:xfrm>
            <a:off x="6372360" y="4437000"/>
            <a:ext cx="2592360" cy="5367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1" descr=""/>
          <p:cNvPicPr/>
          <p:nvPr/>
        </p:nvPicPr>
        <p:blipFill>
          <a:blip r:embed="rId3"/>
          <a:stretch/>
        </p:blipFill>
        <p:spPr>
          <a:xfrm>
            <a:off x="6516720" y="5157720"/>
            <a:ext cx="2303280" cy="925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98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98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98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98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98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98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98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98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898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98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98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971640" y="260280"/>
            <a:ext cx="68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10. СПОСОБ:</a:t>
            </a: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еометрический способ решения квадратных  уравн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108000" y="1628640"/>
            <a:ext cx="46800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493560" indent="-49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древние греки решали уравнение у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6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16 = 0. Решени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о на рисунке, где у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6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у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6 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 = 16 + 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я у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6у + 9 и 16 + 9 геометрически представляют собой один и тот же квадрат, а исходное уравнение у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6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 + 9 – 9 = 0 – одно и то же уравнение. Откуда и получаем, что 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3 = + 5 и 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3 = – 5, или 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, у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–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2"/>
          <p:cNvSpPr/>
          <p:nvPr/>
        </p:nvSpPr>
        <p:spPr>
          <a:xfrm>
            <a:off x="5867280" y="2997360"/>
            <a:ext cx="1441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74"/>
          <p:cNvSpPr/>
          <p:nvPr/>
        </p:nvSpPr>
        <p:spPr>
          <a:xfrm>
            <a:off x="4859280" y="2852640"/>
            <a:ext cx="288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508720" y="1989000"/>
          <a:ext cx="2808360" cy="2232000"/>
        </p:xfrm>
        <a:graphic>
          <a:graphicData uri="http://schemas.openxmlformats.org/drawingml/2006/table">
            <a:tbl>
              <a:tblPr/>
              <a:tblGrid>
                <a:gridCol w="2131920"/>
                <a:gridCol w="676440"/>
              </a:tblGrid>
              <a:tr h="15004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52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6" name="Text Box 11"/>
          <p:cNvSpPr/>
          <p:nvPr/>
        </p:nvSpPr>
        <p:spPr>
          <a:xfrm>
            <a:off x="6041880" y="1644480"/>
            <a:ext cx="5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5197320" y="2262240"/>
            <a:ext cx="57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7667640" y="1628640"/>
            <a:ext cx="5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5148360" y="3716280"/>
            <a:ext cx="56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чему так важны квадратные уравн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ндамент алгебры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вадратные уравнения — это как кирпичики, из которых строится вся алгебра. Понимание принципов их решения открывает двери к освоению более сложных математических концеп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ый инструмен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ни применяются для решения широкого спектра математических задач, включая тригонометрические, показательные, логарифмические, иррациональные уравнения и неравен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язь с реальным миром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вадратные уравнения находят применение в физике (например, при описании движения тел под действием силы тяжести), инженерии (расчет конструкций, проектирование электронных схем), экономике (моделирование финансовых рынков) и других област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WordArt 5"/>
          <p:cNvSpPr txBox="1"/>
          <p:nvPr/>
        </p:nvSpPr>
        <p:spPr>
          <a:xfrm>
            <a:off x="3348000" y="260280"/>
            <a:ext cx="21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ы: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0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98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98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98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98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ополагающий вопрос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«Насколько разнообразны способы решения     квадратных уравнен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поте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едполагаю, что квадратные уравнения можно решить несколькими разными способ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зучение теоретических основ и применение на практике различных способов решения квадратных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1584360" cy="1327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я работа дает возможность по-другому посмотреть на те задачи, которые ставит перед нами матем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 приёмы  решения заслуживают внимания,      поскольку они не отражены в учебниках математики для средней общеобразовательной шко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ладение данными приёмами помогает мне экономить время и эффективно решать урав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ребность в быстром решении обусловлена тем, что квадратные уравнения являются базой для решения других урав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1403280" y="4653000"/>
            <a:ext cx="5945400" cy="12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6084720" y="4653000"/>
            <a:ext cx="1541520" cy="20098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98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898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898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98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дкович, А. Г. Алгебра.8 класс. Учебник для общеобразовательных учреждений/ А.Г. Мордкович.-М. : Мнемозина 2020.-260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дкович, А.Г. Алгебра.8 класс. Задачник для общеобразовательных учреждений/ А.Г. Мордкович.-М. : Мнемозина 2020.-270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ейзер, Г.И. История математики в школе/ Г.И. Глейзер.-М.: Просвещение, 1982- 340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ев, В.А. Математика. Справочные материалы/  В.А. Гусев, А.Г. Мордкович - М.: Просвещение, 1988, 372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 Виета– Режим доступа: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phizmat.org.ua/2009-10-27-13-31-30/817-stihi-o-fransua-viet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Теорема Виета(ресурсы удаленного доступа (Internet)). 10.12.20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ые уравнения– Режим доступа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revolution.allbest.ru/pedagogics/00249255_0.htm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сурсы удаленного доступа (Internet)). 10.01.201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468360" y="330120"/>
            <a:ext cx="82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дач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одобрать информацию по теме из письменных источников  и сети Интерн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интезировать информацию по пла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зучить различные способы решения квадратных  уравнений и апробировать материал на практи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6227640" y="2708280"/>
            <a:ext cx="2075040" cy="2735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684360" y="2852640"/>
            <a:ext cx="51116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лан работ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темы и цели проекта, формулирование темы исслед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источника  информ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способа сбора и анализа информ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способа представления результа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Аннотация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6186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  "Способы решения квадратных уравнений"    отражает результаты исследования, проведенного мной о том, какие существуют способы решения квадратных уравнений и что из этого можно взять полезного для себя и моих друз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а проекта связана с тем, чтобы, используя способы решения квадратных уравнений можно найти неизвестное об извест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школьном курсе математики изучаются формулы корней квадратных уравнений, с помощью которых можно решать любые квадратные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ако имеются и другие приёмы решения уравнений, которые позволяют очень быстро и рационально решать квадратные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е решать квадратные уравнения — это не просто прихоть школьной программы, а важный навык, который пригодится во многих сферах жизни. Это умение развивает логическое мышление, способность к абстрактному мышлению и поиску нестандартных ре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rcRect l="2726" t="2224" r="29289" b="12316"/>
          <a:stretch/>
        </p:blipFill>
        <p:spPr>
          <a:xfrm>
            <a:off x="6186600" y="274680"/>
            <a:ext cx="2663640" cy="251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76000" y="188640"/>
            <a:ext cx="5832360" cy="8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Из истории квадратных уравн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916360" y="4149720"/>
            <a:ext cx="603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ти все найденные до сих пор клинописные тексты приводят только задачи с решениями, изложенными в виде рецептов, без указаний относительно того, каким образом они были найде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324000" y="3933720"/>
            <a:ext cx="2376360" cy="1957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611280" y="1341360"/>
            <a:ext cx="6048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дратные уравнения умели решать около 2000 лет до н. э. вавилоняне. Применяя современную алгебраическую запись, можно сказать, что в их клинописных текстах встречаются, кроме неполных, и такие, например, полные квадратные уравнен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2"/>
          <a:stretch/>
        </p:blipFill>
        <p:spPr>
          <a:xfrm>
            <a:off x="4356000" y="2852640"/>
            <a:ext cx="4464000" cy="709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131640" y="404280"/>
            <a:ext cx="446436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йский ученый Брахмагупт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), изложил общее правило решения квадратных уравнений, приведенных к единой канонической фор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х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 = с,  а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уравнении  коэффициенты, кроме а, могут быть отрицательными. Правило Брахмагупта по существу совпадает с наш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321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ахмагуп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2162160" cy="2951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9"/>
          <p:cNvSpPr/>
          <p:nvPr/>
        </p:nvSpPr>
        <p:spPr>
          <a:xfrm>
            <a:off x="1908000" y="429264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1187280" y="364500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ы решения квадратных уравнений были впервые изложены в книге, написанной итальянским математиком Леонардо Фибоначч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)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2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 = с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ри всевозможных комбинациях знаков коэффициен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  было сформулировано в Европе лишь в 1544 г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5" descr="i (8)"/>
          <p:cNvPicPr/>
          <p:nvPr/>
        </p:nvPicPr>
        <p:blipFill>
          <a:blip r:embed="rId2"/>
          <a:srcRect l="10621" t="13000" r="9873" b="20351"/>
          <a:stretch/>
        </p:blipFill>
        <p:spPr>
          <a:xfrm>
            <a:off x="6516720" y="3213000"/>
            <a:ext cx="2160720" cy="2592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6084720" y="6021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еонардо Фибоначч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826920" y="40464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Лишь в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XVII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в. благодаря трудам Жирара, Декарта, Ньютона и других ученых способ решения квадратных уравнений принимает современный ви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7" descr="Жирар"/>
          <p:cNvPicPr/>
          <p:nvPr/>
        </p:nvPicPr>
        <p:blipFill>
          <a:blip r:embed="rId1"/>
          <a:srcRect l="0" t="0" r="9689" b="19347"/>
          <a:stretch/>
        </p:blipFill>
        <p:spPr>
          <a:xfrm>
            <a:off x="4643280" y="1557360"/>
            <a:ext cx="1855800" cy="2016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9"/>
          <p:cNvSpPr/>
          <p:nvPr/>
        </p:nvSpPr>
        <p:spPr>
          <a:xfrm>
            <a:off x="4140360" y="551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ра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124000" y="5157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ьют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-181080" y="4797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ка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1" descr=""/>
          <p:cNvPicPr/>
          <p:nvPr/>
        </p:nvPicPr>
        <p:blipFill>
          <a:blip r:embed="rId2"/>
          <a:srcRect l="4875" t="4634" r="7055" b="25380"/>
          <a:stretch/>
        </p:blipFill>
        <p:spPr>
          <a:xfrm>
            <a:off x="6732720" y="1557360"/>
            <a:ext cx="1912680" cy="2158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"/>
          <p:cNvPicPr/>
          <p:nvPr/>
        </p:nvPicPr>
        <p:blipFill>
          <a:blip r:embed="rId3"/>
          <a:srcRect l="10767" t="13179" r="14584" b="18450"/>
          <a:stretch/>
        </p:blipFill>
        <p:spPr>
          <a:xfrm>
            <a:off x="468360" y="1557360"/>
            <a:ext cx="1801800" cy="2232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4"/>
          <p:cNvSpPr/>
          <p:nvPr/>
        </p:nvSpPr>
        <p:spPr>
          <a:xfrm>
            <a:off x="4643280" y="3645000"/>
            <a:ext cx="1729080" cy="186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уравнения алгебры имеют столько решений, сколько их показывает наименование наивысшей величин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468360" y="4005360"/>
            <a:ext cx="1511280" cy="7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мыслю, следовательно, существу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6" descr=""/>
          <p:cNvPicPr/>
          <p:nvPr/>
        </p:nvPicPr>
        <p:blipFill>
          <a:blip r:embed="rId4"/>
          <a:stretch/>
        </p:blipFill>
        <p:spPr>
          <a:xfrm>
            <a:off x="2627280" y="1557360"/>
            <a:ext cx="1866960" cy="21607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7"/>
          <p:cNvSpPr/>
          <p:nvPr/>
        </p:nvSpPr>
        <p:spPr>
          <a:xfrm>
            <a:off x="2771640" y="3933720"/>
            <a:ext cx="1657440" cy="12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ий есть терпение мысли, сосредоточенной в известном направлен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6659640" y="3860640"/>
            <a:ext cx="2087640" cy="137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математики знали, что под алгеброй были скрыты несравненные сокровища, но не умели их най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7020000" y="54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Diagram 5"/>
          <p:cNvGrpSpPr/>
          <p:nvPr/>
        </p:nvGrpSpPr>
        <p:grpSpPr>
          <a:xfrm>
            <a:off x="402480" y="167760"/>
            <a:ext cx="8344800" cy="6512400"/>
            <a:chOff x="402480" y="167760"/>
            <a:chExt cx="8344800" cy="6512400"/>
          </a:xfrm>
        </p:grpSpPr>
        <p:sp>
          <p:nvSpPr>
            <p:cNvPr id="169" name="_s1028"/>
            <p:cNvSpPr/>
            <p:nvPr/>
          </p:nvSpPr>
          <p:spPr>
            <a:xfrm flipH="1" flipV="1">
              <a:off x="3038760" y="1845000"/>
              <a:ext cx="1019880" cy="105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_s1029"/>
            <p:cNvSpPr/>
            <p:nvPr/>
          </p:nvSpPr>
          <p:spPr>
            <a:xfrm>
              <a:off x="1659960" y="668880"/>
              <a:ext cx="1743480" cy="1307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Геометрическ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пособ решен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квадратн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равнений</a:t>
              </a:r>
              <a:r>
                <a:rPr b="0" lang="en-US" sz="3600" spc="-1" strike="noStrike">
                  <a:solidFill>
                    <a:srgbClr val="6600cc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_s1030"/>
            <p:cNvSpPr/>
            <p:nvPr/>
          </p:nvSpPr>
          <p:spPr>
            <a:xfrm flipH="1" flipV="1">
              <a:off x="2094840" y="2821680"/>
              <a:ext cx="1650600" cy="403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_s1031"/>
            <p:cNvSpPr/>
            <p:nvPr/>
          </p:nvSpPr>
          <p:spPr>
            <a:xfrm>
              <a:off x="402480" y="1972440"/>
              <a:ext cx="1743480" cy="1307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еш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квадратн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равне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 помощью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номограммы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_s1032"/>
            <p:cNvSpPr/>
            <p:nvPr/>
          </p:nvSpPr>
          <p:spPr>
            <a:xfrm flipH="1">
              <a:off x="2094840" y="3628440"/>
              <a:ext cx="1654200" cy="400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_s1033"/>
            <p:cNvSpPr/>
            <p:nvPr/>
          </p:nvSpPr>
          <p:spPr>
            <a:xfrm>
              <a:off x="406080" y="3579840"/>
              <a:ext cx="1743480" cy="1307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еш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квадратн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равне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 помощью циркул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и линейки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_s1034"/>
            <p:cNvSpPr/>
            <p:nvPr/>
          </p:nvSpPr>
          <p:spPr>
            <a:xfrm flipH="1">
              <a:off x="3041640" y="3952080"/>
              <a:ext cx="1023480" cy="105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_s1035"/>
            <p:cNvSpPr/>
            <p:nvPr/>
          </p:nvSpPr>
          <p:spPr>
            <a:xfrm>
              <a:off x="1669320" y="4878360"/>
              <a:ext cx="1744200" cy="13075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ешен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квадратн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равне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пособо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«переброски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_s1036"/>
            <p:cNvSpPr/>
            <p:nvPr/>
          </p:nvSpPr>
          <p:spPr>
            <a:xfrm>
              <a:off x="4574520" y="4074480"/>
              <a:ext cx="3600" cy="1302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_s1037"/>
            <p:cNvSpPr/>
            <p:nvPr/>
          </p:nvSpPr>
          <p:spPr>
            <a:xfrm>
              <a:off x="3707640" y="5372280"/>
              <a:ext cx="1744200" cy="1307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Графическо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еш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квадратног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равнения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_s1038"/>
            <p:cNvSpPr/>
            <p:nvPr/>
          </p:nvSpPr>
          <p:spPr>
            <a:xfrm>
              <a:off x="5086800" y="3949200"/>
              <a:ext cx="1017000" cy="105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_s1039"/>
            <p:cNvSpPr/>
            <p:nvPr/>
          </p:nvSpPr>
          <p:spPr>
            <a:xfrm>
              <a:off x="5745600" y="4873320"/>
              <a:ext cx="1744200" cy="13075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ешение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равне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 использование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теоремы Виета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_s1040"/>
            <p:cNvSpPr/>
            <p:nvPr/>
          </p:nvSpPr>
          <p:spPr>
            <a:xfrm>
              <a:off x="5400360" y="3623400"/>
              <a:ext cx="1647720" cy="403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_s1041"/>
            <p:cNvSpPr/>
            <p:nvPr/>
          </p:nvSpPr>
          <p:spPr>
            <a:xfrm>
              <a:off x="7003080" y="3572640"/>
              <a:ext cx="1744200" cy="13075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еш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квадратн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равне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о формуле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_s1042"/>
            <p:cNvSpPr/>
            <p:nvPr/>
          </p:nvSpPr>
          <p:spPr>
            <a:xfrm flipV="1">
              <a:off x="5397480" y="2819160"/>
              <a:ext cx="1650600" cy="401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_s1043"/>
            <p:cNvSpPr/>
            <p:nvPr/>
          </p:nvSpPr>
          <p:spPr>
            <a:xfrm>
              <a:off x="7003080" y="1965240"/>
              <a:ext cx="1744200" cy="13075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Метод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коэффициентов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_s1044"/>
            <p:cNvSpPr/>
            <p:nvPr/>
          </p:nvSpPr>
          <p:spPr>
            <a:xfrm flipV="1">
              <a:off x="5080320" y="1845000"/>
              <a:ext cx="1020600" cy="1051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_s1045"/>
            <p:cNvSpPr/>
            <p:nvPr/>
          </p:nvSpPr>
          <p:spPr>
            <a:xfrm>
              <a:off x="5742720" y="664560"/>
              <a:ext cx="1743480" cy="13075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Метод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выделен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олного квадрата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_s1046"/>
            <p:cNvSpPr/>
            <p:nvPr/>
          </p:nvSpPr>
          <p:spPr>
            <a:xfrm flipV="1">
              <a:off x="4571640" y="1473120"/>
              <a:ext cx="0" cy="1300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_s1047"/>
            <p:cNvSpPr/>
            <p:nvPr/>
          </p:nvSpPr>
          <p:spPr>
            <a:xfrm>
              <a:off x="3701520" y="167760"/>
              <a:ext cx="1743480" cy="13075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азложение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лево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части уравнен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на множители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_s1048"/>
            <p:cNvSpPr/>
            <p:nvPr/>
          </p:nvSpPr>
          <p:spPr>
            <a:xfrm>
              <a:off x="3701520" y="2773800"/>
              <a:ext cx="1743480" cy="130752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азлич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пособ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ешен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квадратн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равнений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1. СПОСО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зложение левой части уравнения на множител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7416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м урав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+ 10х - 24 =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ожим левую часть на множи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+ 10х - 24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=(х + 12)(х -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х + 12)(х - 2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произведение равно нулю, т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 из его множителей равен нулю. Поэтому лев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я обращается нуль пр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 =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также пр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 = - 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означает, что число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- 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вляются кор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+ 10х - 24 =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4932360" y="1268280"/>
            <a:ext cx="40305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Цель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ивести квадратное уравнение общего вида к вид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А(х)·В(х)=0,       где А(х) и В(х) – многочлены относительно 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Способ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ынесение общего множителя за скобк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спользование формул сокращенного умножени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пособ группиров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98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98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98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8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3:33:45Z</dcterms:created>
  <dc:creator>User01</dc:creator>
  <dc:description/>
  <dc:language>en-US</dc:language>
  <cp:lastModifiedBy>admin</cp:lastModifiedBy>
  <dcterms:modified xsi:type="dcterms:W3CDTF">2025-02-05T01:05:05Z</dcterms:modified>
  <cp:revision>123</cp:revision>
  <dc:subject/>
  <dc:title>Слайд 2</dc:title>
</cp:coreProperties>
</file>