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5AB-9E92-47F7-AAB9-D596E242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7F9-BA57-48A7-82B8-66DE8DFC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83A5E-4BB3-4923-A6C5-0C9959D5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E6795-F61E-424F-BE82-BD45A2C4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C52F4-04BE-4E45-8A60-387716C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FBBB2-69F8-4E89-A59D-C1621B5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41462-3ACF-4BF1-BAAD-4AEEC5F9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2E3BA-40BE-404B-901C-6E29A6F7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13F26-2199-43B6-96D6-43D54AE8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57F34-5CFE-4F1E-BDD9-793397DB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54B57-E0B5-4BB8-AC38-BE70AC1C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E7C-655F-4CF5-AB90-446E8047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BB3-45EC-4893-94DB-2D5011D0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F028-1F0A-43FD-933B-2384B3AD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58D6-F0F0-4246-B6CE-8CF879E5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7D46-61AC-435F-B75E-30F0EAFA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E15-6F08-44F5-A1F6-769BCB42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0C95-22E9-4B1E-A638-592F0C3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D899-4EB1-4F6F-9910-D2EAB664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8BF3-01CE-49B8-A4D9-4DF5C637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595-C046-437C-B2E5-3FC0AFE3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4D5A-D24F-4B89-BA9C-90DB8983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AD7A-8F8E-4274-82BA-232157DF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76D2-F2BC-46EB-AF25-0D4609A7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E481-72B7-4F23-908F-71D47745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862F-CCDD-43DB-895F-98731541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E7A9-1FD6-45F0-BD32-E476CA26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2751-0607-40A0-A6EA-DBAE63EE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6F2F-D7BC-4C09-80B7-0DB66119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1676-8344-48AE-8F97-FE0FB27F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D95F-66A9-4AD3-9816-AED4A49E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C48-479B-4A77-80BE-264FD57B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855F-EAD0-497D-9057-285B1956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C37A-986E-4251-BF1E-1BF0334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B2BC-3459-4799-B1EC-0EF82D9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1A27-5E0B-4B5D-9749-73CC570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F5D4-AF8F-4210-842C-F4DC2F6B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CC26-6E29-483E-90F3-1C41FB71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EEA1-BABF-47D3-94AD-23E74310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4B2C-B042-4EDF-B177-FACEA8D8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7D93-AE96-4320-858B-03275A7F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90E7-2E0E-45B4-BC74-51189A96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46A-9AEC-4238-BFB0-CFFABB2B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BB80-A75A-459F-A8E1-9DBA0E0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AEE1-8E0B-42CD-B60B-035A00DB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023A-745E-45A0-8812-23DEE42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82CF2-4500-481C-8317-7BFE351F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80DF-82B4-4823-914C-7104BDA1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4BC6-033A-40C0-A9AE-AB59F894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330D-9A29-49BE-BD86-83E82267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E2BC0-8DDE-483B-B7A4-ABE14280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FC06-167E-4603-8D56-89B33560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C18D-72AB-42F0-8A24-353FD104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B55-0EED-4210-8D27-6B002BDE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0957-0141-42B9-81E6-4A42C2DC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84B9A-5578-448D-ADBD-1A9AA74D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02E0C-5999-4B0A-B84D-E23CE045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9F7D5-647F-400A-86DA-54C7790B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04BD3-07EA-4C5D-B444-7DE25B7D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A2FAF-EAFD-4A5D-88DF-30944EAC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2828-4F6F-47D1-9B8C-3A25F0B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8BDC6-192D-4A25-9BC3-C08C350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8B2E4-848E-4D2D-991F-905B67F3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26CD0-C367-4A23-92ED-6BDF8858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AF9-1C69-41E7-A992-E23DBDBA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24C01-A463-4D41-AF6B-6FCC5DB1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B7E91-7612-4485-A176-847B8FBC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A40CC-59C7-4908-8482-D532C221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1CD1-800A-4D0E-AEE1-7AA6776D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F7F3-DD52-4765-9156-EAACBFA5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98F46-8DC5-4CB4-9BFA-812B8B45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86A6B-C543-4EF3-8090-E3351F65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3CF45-5C32-4C81-9784-613543C5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F6777-9878-45B7-A4CF-D0B6792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0F19A-AE14-4360-95BF-8A5FA15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928-0B5D-4A68-A862-3BEB69C9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4A342-FEA1-490C-B4FE-1D2B5AB5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178A-CF39-4358-BF2C-182CE342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23444-0347-48D7-9BE2-FBDA8F79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4DCFF-BD2C-43CF-ACDD-29F82961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E95E4-D1EC-4430-A5AD-DEA4E122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29C7E-A990-442C-8055-0E86C3F0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B89BE-746A-478C-9A00-10BB88E2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309BA-A5F2-4C0F-9829-5FBFF1CA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BBB34-849C-410A-B555-DAF29E9F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303FF-2BA4-4E8F-8CE9-211B33A2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217-A443-4E35-8B38-EA572EA7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8FEC3-4999-41CB-9911-C2FD18A0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395CE-B9B2-4114-AD4C-CE4B70ED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83B6B-1503-4EF8-B0B3-E5620B0C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17214-4F55-4FE4-BDE1-0F67B993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21767-9ACF-4EDF-9D1D-F8476B6A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CB70D-E1C0-45BF-B2EB-6399FD06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C79B8-98B0-4D9C-8F52-AF1F9410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5C8DB-002C-412B-BEC1-1A70D313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1D63F-A695-4039-825D-0FA85F9E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29EFD-B1AF-46AB-A027-D014F7BD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2DD-B962-43C7-A60F-9874B4B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8E960-8B9D-4FD9-B378-6F6CDF42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C95ED-CD51-4C11-8E3C-ED36CBDC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B2617-315C-4C1F-AA18-47C07B71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3B3D8-43FA-4CFC-B0B4-53967A8D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0E5FB-7B89-4A3C-829C-B672D33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1492D-0C14-4942-836F-57B618FC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31C02-AFCF-4A9D-B82B-DDE4C3E3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BA9E7-2FE8-4961-AFBD-638B2EFC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686FB-9234-4FBF-A109-C3605B1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D03CF-4278-412F-87B5-9CD5527D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9BF2-12B6-4FD5-8788-32C6551AF8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05CB-6EC1-4093-8B6E-9F120596A01C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8D41-E6DA-48F0-A289-6974A64C8E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04D6-37CC-42C9-B1EC-69FD5E269C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B24E-70F4-4536-A322-BA62F7F988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CA3-C518-497E-BC8C-90123EBAD88F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086E-76AA-4F6C-83B5-0E891080C205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D3AE-0E16-4619-A219-8EE226806D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286B-6C8C-4571-90AF-8744D7BD8C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9.xml"/><Relationship Id="rId3" Type="http://schemas.openxmlformats.org/officeDocument/2006/relationships/slide" Target="slide51.xml"/><Relationship Id="rId4" Type="http://schemas.openxmlformats.org/officeDocument/2006/relationships/slide" Target="slide53.xml"/><Relationship Id="rId5" Type="http://schemas.openxmlformats.org/officeDocument/2006/relationships/slide" Target="slide55.xml"/><Relationship Id="rId6" Type="http://schemas.openxmlformats.org/officeDocument/2006/relationships/slide" Target="slide57.xml"/><Relationship Id="rId7" Type="http://schemas.openxmlformats.org/officeDocument/2006/relationships/slide" Target="slide59.xml"/><Relationship Id="rId8" Type="http://schemas.openxmlformats.org/officeDocument/2006/relationships/slide" Target="slide61.xml"/><Relationship Id="rId9" Type="http://schemas.openxmlformats.org/officeDocument/2006/relationships/slide" Target="slide63.xml"/><Relationship Id="rId10" Type="http://schemas.openxmlformats.org/officeDocument/2006/relationships/slide" Target="slide65.xml"/><Relationship Id="rId11" Type="http://schemas.openxmlformats.org/officeDocument/2006/relationships/slide" Target="slide67.xml"/><Relationship Id="rId12" Type="http://schemas.openxmlformats.org/officeDocument/2006/relationships/slide" Target="slide69.xml"/><Relationship Id="rId13" Type="http://schemas.openxmlformats.org/officeDocument/2006/relationships/slide" Target="slide71.xml"/><Relationship Id="rId14" Type="http://schemas.openxmlformats.org/officeDocument/2006/relationships/slide" Target="slide73.xml"/><Relationship Id="rId15" Type="http://schemas.openxmlformats.org/officeDocument/2006/relationships/slide" Target="slide75.xml"/><Relationship Id="rId16" Type="http://schemas.openxmlformats.org/officeDocument/2006/relationships/slide" Target="slide77.xml"/><Relationship Id="rId17" Type="http://schemas.openxmlformats.org/officeDocument/2006/relationships/slide" Target="slide79.xml"/><Relationship Id="rId18" Type="http://schemas.openxmlformats.org/officeDocument/2006/relationships/slide" Target="slide81.xml"/><Relationship Id="rId19" Type="http://schemas.openxmlformats.org/officeDocument/2006/relationships/slide" Target="slide83.xml"/><Relationship Id="rId20" Type="http://schemas.openxmlformats.org/officeDocument/2006/relationships/slide" Target="slide85.xml"/><Relationship Id="rId2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6.xml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9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01680" y="6021360"/>
            <a:ext cx="85406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WordArt 9"/>
          <p:cNvSpPr txBox="1"/>
          <p:nvPr/>
        </p:nvSpPr>
        <p:spPr>
          <a:xfrm rot="10800000">
            <a:off x="8891640" y="4364640"/>
            <a:ext cx="914400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3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1" name="Прямоугольник 4" descr=""/>
          <p:cNvPicPr/>
          <p:nvPr/>
        </p:nvPicPr>
        <p:blipFill>
          <a:blip r:embed="rId1"/>
          <a:stretch/>
        </p:blipFill>
        <p:spPr>
          <a:xfrm>
            <a:off x="2193840" y="884160"/>
            <a:ext cx="6877080" cy="366408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5" descr=""/>
          <p:cNvPicPr/>
          <p:nvPr/>
        </p:nvPicPr>
        <p:blipFill>
          <a:blip r:embed="rId2"/>
          <a:stretch/>
        </p:blipFill>
        <p:spPr>
          <a:xfrm>
            <a:off x="536400" y="152280"/>
            <a:ext cx="8143920" cy="68904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9" descr=""/>
          <p:cNvPicPr/>
          <p:nvPr/>
        </p:nvPicPr>
        <p:blipFill>
          <a:blip r:embed="rId3"/>
          <a:stretch/>
        </p:blipFill>
        <p:spPr>
          <a:xfrm>
            <a:off x="4657680" y="5400720"/>
            <a:ext cx="4241880" cy="976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s46.radikal.ru/i113/0901/a3/8d65a08c1723.jpg"/>
          <p:cNvPicPr/>
          <p:nvPr/>
        </p:nvPicPr>
        <p:blipFill>
          <a:blip r:embed="rId4"/>
          <a:stretch/>
        </p:blipFill>
        <p:spPr>
          <a:xfrm>
            <a:off x="12600" y="2109960"/>
            <a:ext cx="285912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Если в 12 часов ночи идет дождь, то можно ли через 72 часа ожидать солнечную погоду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AutoShape 6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Нет, через 72 часа будет 12 часов ночи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На озере росли лилии. Каждый день их число удваивалось, и на 20 день заросло все озеро. На какой день заросло половина озера?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AutoShape 7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На 19 день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В квартире есть настенные часы с боем. Они отбивают полные часы и одним ударом каждые полчаса. Сколько ударов отобьют часы за сутки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AutoShape 6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180 ударов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entury Gothic"/>
              </a:rPr>
              <a:t>Когда был осуществлен первый космический полет с человеком на борту?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Century Gothic"/>
              </a:rPr>
              <a:t>Кто был первым космонавтом?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AutoShape 6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Ю.А.Гагарин,12 апреля 1961года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entury Gothic"/>
              </a:rPr>
              <a:t>Назовите  первую в мире женщину-космонавта. 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AutoShape 6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Валентина Терешкова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игре участвуют две команды, каждая из которых представляет правление банка. Игроки каждой команды выбирают себе президента банк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езидент имеет право принимать окончательное решение по данному заданию игр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манде предлагается по очереди выбирать себе задание различной стоимости в зависимости от сложн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Century Gothic"/>
              </a:rPr>
              <a:t>Назовите русского ученого, основоположника космонавтики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68360" y="2060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К.Э.Циолковский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Century Gothic"/>
              </a:rPr>
              <a:t>Когда  был запущен первый искусственный спутник Земли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4 октября 1957года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entury Gothic"/>
              </a:rPr>
              <a:t>Кто стал первым человеком, ступившим на поверхность Луны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Нэйл Армстронг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В старину на Руси использовалась монета, которую называли полтинник. Чему равен полтинник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50 копеек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Как в старину называли расстояние от кончиков пальцев до локтя согнутой руки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Локоть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тартовый капитал каждой команды –  500 рублей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сли команда дает правильный ответ, то ее капитал увеличивается на стоимость задания. Если ответ неправильный, то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а) капитал уменьшается на 100% стоимости задания, если другая команда дает правильный ответ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б) капитал уменьшается на 50% стоимости задания, если другая команда не сможет ответить правильн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Какую величину измеряли пудами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Массу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Существует пословица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«Мал  золотник, да дорог». Чему равна эта величина массы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4,3 грамма.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Назовите рост Дюймовочки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2,5 сантиметра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В семье у каждого из 6 братьев есть по сестре. Сколько детей в семье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Сколько горошин может войти в пустой стакан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4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Нисколько, горошины не ходят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 обдумывание задания дается от 1 до 3 минут в зависимости от сложност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гра считается оконченной, если одна из команд обанкротилась или закончились все задани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бедителем объявляется тот, в чьем банке будет больше «денег» по окончанию игр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Из Москвы в Петербург  вышел поезд со скоростью 60 км/ч, а из Петербурга в Москву вышел второй поезд со скоростью 70 км/ч. Какой из поездов будет дальше от Москвы в момент встречи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0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Они находятся на одинаковом расстоянии от Москв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Сколько месяцев в году имеют 30 дней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82240" cy="14079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60 листов книги имеют толщину 1см. Какова толщина всех листов книги, если в ней 240 страниц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AutoShape 5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2 см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5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301680" y="1676520"/>
          <a:ext cx="8540640" cy="4422600"/>
        </p:xfrm>
        <a:graphic>
          <a:graphicData uri="http://schemas.openxmlformats.org/drawingml/2006/table">
            <a:tbl>
              <a:tblPr/>
              <a:tblGrid>
                <a:gridCol w="2685960"/>
                <a:gridCol w="1224000"/>
                <a:gridCol w="1224000"/>
                <a:gridCol w="1224000"/>
                <a:gridCol w="1081080"/>
                <a:gridCol w="110160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граф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2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г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AutoShape 40">
            <a:hlinkClick r:id="" action="ppaction://hlinkshowjump?jump=firstslide"/>
          </p:cNvPr>
          <p:cNvSpPr/>
          <p:nvPr/>
        </p:nvSpPr>
        <p:spPr>
          <a:xfrm>
            <a:off x="8532720" y="6308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В какой стране были изобретены бумаг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и компас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1" name="AutoShape 6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entury Gothic"/>
              </a:rPr>
              <a:t>Китай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4" name="AutoShape 4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Какое почетное прозвище получил Московский князь Дмитрий Иванович после победы на Куликовом поле в 1380 году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AutoShape 5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01680" y="1676520"/>
          <a:ext cx="8540640" cy="4653000"/>
        </p:xfrm>
        <a:graphic>
          <a:graphicData uri="http://schemas.openxmlformats.org/drawingml/2006/table">
            <a:tbl>
              <a:tblPr/>
              <a:tblGrid>
                <a:gridCol w="2685960"/>
                <a:gridCol w="1224000"/>
                <a:gridCol w="1224000"/>
                <a:gridCol w="1224000"/>
                <a:gridCol w="1081080"/>
                <a:gridCol w="110160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мо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рые русские ме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имательные зад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168bba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AutoShape 73">
            <a:hlinkClick r:id="rId21" action="ppaction://hlinksldjump"/>
          </p:cNvPr>
          <p:cNvSpPr/>
          <p:nvPr/>
        </p:nvSpPr>
        <p:spPr>
          <a:xfrm>
            <a:off x="853272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Донской.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7200" y="15573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Как называется Греческий поселок, расстояние от которого до Афин составляет 42 км 195м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AutoShape 5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Марафон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AutoShape 4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457200" y="148392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В старину на Руси это считалось символом мудрости. «Русская правда» за порчу этого сурово осуждала, а Петр 1 самолично лишал бояр этого. Что это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AutoShape 5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entury Gothic"/>
              </a:rPr>
              <a:t>Бород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2" name="AutoShape 4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Имя русского иконописца, чья икона «Троица» до сих пор производит огромное впечатление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AutoShape 5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Андрей Рублев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AutoShape 4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Как называется река в Африке к которой стремился доктор Айболит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AutoShape 8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Лимпопо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AutoShape 4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Назовите место, где, куда бы ни повернись, будет юг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5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Спутник земли делает один оборот за 1час 40 минут, а второй оборот за 100 минут. Как это получается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8388360" y="616572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10800" y="3891"/>
                </a:moveTo>
                <a:lnTo>
                  <a:pt x="13376" y="6502"/>
                </a:lnTo>
                <a:lnTo>
                  <a:pt x="13376" y="4762"/>
                </a:lnTo>
                <a:lnTo>
                  <a:pt x="15152" y="4762"/>
                </a:lnTo>
                <a:lnTo>
                  <a:pt x="15152" y="8278"/>
                </a:lnTo>
                <a:lnTo>
                  <a:pt x="17763" y="10854"/>
                </a:lnTo>
                <a:lnTo>
                  <a:pt x="16109" y="10854"/>
                </a:lnTo>
                <a:lnTo>
                  <a:pt x="16109" y="18044"/>
                </a:lnTo>
                <a:lnTo>
                  <a:pt x="5491" y="18044"/>
                </a:lnTo>
                <a:lnTo>
                  <a:pt x="5491" y="10854"/>
                </a:lnTo>
                <a:lnTo>
                  <a:pt x="3837" y="10854"/>
                </a:lnTo>
                <a:close/>
              </a:path>
              <a:path fill="darkenLess" w="21600" h="21709">
                <a:moveTo>
                  <a:pt x="13376" y="6502"/>
                </a:moveTo>
                <a:lnTo>
                  <a:pt x="13376" y="4762"/>
                </a:lnTo>
                <a:lnTo>
                  <a:pt x="15152" y="4762"/>
                </a:lnTo>
                <a:lnTo>
                  <a:pt x="15152" y="8278"/>
                </a:lnTo>
                <a:close/>
              </a:path>
              <a:path fill="darkenLess" w="21600" h="21709">
                <a:moveTo>
                  <a:pt x="9877" y="14353"/>
                </a:moveTo>
                <a:lnTo>
                  <a:pt x="11723" y="14353"/>
                </a:lnTo>
                <a:lnTo>
                  <a:pt x="11723" y="18044"/>
                </a:lnTo>
                <a:lnTo>
                  <a:pt x="16109" y="18044"/>
                </a:lnTo>
                <a:lnTo>
                  <a:pt x="16109" y="10854"/>
                </a:lnTo>
                <a:lnTo>
                  <a:pt x="5491" y="10854"/>
                </a:lnTo>
                <a:lnTo>
                  <a:pt x="5491" y="18044"/>
                </a:lnTo>
                <a:lnTo>
                  <a:pt x="9877" y="1804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8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9">
            <a:hlinkClick r:id="rId3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Северный полюс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AutoShape 4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Самый крупный остров в Индийском океане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3" name="AutoShape 5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entury Gothic"/>
              </a:rPr>
              <a:t>Мадагаскар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AutoShape 4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Какое море в древности за обилие янтаря так и называли – Янтарным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AutoShape 5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entury Gothic"/>
              </a:rPr>
              <a:t>Балтийское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2" name="AutoShape 4">
            <a:hlinkClick r:id="rId2" action="ppaction://hlinksldjump"/>
          </p:cNvPr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Минерал без которого невозможна жизнь на Земле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Вода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Песок с которым пьют чай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Сахар.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Какая кислота находится в желудке человека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1 час мин 40 = 100 мин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Соляная.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0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Какой металл использовали служители церкви для получения святой воды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Серебро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При Петре </a:t>
            </a:r>
            <a:r>
              <a:rPr b="1" lang="en-US" sz="4400" spc="-1" strike="noStrike">
                <a:solidFill>
                  <a:srgbClr val="ffc000"/>
                </a:solidFill>
                <a:latin typeface="Century Gothic"/>
              </a:rPr>
              <a:t>I </a:t>
            </a: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вручалась медаль за  пьянство. Из чего она была сделана и где крепилась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9" name="AutoShape 5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Из чугуна, на шее.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Этот элемент иногда называют «Король живой природы».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Углерод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Животное – символ Австралии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Кенгуру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Драгоценный металл, с которым сравнивают пшеницу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AutoShape 5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Двое играли в шахматы 2 часа. Сколько времени играл каждый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AutoShape 6">
            <a:hlinkClick r:id="rId2" action="ppaction://hlinksldjump"/>
          </p:cNvPr>
          <p:cNvSpPr/>
          <p:nvPr/>
        </p:nvSpPr>
        <p:spPr>
          <a:xfrm>
            <a:off x="835200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Золото.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Стебель бамбука вырастает за 100 суток высотой до 40 метров. На какую высоту в среднем стебель вырастает за сутки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40 см.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6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Rectangle 2" descr=""/>
          <p:cNvPicPr/>
          <p:nvPr/>
        </p:nvPicPr>
        <p:blipFill>
          <a:blip r:embed="rId1"/>
          <a:stretch/>
        </p:blipFill>
        <p:spPr>
          <a:xfrm>
            <a:off x="291960" y="225360"/>
            <a:ext cx="8528040" cy="13352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83026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Как в греческой мифологии называют Богиню весны и цветов, а теперь – растительный мир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AutoShape 28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8841960" y="1676160"/>
            <a:ext cx="507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Флора.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Среди множества видов лишайников наиболее известен ягель. Почему? Как его еще называют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Ягель, или «олений мох», основной корм для северных оленей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8496360" y="602136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  <a:path fill="darken" w="21600" h="23209">
                <a:moveTo>
                  <a:pt x="10800" y="4642"/>
                </a:moveTo>
                <a:lnTo>
                  <a:pt x="13376" y="7253"/>
                </a:ln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lnTo>
                  <a:pt x="17763" y="11605"/>
                </a:lnTo>
                <a:lnTo>
                  <a:pt x="16109" y="11605"/>
                </a:lnTo>
                <a:lnTo>
                  <a:pt x="16109" y="18794"/>
                </a:lnTo>
                <a:lnTo>
                  <a:pt x="5491" y="18794"/>
                </a:lnTo>
                <a:lnTo>
                  <a:pt x="5491" y="11605"/>
                </a:lnTo>
                <a:lnTo>
                  <a:pt x="3837" y="11605"/>
                </a:lnTo>
                <a:close/>
              </a:path>
              <a:path fill="darkenLess" w="21600" h="23209">
                <a:moveTo>
                  <a:pt x="13376" y="7253"/>
                </a:moveTo>
                <a:lnTo>
                  <a:pt x="13376" y="5512"/>
                </a:lnTo>
                <a:lnTo>
                  <a:pt x="15152" y="5512"/>
                </a:lnTo>
                <a:lnTo>
                  <a:pt x="15152" y="9028"/>
                </a:lnTo>
                <a:close/>
              </a:path>
              <a:path fill="darkenLess" w="21600" h="23209">
                <a:moveTo>
                  <a:pt x="9877" y="15103"/>
                </a:moveTo>
                <a:lnTo>
                  <a:pt x="11723" y="15103"/>
                </a:lnTo>
                <a:lnTo>
                  <a:pt x="11723" y="18794"/>
                </a:lnTo>
                <a:lnTo>
                  <a:pt x="16109" y="18794"/>
                </a:lnTo>
                <a:lnTo>
                  <a:pt x="16109" y="11605"/>
                </a:lnTo>
                <a:lnTo>
                  <a:pt x="5491" y="11605"/>
                </a:lnTo>
                <a:lnTo>
                  <a:pt x="5491" y="18794"/>
                </a:lnTo>
                <a:lnTo>
                  <a:pt x="9877" y="18794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entury Gothic"/>
              </a:rPr>
              <a:t>2 часа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541080" cy="522360"/>
          </a:xfrm>
          <a:custGeom>
            <a:avLst/>
            <a:gdLst>
              <a:gd name="textAreaLeft" fmla="*/ 33840 w 541080"/>
              <a:gd name="textAreaRight" fmla="*/ 507240 w 54108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2374" h="21600">
                <a:moveTo>
                  <a:pt x="0" y="0"/>
                </a:moveTo>
                <a:lnTo>
                  <a:pt x="22374" y="0"/>
                </a:lnTo>
                <a:lnTo>
                  <a:pt x="22374" y="21600"/>
                </a:lnTo>
                <a:lnTo>
                  <a:pt x="0" y="21600"/>
                </a:lnTo>
                <a:close/>
              </a:path>
              <a:path fill="lightenLess" w="22374" h="21600">
                <a:moveTo>
                  <a:pt x="0" y="0"/>
                </a:moveTo>
                <a:lnTo>
                  <a:pt x="22374" y="0"/>
                </a:lnTo>
                <a:lnTo>
                  <a:pt x="20974" y="1400"/>
                </a:lnTo>
                <a:lnTo>
                  <a:pt x="1400" y="1400"/>
                </a:lnTo>
                <a:close/>
              </a:path>
              <a:path fill="darken" w="22374" h="21600">
                <a:moveTo>
                  <a:pt x="22374" y="0"/>
                </a:moveTo>
                <a:lnTo>
                  <a:pt x="22374" y="21600"/>
                </a:lnTo>
                <a:lnTo>
                  <a:pt x="20974" y="20200"/>
                </a:lnTo>
                <a:lnTo>
                  <a:pt x="20974" y="1400"/>
                </a:lnTo>
                <a:close/>
              </a:path>
              <a:path fill="darkenLess" w="22374" h="21600">
                <a:moveTo>
                  <a:pt x="22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4" y="20200"/>
                </a:lnTo>
                <a:close/>
              </a:path>
              <a:path fill="lighten" w="22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4" h="21600">
                <a:moveTo>
                  <a:pt x="11187" y="3837"/>
                </a:moveTo>
                <a:lnTo>
                  <a:pt x="13763" y="6448"/>
                </a:ln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lnTo>
                  <a:pt x="18150" y="10800"/>
                </a:lnTo>
                <a:lnTo>
                  <a:pt x="16496" y="10800"/>
                </a:lnTo>
                <a:lnTo>
                  <a:pt x="16496" y="17989"/>
                </a:lnTo>
                <a:lnTo>
                  <a:pt x="5878" y="17989"/>
                </a:lnTo>
                <a:lnTo>
                  <a:pt x="5878" y="10800"/>
                </a:lnTo>
                <a:lnTo>
                  <a:pt x="4224" y="10800"/>
                </a:lnTo>
                <a:close/>
              </a:path>
              <a:path fill="darkenLess" w="22374" h="21600">
                <a:moveTo>
                  <a:pt x="13763" y="6448"/>
                </a:moveTo>
                <a:lnTo>
                  <a:pt x="13763" y="4707"/>
                </a:lnTo>
                <a:lnTo>
                  <a:pt x="15539" y="4707"/>
                </a:lnTo>
                <a:lnTo>
                  <a:pt x="15539" y="8224"/>
                </a:lnTo>
                <a:close/>
              </a:path>
              <a:path fill="darkenLess" w="22374" h="21600">
                <a:moveTo>
                  <a:pt x="10264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6" y="17989"/>
                </a:lnTo>
                <a:lnTo>
                  <a:pt x="16496" y="10800"/>
                </a:lnTo>
                <a:lnTo>
                  <a:pt x="5878" y="10800"/>
                </a:lnTo>
                <a:lnTo>
                  <a:pt x="5878" y="17989"/>
                </a:lnTo>
                <a:lnTo>
                  <a:pt x="10264" y="17989"/>
                </a:ln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user</cp:lastModifiedBy>
  <dcterms:modified xsi:type="dcterms:W3CDTF">2017-03-14T02:19:07Z</dcterms:modified>
  <cp:revision>52</cp:revision>
  <dc:subject/>
  <dc:title>PowerPoint Presentation</dc:title>
</cp:coreProperties>
</file>