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F9003-F333-4360-A84D-F2ED58C08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F9E6F-A341-4E19-92C9-8C84E7D03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59E5C-CBD9-45BE-A9DC-B255CF5ED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19359-D736-43BD-927B-EDB470D44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38966-2AC7-4476-9B8F-FACCC7D68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C65C7-6DE1-4863-9AE2-2B6201A7B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49487-335B-460A-BDD1-FB284DAEF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5AE03-090F-4ADB-952D-F641B7152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3E2FC-9B91-49D7-94DE-2B40F32D0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44B0A-1BDF-4868-8EB0-EA26D0107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A3AE8-316A-406F-B88F-4EED0955D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AE7B8-EDE2-443C-BB49-B085068B8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3BFA7-0CDD-4516-AE06-505E87612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420EB-3487-4CC2-A432-9C06096AE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0F4CB-3808-47D1-BF54-D29B9191E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CAD79-7BDD-4CDE-908F-A4BDA9620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9879C-B23E-4374-A682-22F05A9F3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35639-EF14-4761-B15D-A4181ED49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9DEA0-300E-4160-860D-F67DE3FA5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B550B-083E-4543-B52E-9F0C62AD5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62826-36C0-4F4B-98CC-02300C459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19BC8-9A17-48EC-A148-DC3C7D385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6CAB0-59A8-4D7C-A1BA-D550A48CC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C6F7D-6475-4B76-BD24-3F4FB91DD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6575A-B97D-4FC0-A50B-D3F8E02F499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65719-B82C-43AA-B131-8F464D86A2D1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899640" y="5229000"/>
            <a:ext cx="7993080" cy="93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едагог-психолог Зотова Н.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МБОУ «СОШ №30» г. Каменск-Уральски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title"/>
          </p:nvPr>
        </p:nvSpPr>
        <p:spPr>
          <a:xfrm>
            <a:off x="179280" y="333360"/>
            <a:ext cx="858384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«Влияние семейного воспитания на толерантность подростков»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0" name="Picture 5" descr=""/>
          <p:cNvPicPr/>
          <p:nvPr/>
        </p:nvPicPr>
        <p:blipFill>
          <a:blip r:embed="rId1"/>
          <a:stretch/>
        </p:blipFill>
        <p:spPr>
          <a:xfrm>
            <a:off x="2700360" y="2492280"/>
            <a:ext cx="3744720" cy="23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3851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Arial Black"/>
              </a:rPr>
              <a:t>Что такое толерантность 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26560" y="1773360"/>
            <a:ext cx="8007480" cy="433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ffff66"/>
                </a:solidFill>
                <a:latin typeface="Arial"/>
              </a:rPr>
              <a:t>Толерантност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означает уважение, принятие и правильное понимание наших форм самовыражения и способов проявления человеческой индивидуальности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66"/>
                </a:solidFill>
                <a:latin typeface="Arial"/>
              </a:rPr>
              <a:t>Толерантност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выражается в стремлении достичь взаимопонимания и согласия в процессе общения и взаимодействи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23640" y="1483920"/>
            <a:ext cx="388764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сследование причин неврозов детей выдвигает на первое место семейные конфликты, которые не только разрушают семью, но и служат основой накопления девиантного потенциала ребенк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Picture 4" descr=""/>
          <p:cNvPicPr/>
          <p:nvPr/>
        </p:nvPicPr>
        <p:blipFill>
          <a:blip r:embed="rId1"/>
          <a:stretch/>
        </p:blipFill>
        <p:spPr>
          <a:xfrm>
            <a:off x="4572000" y="115920"/>
            <a:ext cx="4154400" cy="63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250920" y="404640"/>
            <a:ext cx="489744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рочная, нормальная семья, в которой присутствует толерантность во взаимоотношениях детей и родителей, имеющая хорошие традиции, нейтрализует отрицательное воздействие среды на ребенк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Picture 4" descr=""/>
          <p:cNvPicPr/>
          <p:nvPr/>
        </p:nvPicPr>
        <p:blipFill>
          <a:blip r:embed="rId1"/>
          <a:stretch/>
        </p:blipFill>
        <p:spPr>
          <a:xfrm>
            <a:off x="5364000" y="620640"/>
            <a:ext cx="356580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"/>
          <p:cNvPicPr/>
          <p:nvPr/>
        </p:nvPicPr>
        <p:blipFill>
          <a:blip r:embed="rId1"/>
          <a:stretch/>
        </p:blipFill>
        <p:spPr>
          <a:xfrm>
            <a:off x="6372360" y="1197000"/>
            <a:ext cx="2027160" cy="143208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250560" y="549360"/>
            <a:ext cx="5761080" cy="630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В результате длительно существующего конфликта в семье между детьми и взрослыми наблюдается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нижение социальной и психологической адаптации ее членов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утрачивается способность к совместной деятельности, в частности, способность совместно решать возникающие вопрос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Picture 4" descr=""/>
          <p:cNvPicPr/>
          <p:nvPr/>
        </p:nvPicPr>
        <p:blipFill>
          <a:blip r:embed="rId2"/>
          <a:stretch/>
        </p:blipFill>
        <p:spPr>
          <a:xfrm>
            <a:off x="6156360" y="3284640"/>
            <a:ext cx="2419200" cy="28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385120" cy="66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c5ba"/>
                </a:solidFill>
                <a:latin typeface="Arial Black"/>
              </a:rPr>
              <a:t>Пути формирования толерантности в процессе обучения и воспитания молодого поколения.</a:t>
            </a: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79280" y="1197000"/>
            <a:ext cx="865512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Развитие и воспитание учащихс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в духе открытости, понимания 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ринятия других народов, признан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ценности многообразия культур 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истории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. Обучение мирным средствам  дл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разрешения разногласий и конфликт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. Формирование умений и навык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конструктивного общения в ситуациях проявл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различий между людьми, разногласий 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конфликтов, развития умений эффективног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взаимодействия с представителями различны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этнических культур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4" descr=""/>
          <p:cNvPicPr/>
          <p:nvPr/>
        </p:nvPicPr>
        <p:blipFill>
          <a:blip r:embed="rId1"/>
          <a:stretch/>
        </p:blipFill>
        <p:spPr>
          <a:xfrm>
            <a:off x="5796000" y="1484280"/>
            <a:ext cx="3238560" cy="215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564000" y="404280"/>
            <a:ext cx="5207040" cy="554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66"/>
                </a:solidFill>
                <a:uFillTx/>
                <a:latin typeface="Arial Black"/>
              </a:rPr>
              <a:t>Цель воспитания толерантности</a:t>
            </a:r>
            <a:r>
              <a:rPr b="1" lang="en-US" sz="2400" spc="-1" strike="noStrike">
                <a:solidFill>
                  <a:srgbClr val="ffffb7"/>
                </a:solidFill>
                <a:latin typeface="Arial Black"/>
              </a:rPr>
              <a:t> </a:t>
            </a:r>
            <a:br>
              <a:rPr sz="2400"/>
            </a:br>
            <a:r>
              <a:rPr b="1" lang="en-US" sz="2400" spc="-1" strike="noStrike">
                <a:solidFill>
                  <a:srgbClr val="ffffb7"/>
                </a:solidFill>
                <a:latin typeface="Arial Black"/>
              </a:rPr>
              <a:t>- воспитание в подрастающем поколении потребности и готовности к конструктивному взаимодействию с людьми и группами людей независимо от их национальной, социальной, религиозной принадлежности, взглядов, мировоззрения, стилей мышления и поведения.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5" name="Picture 3" descr=""/>
          <p:cNvPicPr/>
          <p:nvPr/>
        </p:nvPicPr>
        <p:blipFill>
          <a:blip r:embed="rId1"/>
          <a:stretch/>
        </p:blipFill>
        <p:spPr>
          <a:xfrm>
            <a:off x="250920" y="1268280"/>
            <a:ext cx="3071880" cy="33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394920" y="-360"/>
            <a:ext cx="8450280" cy="57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66"/>
                </a:solidFill>
                <a:latin typeface="Arial"/>
              </a:rPr>
              <a:t>Подходы к воспитанию толерантности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66"/>
                </a:solidFill>
                <a:uFillTx/>
                <a:latin typeface="Arial"/>
              </a:rPr>
              <a:t>Личностно-ориентированный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.  признание права каждой личности на свободу, самоопределение, индивидуальность и самовыражение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изнание и выполнение своих обязанностей перед собой и другим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пора при взаимодействии на мотивацию, ценности, опыт, "Я-концепцию" партнера; индивидуальный подход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66"/>
                </a:solidFill>
                <a:uFillTx/>
                <a:latin typeface="Arial"/>
              </a:rPr>
              <a:t>Деятельностный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.  опора на активность, сознательность и самостоятельность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2.  ориентация не на вербальное воздействие, а на деятельность самого ребенк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3.  обеспечение субъективной свободы в выборе деятельности и ее компонентов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4.  построение воспитания через специально организуемую деятельность и общение дете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107640" y="765000"/>
            <a:ext cx="873756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Будущее мира за новыми поколениями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Так давайте сделаем, чтоб этот мир был полон тепла и любви. Это отчасти в наших руках!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В руках каждого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Picture 4" descr=""/>
          <p:cNvPicPr/>
          <p:nvPr/>
        </p:nvPicPr>
        <p:blipFill>
          <a:blip r:embed="rId1"/>
          <a:stretch/>
        </p:blipFill>
        <p:spPr>
          <a:xfrm>
            <a:off x="2627280" y="260280"/>
            <a:ext cx="380844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0T12:35:45Z</dcterms:created>
  <dc:creator>DNA7 X86</dc:creator>
  <dc:description/>
  <dc:language>en-US</dc:language>
  <cp:lastModifiedBy>Учитель</cp:lastModifiedBy>
  <dcterms:modified xsi:type="dcterms:W3CDTF">2013-09-27T02:55:49Z</dcterms:modified>
  <cp:revision>6</cp:revision>
  <dc:subject/>
  <dc:title>«Влияние семейного воспитания на толерантность подростков»</dc:title>
</cp:coreProperties>
</file>