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5.png" ContentType="image/png"/>
  <Override PartName="/ppt/media/image4.wmf" ContentType="image/x-wmf"/>
  <Override PartName="/ppt/media/image1.jpeg" ContentType="image/jpeg"/>
  <Override PartName="/ppt/media/image15.wmf" ContentType="image/x-wmf"/>
  <Override PartName="/ppt/media/image28.wmf" ContentType="image/x-wmf"/>
  <Override PartName="/ppt/media/image27.png" ContentType="image/png"/>
  <Override PartName="/ppt/media/image29.png" ContentType="image/png"/>
  <Override PartName="/ppt/media/image1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B56-038A-4268-B354-E07428E5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F17-41A4-46D5-A9BC-D832BD9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98F-CABF-4E8E-BA00-62FE1B54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AD0-02A2-4AC0-881B-49166618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5C31-8D3A-440D-9A41-83CAD863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45D-ED67-43D0-841B-D272D11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9A2-7BC9-4996-8E32-9E38A6E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16A4-6425-4304-A748-D0FEAC4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8C4-F4CA-442B-824B-F751D47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53E-1608-468F-B7E9-4170A911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12D6-3E7E-49A3-AF96-1B8EE61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5E1-A555-4680-9D3F-E4C9BFCE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6BB0-0F4D-4B0D-AE35-93FAE03A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391B-84B4-41A0-ABDF-120CB87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B9B6-CFF6-4D37-8081-C4434A1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76B2-9ACF-477F-AC15-5AF81A87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5765-8B1D-483D-832D-1FB9AF61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D76B-D3B6-4F7E-9E9F-B2BF03F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FBD8-5B13-4ABD-9795-27151A0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D369-D5CA-445F-9DB9-05891A1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8020-1BA4-4396-AB5B-7C20614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2FF7-5699-4B13-9DCA-EF4761B9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AF1-F4BF-47EE-A037-BE45C8CE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1FEF-9009-4F43-AE3C-069CF2B7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302E-41B9-4825-BADA-D2F4554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0258-D918-473C-8B47-B4A1AEC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F928-8368-45B9-971F-1462472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50A1-62F1-412D-A09A-8F26576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76EA-263E-419B-BA5C-DADB2A38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081F-7EEE-4651-9BFD-409358E5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A7A3-EA13-4FCA-A400-75CC94A4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B2B0-63EE-4EC0-88AB-515FC911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EAF2-3A09-4F20-A5DD-1B8F94F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F52-A277-4CA7-B2D1-1CFCF3A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CD4D-DAE0-4268-A663-02C91D1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363E-C38F-4E32-BE46-4AAE0E3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D34E-43A8-42F0-8798-B80F0400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5E18-75C8-43C2-9947-7F2F8A43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7A6A-8A76-4B47-944B-5B3A58A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7651-7DE2-488A-9EC9-D1A6719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DF49-BD13-4E7A-9562-1C98263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D351-83A3-4B81-ADB1-38F3134E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175F-26A7-4424-8372-D6399F6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8C42-3CAA-4229-AAF6-964BDD63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AB9-A600-499F-A21E-B48B4FD6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0E3A-0B56-4FDC-965D-ABE91DC0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8673-0884-42B8-927C-5AE2561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1BD8-AE97-42C2-94C5-51A94EDE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3B2ED-7868-4E84-9626-E066664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BA48-A216-45B9-8333-EB55894C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0F81D-8526-4630-A59C-E6A12B94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AE0E-B0C8-41AC-A3DC-B045E723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F579-48FD-4A26-B4F3-C8C4EA2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7762-3A79-4E86-92C7-6332C47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A496-A18F-4EC0-AAE2-04C05B45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38B-D391-48FC-A384-A8B35301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167B-6BD6-4BAF-82D2-051DBF72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A05-9DF8-40F8-9BD3-C2229E4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868-5432-4EAC-9031-0C0F5B1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05A-7D6D-4C6D-9E3D-121F1E1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71E1-D10D-4251-8B81-1E999ED4A19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B48-F40E-4310-99D7-19B9D955032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80D-8BB4-40C9-B646-32D63828DE5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26F-353E-413F-8860-E51B474EB3F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13F-2D07-43E6-8F27-952AF4D8062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3600720"/>
          </a:xfrm>
          <a:prstGeom prst="rect">
            <a:avLst/>
          </a:prstGeom>
          <a:solidFill>
            <a:srgbClr val="00d0c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Тема: Политическая система</a:t>
            </a:r>
            <a:br>
              <a:rPr sz="8000"/>
            </a:b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484360" y="5105520"/>
            <a:ext cx="712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0" name="Picture 4" descr="j0251301"/>
          <p:cNvPicPr/>
          <p:nvPr/>
        </p:nvPicPr>
        <p:blipFill>
          <a:blip r:embed="rId1"/>
          <a:stretch/>
        </p:blipFill>
        <p:spPr>
          <a:xfrm>
            <a:off x="539640" y="4332240"/>
            <a:ext cx="2232000" cy="18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9"/>
          <p:cNvSpPr txBox="1"/>
          <p:nvPr/>
        </p:nvSpPr>
        <p:spPr>
          <a:xfrm>
            <a:off x="2484360" y="1557360"/>
            <a:ext cx="38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а правл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Line 10"/>
          <p:cNvSpPr/>
          <p:nvPr/>
        </p:nvSpPr>
        <p:spPr>
          <a:xfrm flipH="1">
            <a:off x="3059280" y="2492280"/>
            <a:ext cx="504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5508720" y="249228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1500120" y="3357720"/>
            <a:ext cx="2640240" cy="863280"/>
          </a:xfrm>
          <a:prstGeom prst="ellipse">
            <a:avLst/>
          </a:prstGeom>
          <a:solidFill>
            <a:srgbClr val="303030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Arial"/>
              </a:rPr>
              <a:t>монар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5724360" y="3429000"/>
            <a:ext cx="2705400" cy="720720"/>
          </a:xfrm>
          <a:prstGeom prst="ellipse">
            <a:avLst/>
          </a:prstGeom>
          <a:solidFill>
            <a:srgbClr val="303030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Arial"/>
              </a:rPr>
              <a:t>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1258920" y="4724280"/>
            <a:ext cx="3457440" cy="43344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971640" y="5373720"/>
            <a:ext cx="3887640" cy="79200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5651640" y="4508640"/>
            <a:ext cx="2881080" cy="57600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6156360" y="5516640"/>
            <a:ext cx="71280" cy="7308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5292720" y="5373720"/>
            <a:ext cx="3311640" cy="64764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ламен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39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о-основной институ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3"/>
          <p:cNvSpPr txBox="1"/>
          <p:nvPr/>
        </p:nvSpPr>
        <p:spPr>
          <a:xfrm>
            <a:off x="3276720" y="2060640"/>
            <a:ext cx="2698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тип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арт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395280" y="2133720"/>
            <a:ext cx="2663640" cy="1092960"/>
            <a:chOff x="395280" y="2133720"/>
            <a:chExt cx="2663640" cy="1092960"/>
          </a:xfrm>
        </p:grpSpPr>
        <p:sp>
          <p:nvSpPr>
            <p:cNvPr id="315" name="WordArt 5"/>
            <p:cNvSpPr txBox="1"/>
            <p:nvPr/>
          </p:nvSpPr>
          <p:spPr>
            <a:xfrm>
              <a:off x="395280" y="2133720"/>
              <a:ext cx="266364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03030"/>
                  </a:solidFill>
                  <a:latin typeface="Arial"/>
                </a:rPr>
                <a:t>классическ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03030"/>
                </a:solidFill>
                <a:latin typeface="Arial"/>
                <a:ea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1539360" y="2769120"/>
              <a:ext cx="31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"/>
          <p:cNvGrpSpPr/>
          <p:nvPr/>
        </p:nvGrpSpPr>
        <p:grpSpPr>
          <a:xfrm>
            <a:off x="6084720" y="2133720"/>
            <a:ext cx="2683080" cy="1202400"/>
            <a:chOff x="6084720" y="2133720"/>
            <a:chExt cx="2683080" cy="1202400"/>
          </a:xfrm>
        </p:grpSpPr>
        <p:sp>
          <p:nvSpPr>
            <p:cNvPr id="318" name="WordArt 8"/>
            <p:cNvSpPr txBox="1"/>
            <p:nvPr/>
          </p:nvSpPr>
          <p:spPr>
            <a:xfrm>
              <a:off x="6084720" y="2133720"/>
              <a:ext cx="2683080" cy="115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03030"/>
                  </a:solidFill>
                  <a:latin typeface="Arial"/>
                </a:rPr>
                <a:t>движенчески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03030"/>
                </a:solidFill>
                <a:latin typeface="Arial"/>
                <a:ea typeface="Arial"/>
              </a:endParaRPr>
            </a:p>
          </p:txBody>
        </p:sp>
        <p:sp>
          <p:nvSpPr>
            <p:cNvPr id="319" name="Text Box 9"/>
            <p:cNvSpPr/>
            <p:nvPr/>
          </p:nvSpPr>
          <p:spPr>
            <a:xfrm>
              <a:off x="6618240" y="2879280"/>
              <a:ext cx="172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Line 10"/>
          <p:cNvSpPr/>
          <p:nvPr/>
        </p:nvSpPr>
        <p:spPr>
          <a:xfrm>
            <a:off x="1600200" y="68580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395280" y="328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ПРФ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27"/>
          <p:cNvSpPr txBox="1"/>
          <p:nvPr/>
        </p:nvSpPr>
        <p:spPr>
          <a:xfrm>
            <a:off x="826920" y="549360"/>
            <a:ext cx="76201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тии- институт политической системы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4" name="Picture 28" descr="MCPE06261_0000[1]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651640" y="4076640"/>
            <a:ext cx="1528560" cy="2347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9" descr="MCj02307560000[1]"/>
          <p:cNvPicPr/>
          <p:nvPr/>
        </p:nvPicPr>
        <p:blipFill>
          <a:blip r:embed="rId4"/>
          <a:stretch/>
        </p:blipFill>
        <p:spPr>
          <a:xfrm>
            <a:off x="1692360" y="3389400"/>
            <a:ext cx="1455480" cy="34686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0"/>
          <p:cNvSpPr/>
          <p:nvPr/>
        </p:nvSpPr>
        <p:spPr>
          <a:xfrm>
            <a:off x="6516720" y="342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В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орф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ПОЛИТИКА- КАК СИСТЕМА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solidFill>
            <a:srgbClr val="009a96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ЛИТИЧЕСКАЯ СИСТЕМА-целостный и взаимосвязанный комплекс всех элементов 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H="1">
            <a:off x="3419280" y="292428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"/>
          <p:cNvSpPr/>
          <p:nvPr/>
        </p:nvSpPr>
        <p:spPr>
          <a:xfrm>
            <a:off x="1547640" y="3860640"/>
            <a:ext cx="2880000" cy="64944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2987640" y="4508640"/>
            <a:ext cx="71640" cy="7272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508720" y="2924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7093080" y="4437000"/>
            <a:ext cx="144360" cy="730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6372360" y="3860640"/>
            <a:ext cx="2376360" cy="10810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507672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1"/>
          <p:cNvSpPr/>
          <p:nvPr/>
        </p:nvSpPr>
        <p:spPr>
          <a:xfrm>
            <a:off x="4500720" y="5229360"/>
            <a:ext cx="2158920" cy="115236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2"/>
          <p:cNvSpPr/>
          <p:nvPr/>
        </p:nvSpPr>
        <p:spPr>
          <a:xfrm>
            <a:off x="1116000" y="5589720"/>
            <a:ext cx="2519280" cy="12682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АВ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2987640" y="479736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4" descr="j0234131"/>
          <p:cNvPicPr/>
          <p:nvPr/>
        </p:nvPicPr>
        <p:blipFill>
          <a:blip r:embed="rId1"/>
          <a:stretch/>
        </p:blipFill>
        <p:spPr>
          <a:xfrm>
            <a:off x="7191360" y="508464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3"/>
          <p:cNvSpPr txBox="1"/>
          <p:nvPr/>
        </p:nvSpPr>
        <p:spPr>
          <a:xfrm>
            <a:off x="2484360" y="1700280"/>
            <a:ext cx="4784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726056"/>
                </a:solidFill>
                <a:latin typeface="Arial"/>
              </a:rPr>
              <a:t>(политический режим)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726056"/>
              </a:solidFill>
              <a:latin typeface="Arial"/>
              <a:ea typeface="Arial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581400" y="2205000"/>
            <a:ext cx="3666600" cy="3128040"/>
            <a:chOff x="581400" y="2205000"/>
            <a:chExt cx="3666600" cy="3128040"/>
          </a:xfrm>
        </p:grpSpPr>
        <p:grpSp>
          <p:nvGrpSpPr>
            <p:cNvPr id="342" name="Group 5"/>
            <p:cNvGrpSpPr/>
            <p:nvPr/>
          </p:nvGrpSpPr>
          <p:grpSpPr>
            <a:xfrm>
              <a:off x="581400" y="2957760"/>
              <a:ext cx="2786760" cy="2375280"/>
              <a:chOff x="581400" y="2957760"/>
              <a:chExt cx="2786760" cy="2375280"/>
            </a:xfrm>
          </p:grpSpPr>
          <p:sp>
            <p:nvSpPr>
              <p:cNvPr id="343" name="WordArt 6"/>
              <p:cNvSpPr txBox="1"/>
              <p:nvPr/>
            </p:nvSpPr>
            <p:spPr>
              <a:xfrm>
                <a:off x="653760" y="2957760"/>
                <a:ext cx="2679840" cy="923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"/>
                  </a:rPr>
                  <a:t>демократический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44" name="Text Box 7"/>
              <p:cNvSpPr/>
              <p:nvPr/>
            </p:nvSpPr>
            <p:spPr>
              <a:xfrm>
                <a:off x="581400" y="4141800"/>
                <a:ext cx="2786760" cy="1191240"/>
              </a:xfrm>
              <a:prstGeom prst="rect">
                <a:avLst/>
              </a:prstGeom>
              <a:solidFill>
                <a:srgbClr val="30303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Times New Roman"/>
                  </a:rPr>
                  <a:t>Свобода </a:t>
                </a:r>
                <a:r>
                  <a:rPr b="1" lang="ru-RU" sz="2400" spc="-1" strike="noStrike">
                    <a:solidFill>
                      <a:srgbClr val="dedee0"/>
                    </a:solidFill>
                    <a:latin typeface="Times New Roman"/>
                  </a:rPr>
                  <a:t>личности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dedee0"/>
                    </a:solidFill>
                    <a:latin typeface="Times New Roman"/>
                  </a:rPr>
                  <a:t>правовое государ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dedee0"/>
                    </a:solidFill>
                    <a:latin typeface="Times New Roman"/>
                  </a:rPr>
                  <a:t>ств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8"/>
            <p:cNvSpPr/>
            <p:nvPr/>
          </p:nvSpPr>
          <p:spPr>
            <a:xfrm flipH="1">
              <a:off x="3333600" y="2205000"/>
              <a:ext cx="914400" cy="83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9"/>
          <p:cNvGrpSpPr/>
          <p:nvPr/>
        </p:nvGrpSpPr>
        <p:grpSpPr>
          <a:xfrm>
            <a:off x="5310360" y="2205000"/>
            <a:ext cx="3792960" cy="3172320"/>
            <a:chOff x="5310360" y="2205000"/>
            <a:chExt cx="3792960" cy="3172320"/>
          </a:xfrm>
        </p:grpSpPr>
        <p:grpSp>
          <p:nvGrpSpPr>
            <p:cNvPr id="347" name="Group 10"/>
            <p:cNvGrpSpPr/>
            <p:nvPr/>
          </p:nvGrpSpPr>
          <p:grpSpPr>
            <a:xfrm>
              <a:off x="6353280" y="2967120"/>
              <a:ext cx="2750040" cy="2410200"/>
              <a:chOff x="6353280" y="2967120"/>
              <a:chExt cx="2750040" cy="2410200"/>
            </a:xfrm>
          </p:grpSpPr>
          <p:sp>
            <p:nvSpPr>
              <p:cNvPr id="348" name="WordArt 11"/>
              <p:cNvSpPr txBox="1"/>
              <p:nvPr/>
            </p:nvSpPr>
            <p:spPr>
              <a:xfrm>
                <a:off x="6353280" y="2967120"/>
                <a:ext cx="269064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Inflate">
                  <a:avLst>
                    <a:gd name="adj" fmla="val 1365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latin typeface="Arial"/>
                  </a:rPr>
                  <a:t>тоталитарный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49" name="Text Box 12"/>
              <p:cNvSpPr/>
              <p:nvPr/>
            </p:nvSpPr>
            <p:spPr>
              <a:xfrm>
                <a:off x="6368400" y="4186080"/>
                <a:ext cx="2734920" cy="1191240"/>
              </a:xfrm>
              <a:prstGeom prst="rect">
                <a:avLst/>
              </a:prstGeom>
              <a:solidFill>
                <a:srgbClr val="30303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ad0101"/>
                    </a:solidFill>
                    <a:latin typeface="Times New Roman"/>
                  </a:rPr>
                  <a:t>Господство групп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ad0101"/>
                    </a:solidFill>
                    <a:latin typeface="Times New Roman"/>
                  </a:rPr>
                  <a:t>па лиц, возглав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ad0101"/>
                    </a:solidFill>
                    <a:latin typeface="Times New Roman"/>
                  </a:rPr>
                  <a:t>ляемой лидеро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Line 13"/>
            <p:cNvSpPr/>
            <p:nvPr/>
          </p:nvSpPr>
          <p:spPr>
            <a:xfrm>
              <a:off x="5310360" y="2205000"/>
              <a:ext cx="91440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4"/>
          <p:cNvGrpSpPr/>
          <p:nvPr/>
        </p:nvGrpSpPr>
        <p:grpSpPr>
          <a:xfrm>
            <a:off x="3530520" y="2470320"/>
            <a:ext cx="2651040" cy="4314960"/>
            <a:chOff x="3530520" y="2470320"/>
            <a:chExt cx="2651040" cy="4314960"/>
          </a:xfrm>
        </p:grpSpPr>
        <p:sp>
          <p:nvSpPr>
            <p:cNvPr id="352" name="WordArt 15"/>
            <p:cNvSpPr txBox="1"/>
            <p:nvPr/>
          </p:nvSpPr>
          <p:spPr>
            <a:xfrm>
              <a:off x="3530520" y="4973040"/>
              <a:ext cx="2651040" cy="65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latin typeface="Arial"/>
                </a:rPr>
                <a:t>авторитарный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3535200" y="5594040"/>
              <a:ext cx="2536920" cy="1191240"/>
            </a:xfrm>
            <a:prstGeom prst="rect">
              <a:avLst/>
            </a:prstGeom>
            <a:solidFill>
              <a:srgbClr val="30303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imes New Roman"/>
                </a:rPr>
                <a:t>Госп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imes New Roman"/>
                </a:rPr>
                <a:t>исполнитель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imes New Roman"/>
                </a:rPr>
                <a:t>вл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7"/>
            <p:cNvSpPr/>
            <p:nvPr/>
          </p:nvSpPr>
          <p:spPr>
            <a:xfrm>
              <a:off x="4749480" y="2470320"/>
              <a:ext cx="0" cy="250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WordArt 20"/>
          <p:cNvSpPr txBox="1"/>
          <p:nvPr/>
        </p:nvSpPr>
        <p:spPr>
          <a:xfrm>
            <a:off x="539640" y="260280"/>
            <a:ext cx="822960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политических систе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21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1гр- объясните высказывание: «Политика- игорный притон, в котором зрители рискуют проиграться также, как игроки»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Г.Мабли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3,4гр.-работа 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с документами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2гр-объясните тезис «человек есть существо политическое…»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Аристотель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5,6гр.- работа         с         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303030"/>
                </a:solidFill>
                <a:latin typeface="Times New Roman"/>
              </a:rPr>
              <a:t>документами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9" name="WordArt 5"/>
          <p:cNvSpPr txBox="1"/>
          <p:nvPr/>
        </p:nvSpPr>
        <p:spPr>
          <a:xfrm>
            <a:off x="2268360" y="620640"/>
            <a:ext cx="36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трол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0" name="Picture 9" descr="j0233018"/>
          <p:cNvPicPr/>
          <p:nvPr/>
        </p:nvPicPr>
        <p:blipFill>
          <a:blip r:embed="rId3"/>
          <a:stretch/>
        </p:blipFill>
        <p:spPr>
          <a:xfrm>
            <a:off x="6659640" y="260280"/>
            <a:ext cx="19587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Политические партии России -мой выбор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Избирательная система в РФ- ее плюсы и минусы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Работа органов местного самоуправления в нашем поселке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116000" y="476280"/>
            <a:ext cx="5065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ы проект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итогового уро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ОЪЯСНИТЕ ЗНАЧЕНИЕ ПОНЯТИЕ «</a:t>
            </a:r>
            <a:r>
              <a:rPr b="0" lang="ru-RU" sz="4000" spc="-1" strike="noStrike">
                <a:solidFill>
                  <a:srgbClr val="ad0101"/>
                </a:solidFill>
                <a:latin typeface="Impact"/>
              </a:rPr>
              <a:t>ПОЛИТИКА</a:t>
            </a: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solidFill>
            <a:srgbClr val="65cccf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66"/>
                </a:solidFill>
                <a:uFillTx/>
                <a:latin typeface="Times New Roman"/>
              </a:rPr>
              <a:t>Политика</a:t>
            </a: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-отноше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внутри общества между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классами,нациями,социальным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группами, по вопросу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государственной власти 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отношения между государств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ПОЛИТИКА- КАК СИСТЕМА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solidFill>
            <a:srgbClr val="009a96"/>
          </a:solidFill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ЛИТИЧЕСКАЯ СИСТЕМА-целостный и взаимосвязанный комплекс всех элементов 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5" name="Line 4"/>
          <p:cNvSpPr/>
          <p:nvPr/>
        </p:nvSpPr>
        <p:spPr>
          <a:xfrm flipH="1">
            <a:off x="3419280" y="292428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1547640" y="3860640"/>
            <a:ext cx="2880000" cy="64944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2987640" y="4508640"/>
            <a:ext cx="71640" cy="7272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5508720" y="2924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7093080" y="4437000"/>
            <a:ext cx="144360" cy="730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6372360" y="3860640"/>
            <a:ext cx="2376360" cy="10810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507672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4500720" y="5229360"/>
            <a:ext cx="2158920" cy="115236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1116000" y="5589720"/>
            <a:ext cx="2519280" cy="1268280"/>
          </a:xfrm>
          <a:prstGeom prst="ellipse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АВ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2987640" y="479736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j0234131"/>
          <p:cNvPicPr/>
          <p:nvPr/>
        </p:nvPicPr>
        <p:blipFill>
          <a:blip r:embed="rId1"/>
          <a:stretch/>
        </p:blipFill>
        <p:spPr>
          <a:xfrm>
            <a:off x="7191360" y="508464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95672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одсистемы  политической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истемы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412640"/>
            <a:ext cx="8624880" cy="54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97000"/>
          <a:ext cx="9144000" cy="5694480"/>
        </p:xfrm>
        <a:graphic>
          <a:graphicData uri="http://schemas.openxmlformats.org/drawingml/2006/table">
            <a:tbl>
              <a:tblPr/>
              <a:tblGrid>
                <a:gridCol w="4896000"/>
                <a:gridCol w="42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политическ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ные 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нституциональ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сударст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ртии, группы давления, С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рковь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итические, правовые, моральны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ммуникатив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формы взаимодействия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ласти ,общества и индив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ультур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истема политических ценностей ,идеи, предст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ункциональ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вокупность средств и способов реализации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112" descr="j0299125"/>
          <p:cNvPicPr/>
          <p:nvPr/>
        </p:nvPicPr>
        <p:blipFill>
          <a:blip r:embed="rId1"/>
          <a:stretch/>
        </p:blipFill>
        <p:spPr>
          <a:xfrm>
            <a:off x="7667640" y="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476360" y="333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ие отношения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ЛАССЫ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НАЦ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3429000" y="2143080"/>
            <a:ext cx="4534920" cy="3312360"/>
            <a:chOff x="3429000" y="2143080"/>
            <a:chExt cx="4534920" cy="3312360"/>
          </a:xfrm>
        </p:grpSpPr>
        <p:pic>
          <p:nvPicPr>
            <p:cNvPr id="243" name="Object 6" descr=""/>
            <p:cNvPicPr/>
            <p:nvPr/>
          </p:nvPicPr>
          <p:blipFill>
            <a:blip r:embed="rId3"/>
            <a:stretch/>
          </p:blipFill>
          <p:spPr>
            <a:xfrm>
              <a:off x="3575520" y="2143080"/>
              <a:ext cx="792720" cy="132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Object 7" descr=""/>
            <p:cNvPicPr/>
            <p:nvPr/>
          </p:nvPicPr>
          <p:blipFill>
            <a:blip r:embed="rId4"/>
            <a:stretch/>
          </p:blipFill>
          <p:spPr>
            <a:xfrm>
              <a:off x="3429000" y="4088520"/>
              <a:ext cx="1130400" cy="13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8" descr=""/>
            <p:cNvPicPr/>
            <p:nvPr/>
          </p:nvPicPr>
          <p:blipFill>
            <a:blip r:embed="rId5"/>
            <a:stretch/>
          </p:blipFill>
          <p:spPr>
            <a:xfrm>
              <a:off x="6647400" y="4217760"/>
              <a:ext cx="1298520" cy="12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Object 9" descr=""/>
            <p:cNvPicPr/>
            <p:nvPr/>
          </p:nvPicPr>
          <p:blipFill>
            <a:blip r:embed="rId6"/>
            <a:stretch/>
          </p:blipFill>
          <p:spPr>
            <a:xfrm>
              <a:off x="6647400" y="2272320"/>
              <a:ext cx="1316520" cy="11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10"/>
            <p:cNvSpPr/>
            <p:nvPr/>
          </p:nvSpPr>
          <p:spPr>
            <a:xfrm flipV="1">
              <a:off x="4599720" y="2921040"/>
              <a:ext cx="1901160" cy="19454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 flipV="1">
              <a:off x="4599360" y="2921040"/>
              <a:ext cx="1901160" cy="19454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4599720" y="4996080"/>
              <a:ext cx="190116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599720" y="2791080"/>
              <a:ext cx="190116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4014360" y="3439440"/>
              <a:ext cx="0" cy="648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7232760" y="3439440"/>
              <a:ext cx="0" cy="6487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0"/>
          <p:cNvSpPr/>
          <p:nvPr/>
        </p:nvSpPr>
        <p:spPr>
          <a:xfrm>
            <a:off x="324000" y="5516640"/>
            <a:ext cx="640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ОЦИАЛЬ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РУГИЕ СТРУКТУРЫ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4284720" y="1268280"/>
            <a:ext cx="3168720" cy="719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внутрен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10"/>
          <p:cNvGrpSpPr/>
          <p:nvPr/>
        </p:nvGrpSpPr>
        <p:grpSpPr>
          <a:xfrm>
            <a:off x="827280" y="2349360"/>
            <a:ext cx="2646720" cy="3264120"/>
            <a:chOff x="827280" y="2349360"/>
            <a:chExt cx="2646720" cy="3264120"/>
          </a:xfrm>
        </p:grpSpPr>
        <p:grpSp>
          <p:nvGrpSpPr>
            <p:cNvPr id="256" name="Group 11"/>
            <p:cNvGrpSpPr/>
            <p:nvPr/>
          </p:nvGrpSpPr>
          <p:grpSpPr>
            <a:xfrm>
              <a:off x="827280" y="3263760"/>
              <a:ext cx="2646720" cy="2349720"/>
              <a:chOff x="827280" y="3263760"/>
              <a:chExt cx="2646720" cy="2349720"/>
            </a:xfrm>
          </p:grpSpPr>
          <p:pic>
            <p:nvPicPr>
              <p:cNvPr id="257" name="Object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2760" y="3263760"/>
                <a:ext cx="2209680" cy="14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 Box 13"/>
              <p:cNvSpPr/>
              <p:nvPr/>
            </p:nvSpPr>
            <p:spPr>
              <a:xfrm>
                <a:off x="827280" y="4788000"/>
                <a:ext cx="264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щество в свое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ран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ine 14"/>
            <p:cNvSpPr/>
            <p:nvPr/>
          </p:nvSpPr>
          <p:spPr>
            <a:xfrm flipH="1">
              <a:off x="2179440" y="2349360"/>
              <a:ext cx="4572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5581800" y="2276640"/>
            <a:ext cx="2483640" cy="3645000"/>
            <a:chOff x="5581800" y="2276640"/>
            <a:chExt cx="2483640" cy="3645000"/>
          </a:xfrm>
        </p:grpSpPr>
        <p:grpSp>
          <p:nvGrpSpPr>
            <p:cNvPr id="261" name="Group 16"/>
            <p:cNvGrpSpPr/>
            <p:nvPr/>
          </p:nvGrpSpPr>
          <p:grpSpPr>
            <a:xfrm>
              <a:off x="5581800" y="3190680"/>
              <a:ext cx="2483640" cy="2730960"/>
              <a:chOff x="5581800" y="3190680"/>
              <a:chExt cx="2483640" cy="2730960"/>
            </a:xfrm>
          </p:grpSpPr>
          <p:pic>
            <p:nvPicPr>
              <p:cNvPr id="262" name="Object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6320" y="3190680"/>
                <a:ext cx="2332080" cy="11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8"/>
              <p:cNvSpPr/>
              <p:nvPr/>
            </p:nvSpPr>
            <p:spPr>
              <a:xfrm>
                <a:off x="5581800" y="4730400"/>
                <a:ext cx="2483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ждународн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тношения 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обществ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Line 19"/>
            <p:cNvSpPr/>
            <p:nvPr/>
          </p:nvSpPr>
          <p:spPr>
            <a:xfrm>
              <a:off x="6494400" y="2276640"/>
              <a:ext cx="381240" cy="9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WordArt 21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нешне-политические отношения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AutoShape 30"/>
          <p:cNvSpPr/>
          <p:nvPr/>
        </p:nvSpPr>
        <p:spPr>
          <a:xfrm>
            <a:off x="4284720" y="3645000"/>
            <a:ext cx="934920" cy="9349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РПОРАТИВНЫЕ НОРМЫ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9" name="WordArt 5"/>
          <p:cNvSpPr txBox="1"/>
          <p:nvPr/>
        </p:nvSpPr>
        <p:spPr>
          <a:xfrm>
            <a:off x="826920" y="620640"/>
            <a:ext cx="712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 И ПРАВОВЫЕ НОР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0" name="Group 8"/>
          <p:cNvGrpSpPr/>
          <p:nvPr/>
        </p:nvGrpSpPr>
        <p:grpSpPr>
          <a:xfrm>
            <a:off x="611280" y="3357720"/>
            <a:ext cx="2483640" cy="1795320"/>
            <a:chOff x="611280" y="3357720"/>
            <a:chExt cx="2483640" cy="1795320"/>
          </a:xfrm>
        </p:grpSpPr>
        <p:grpSp>
          <p:nvGrpSpPr>
            <p:cNvPr id="271" name="Group 9"/>
            <p:cNvGrpSpPr/>
            <p:nvPr/>
          </p:nvGrpSpPr>
          <p:grpSpPr>
            <a:xfrm>
              <a:off x="611280" y="3357720"/>
              <a:ext cx="2075760" cy="1795320"/>
              <a:chOff x="611280" y="3357720"/>
              <a:chExt cx="2075760" cy="1795320"/>
            </a:xfrm>
          </p:grpSpPr>
          <p:graphicFrame>
            <p:nvGraphicFramePr>
              <p:cNvPr id="272" name="Object 10"/>
              <p:cNvGraphicFramePr/>
              <p:nvPr/>
            </p:nvGraphicFramePr>
            <p:xfrm>
              <a:off x="1177920" y="3357720"/>
              <a:ext cx="941400" cy="84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3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77920" y="3357720"/>
                        <a:ext cx="941400" cy="84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4" name="Text Box 11"/>
              <p:cNvSpPr/>
              <p:nvPr/>
            </p:nvSpPr>
            <p:spPr>
              <a:xfrm>
                <a:off x="611280" y="4327560"/>
                <a:ext cx="2075760" cy="825480"/>
              </a:xfrm>
              <a:prstGeom prst="rect">
                <a:avLst/>
              </a:prstGeom>
              <a:solidFill>
                <a:srgbClr val="00d0cb"/>
              </a:solidFill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авов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орм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12"/>
            <p:cNvSpPr/>
            <p:nvPr/>
          </p:nvSpPr>
          <p:spPr>
            <a:xfrm flipH="1">
              <a:off x="2713320" y="3478320"/>
              <a:ext cx="381600" cy="7272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3819600" y="2852640"/>
            <a:ext cx="2171160" cy="2338920"/>
            <a:chOff x="3819600" y="2852640"/>
            <a:chExt cx="2171160" cy="2338920"/>
          </a:xfrm>
        </p:grpSpPr>
        <p:grpSp>
          <p:nvGrpSpPr>
            <p:cNvPr id="277" name="Group 19"/>
            <p:cNvGrpSpPr/>
            <p:nvPr/>
          </p:nvGrpSpPr>
          <p:grpSpPr>
            <a:xfrm>
              <a:off x="3819600" y="3493080"/>
              <a:ext cx="2171160" cy="1698480"/>
              <a:chOff x="3819600" y="3493080"/>
              <a:chExt cx="2171160" cy="1698480"/>
            </a:xfrm>
          </p:grpSpPr>
          <p:graphicFrame>
            <p:nvGraphicFramePr>
              <p:cNvPr id="278" name="Object 20"/>
              <p:cNvGraphicFramePr/>
              <p:nvPr/>
            </p:nvGraphicFramePr>
            <p:xfrm>
              <a:off x="4196880" y="3493080"/>
              <a:ext cx="1357920" cy="826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9" name="Object 2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96880" y="3493080"/>
                        <a:ext cx="1357920" cy="82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Text Box 21"/>
              <p:cNvSpPr/>
              <p:nvPr/>
            </p:nvSpPr>
            <p:spPr>
              <a:xfrm>
                <a:off x="3819600" y="4366080"/>
                <a:ext cx="2171160" cy="825480"/>
              </a:xfrm>
              <a:prstGeom prst="rect">
                <a:avLst/>
              </a:prstGeom>
              <a:solidFill>
                <a:srgbClr val="ad0101"/>
              </a:solidFill>
              <a:ln w="7632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литическ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адици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2"/>
            <p:cNvSpPr/>
            <p:nvPr/>
          </p:nvSpPr>
          <p:spPr>
            <a:xfrm>
              <a:off x="4885920" y="2852640"/>
              <a:ext cx="0" cy="732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3"/>
          <p:cNvGrpSpPr/>
          <p:nvPr/>
        </p:nvGrpSpPr>
        <p:grpSpPr>
          <a:xfrm>
            <a:off x="6012000" y="2924280"/>
            <a:ext cx="2606040" cy="2032920"/>
            <a:chOff x="6012000" y="2924280"/>
            <a:chExt cx="2606040" cy="2032920"/>
          </a:xfrm>
        </p:grpSpPr>
        <p:sp>
          <p:nvSpPr>
            <p:cNvPr id="283" name="WordArt 24"/>
            <p:cNvSpPr txBox="1"/>
            <p:nvPr/>
          </p:nvSpPr>
          <p:spPr>
            <a:xfrm>
              <a:off x="6183360" y="3192480"/>
              <a:ext cx="2434680" cy="17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ральны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орм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6012000" y="2924280"/>
              <a:ext cx="342720" cy="5806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ЛИТИЧЕСКИЕ ВЗГЛЯДЫ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ЛИТИЧЕСКИЕ ТЕОР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1547640" y="549360"/>
            <a:ext cx="644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АЯ КУЛЬТУ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476360" y="4941720"/>
            <a:ext cx="7105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ОЛИТИЧЕСКИЕ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ОЛИТИЧЕСКОЕ С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MCj03013640000[1]"/>
          <p:cNvPicPr/>
          <p:nvPr/>
        </p:nvPicPr>
        <p:blipFill>
          <a:blip r:embed="rId3"/>
          <a:stretch/>
        </p:blipFill>
        <p:spPr>
          <a:xfrm>
            <a:off x="2916360" y="2833560"/>
            <a:ext cx="32400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91" name="Picture 9" descr="j0185604"/>
          <p:cNvPicPr/>
          <p:nvPr/>
        </p:nvPicPr>
        <p:blipFill>
          <a:blip r:embed="rId1"/>
          <a:stretch/>
        </p:blipFill>
        <p:spPr>
          <a:xfrm rot="21472200">
            <a:off x="752040" y="4660560"/>
            <a:ext cx="1940040" cy="1944720"/>
          </a:xfrm>
          <a:prstGeom prst="rect">
            <a:avLst/>
          </a:prstGeom>
          <a:ln w="0">
            <a:noFill/>
          </a:ln>
        </p:spPr>
      </p:pic>
      <p:sp>
        <p:nvSpPr>
          <p:cNvPr id="292" name="WordArt 5"/>
          <p:cNvSpPr txBox="1"/>
          <p:nvPr/>
        </p:nvSpPr>
        <p:spPr>
          <a:xfrm>
            <a:off x="826920" y="40464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о-основной институ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7"/>
          <p:cNvSpPr txBox="1"/>
          <p:nvPr/>
        </p:nvSpPr>
        <p:spPr>
          <a:xfrm>
            <a:off x="2195640" y="1700280"/>
            <a:ext cx="48384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 государственного устройств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539640" y="3500280"/>
            <a:ext cx="2303640" cy="86544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3419640" y="3500280"/>
            <a:ext cx="2663640" cy="93672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фед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6659640" y="3284640"/>
            <a:ext cx="2195280" cy="107928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тар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j0205462"/>
          <p:cNvPicPr/>
          <p:nvPr/>
        </p:nvPicPr>
        <p:blipFill>
          <a:blip r:embed="rId6"/>
          <a:stretch/>
        </p:blipFill>
        <p:spPr>
          <a:xfrm>
            <a:off x="3780000" y="504828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j0195534"/>
          <p:cNvPicPr/>
          <p:nvPr/>
        </p:nvPicPr>
        <p:blipFill>
          <a:blip r:embed="rId7"/>
          <a:stretch/>
        </p:blipFill>
        <p:spPr>
          <a:xfrm>
            <a:off x="7093080" y="472428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 flipH="1">
            <a:off x="2340000" y="256536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485928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6012000" y="263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8:05:44Z</dcterms:created>
  <dc:creator>111</dc:creator>
  <dc:description/>
  <dc:language>en-US</dc:language>
  <cp:lastModifiedBy>Certified Windows</cp:lastModifiedBy>
  <dcterms:modified xsi:type="dcterms:W3CDTF">2019-09-02T09:40:28Z</dcterms:modified>
  <cp:revision>21</cp:revision>
  <dc:subject/>
  <dc:title>Политическая система и ее роль в жизни общества</dc:title>
</cp:coreProperties>
</file>