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7B05-B33A-4729-A332-AF0D56849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B3EC-12C3-47CA-B7DA-58F1A8BA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C87B-31CB-48A1-ABEC-904CA60B4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2664-D45B-4B1B-8484-E80D7E02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EC75-972F-4207-B197-BCDB6ECA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E271-030E-4B30-A6D3-00279251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C9F8-17C6-4D9D-B847-1C65CBDD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1326-53CC-4F6C-BA37-E3EB0553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B6BC-4501-4F85-8210-139544DC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7A95-3C34-4F82-A312-CECF5024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7E12-7637-48CE-8E66-4314FF70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C7D4-99CC-4E2A-BBCC-98353730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87A0-0C8C-4F7E-93B6-D7D1535D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D6C0-FD55-43F0-99AA-B481EF78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3435-8DC2-4BB3-B07D-98B77B92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1914-512B-4A1B-B93A-631439D9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E269-B874-434B-B918-34DC439C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8265-A490-46DD-A910-F67C5F99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E04F-5FFD-48CC-AC97-0F48C7DD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F2E4-AB9D-43C6-BA5E-1D9CC8B3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CD1A-7231-4312-8236-4B88ECFD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6193-C388-48EE-A545-4A47EF3F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3795-9B99-4654-B180-9B104ED0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4BCF-7737-412C-A491-F0ECC42C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B85F-119D-449C-8384-1EFB83EE96F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E023-4B8A-4CF2-8A48-5CBF3978A835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9;&#1082;&#1072;&#1079;_&#1055;&#1088;&#1077;&#1079;&#1080;&#1076;&#1077;&#1085;&#1090;&#1072;_&#1056;&#1086;&#1089;&#1089;&#1080;&#1081;&#1089;&#1082;&#1086;&#1081;_&#1060;&#1077;&#1076;&#1077;&#1088;&#1072;&#1094;&#1080;&#1080;" TargetMode="External"/><Relationship Id="rId2" Type="http://schemas.openxmlformats.org/officeDocument/2006/relationships/hyperlink" Target="https://ru.wikipedia.org/wiki/4_&#1085;&#1086;&#1103;&#1073;&#1088;&#1103;" TargetMode="External"/><Relationship Id="rId3" Type="http://schemas.openxmlformats.org/officeDocument/2006/relationships/hyperlink" Target="https://ru.wikipedia.org/wiki/2010_&#1075;&#1086;&#1076;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0240" y="1481040"/>
            <a:ext cx="955836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Рисунок 3" descr="0024-024-Spasibo-za-vniman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Содержимое 4" descr="2.jpg"/>
          <p:cNvPicPr/>
          <p:nvPr/>
        </p:nvPicPr>
        <p:blipFill>
          <a:blip r:embed="rId1"/>
          <a:stretch/>
        </p:blipFill>
        <p:spPr>
          <a:xfrm>
            <a:off x="324000" y="1324080"/>
            <a:ext cx="8820000" cy="553392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1187280" y="189000"/>
            <a:ext cx="720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адивосток стал настоящим портом - крепостью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слонившим Советский Союз от могучего флота Япо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536400" y="12600"/>
            <a:ext cx="8242560" cy="1444680"/>
          </a:xfrm>
          <a:prstGeom prst="rect">
            <a:avLst/>
          </a:prstGeom>
          <a:ln w="0">
            <a:noFill/>
          </a:ln>
        </p:spPr>
      </p:pic>
      <p:pic>
        <p:nvPicPr>
          <p:cNvPr id="86" name="Содержимое 3" descr="3.jpg"/>
          <p:cNvPicPr/>
          <p:nvPr/>
        </p:nvPicPr>
        <p:blipFill>
          <a:blip r:embed="rId2"/>
          <a:stretch/>
        </p:blipFill>
        <p:spPr>
          <a:xfrm>
            <a:off x="324000" y="1413000"/>
            <a:ext cx="8388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5108400" y="324000"/>
            <a:ext cx="4529160" cy="6437160"/>
          </a:xfrm>
          <a:prstGeom prst="rect">
            <a:avLst/>
          </a:prstGeom>
          <a:ln w="0">
            <a:noFill/>
          </a:ln>
        </p:spPr>
      </p:pic>
      <p:pic>
        <p:nvPicPr>
          <p:cNvPr id="88" name="Содержимое 3" descr="4.jpg"/>
          <p:cNvPicPr/>
          <p:nvPr/>
        </p:nvPicPr>
        <p:blipFill>
          <a:blip r:embed="rId2"/>
          <a:stretch/>
        </p:blipFill>
        <p:spPr>
          <a:xfrm>
            <a:off x="-324000" y="836640"/>
            <a:ext cx="575964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302680" cy="153648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3" descr="5.jpg"/>
          <p:cNvPicPr/>
          <p:nvPr/>
        </p:nvPicPr>
        <p:blipFill>
          <a:blip r:embed="rId2"/>
          <a:srcRect l="0" t="0" r="0" b="4828"/>
          <a:stretch/>
        </p:blipFill>
        <p:spPr>
          <a:xfrm>
            <a:off x="0" y="1459080"/>
            <a:ext cx="914400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358480" cy="144612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3" descr="6.jpg"/>
          <p:cNvPicPr/>
          <p:nvPr/>
        </p:nvPicPr>
        <p:blipFill>
          <a:blip r:embed="rId2"/>
          <a:stretch/>
        </p:blipFill>
        <p:spPr>
          <a:xfrm>
            <a:off x="-112680" y="1600200"/>
            <a:ext cx="9256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13840" y="-360"/>
            <a:ext cx="87138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 u="sng">
                <a:solidFill>
                  <a:srgbClr val="410082"/>
                </a:solidFill>
                <a:uFillTx/>
                <a:latin typeface="Times New Roman"/>
                <a:hlinkClick r:id="rId1"/>
              </a:rPr>
              <a:t>Указом Президента Российской Федерации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№ 1333 от </a:t>
            </a:r>
            <a:r>
              <a:rPr b="0" lang="ru-RU" sz="2800" spc="-1" strike="noStrike" u="sng">
                <a:solidFill>
                  <a:srgbClr val="410082"/>
                </a:solidFill>
                <a:uFillTx/>
                <a:latin typeface="Times New Roman"/>
                <a:hlinkClick r:id="rId2"/>
              </a:rPr>
              <a:t>4 ноября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2010 год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городу Владивостоку присвоено почётное звание Российской Федерации «Город воинской славы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2" descr="File:Медведев и Шишкин.jpg"/>
          <p:cNvPicPr/>
          <p:nvPr/>
        </p:nvPicPr>
        <p:blipFill>
          <a:blip r:embed="rId4"/>
          <a:stretch/>
        </p:blipFill>
        <p:spPr>
          <a:xfrm>
            <a:off x="826920" y="1679400"/>
            <a:ext cx="7344000" cy="49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-360" y="0"/>
            <a:ext cx="3421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С 2010 года Владивосток 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носит почетное звание «Город воинской славы», присвоенное ему за мужество, стойкость и массовый героизм, проявленные защитниками города в борьбе за свободу и независимость Отечества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" descr="http://vladivostok-city.com/uploads/i/i/503a78246b8884.53669601.964.jpg"/>
          <p:cNvPicPr/>
          <p:nvPr/>
        </p:nvPicPr>
        <p:blipFill>
          <a:blip r:embed="rId1"/>
          <a:stretch/>
        </p:blipFill>
        <p:spPr>
          <a:xfrm>
            <a:off x="3708360" y="0"/>
            <a:ext cx="5040360" cy="31338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8.jpg"/>
          <p:cNvPicPr/>
          <p:nvPr/>
        </p:nvPicPr>
        <p:blipFill>
          <a:blip r:embed="rId2"/>
          <a:stretch/>
        </p:blipFill>
        <p:spPr>
          <a:xfrm>
            <a:off x="3635280" y="3375000"/>
            <a:ext cx="518472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7" descr="9.jpg"/>
          <p:cNvPicPr/>
          <p:nvPr/>
        </p:nvPicPr>
        <p:blipFill>
          <a:blip r:embed="rId1"/>
          <a:stretch/>
        </p:blipFill>
        <p:spPr>
          <a:xfrm>
            <a:off x="0" y="73512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99" name="TextBox 8"/>
          <p:cNvSpPr/>
          <p:nvPr/>
        </p:nvSpPr>
        <p:spPr>
          <a:xfrm>
            <a:off x="23400" y="0"/>
            <a:ext cx="94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ела напоминает о неизменной ценност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атриотизм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7:24:09Z</dcterms:created>
  <dc:creator>Familia</dc:creator>
  <dc:description/>
  <dc:language>en-US</dc:language>
  <cp:lastModifiedBy>userr</cp:lastModifiedBy>
  <dcterms:modified xsi:type="dcterms:W3CDTF">2016-09-11T05:47:35Z</dcterms:modified>
  <cp:revision>26</cp:revision>
  <dc:subject/>
  <dc:title>Владивосток город воинской славы</dc:title>
</cp:coreProperties>
</file>