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85B-F2BA-44BC-80D4-5340568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FCA-2075-4EC7-B511-9E2BF1A9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5D6-3218-4B58-B6F2-6B405DB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CF9-650A-43CE-9540-0B210E51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761-CEA9-4142-B6B4-8A2698DC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D9F-0C9D-4C9D-93EA-9F6DC134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FB4-A721-4B30-B9B1-C517C02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ED-B02E-4E4A-B9D5-5351813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0BE-FDF3-4D78-8F33-5905C050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42E-B5B8-4DE5-A38C-9D2D8A8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4F3-B8FF-40BE-86B8-5D9E691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B4C-C39F-449C-8135-3411580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0053-F519-4151-AC55-ABBEB51F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uroki.ru/" TargetMode="External"/><Relationship Id="rId2" Type="http://schemas.openxmlformats.org/officeDocument/2006/relationships/hyperlink" Target="http://www.biouroki.ru/" TargetMode="External"/><Relationship Id="rId3" Type="http://schemas.openxmlformats.org/officeDocument/2006/relationships/hyperlink" Target="http://www.biouroki.ru/" TargetMode="External"/><Relationship Id="rId4" Type="http://schemas.openxmlformats.org/officeDocument/2006/relationships/hyperlink" Target="http://www.biouroki.ru/" TargetMode="External"/><Relationship Id="rId5" Type="http://schemas.openxmlformats.org/officeDocument/2006/relationships/hyperlink" Target="http://school-collection.edu.ru/" TargetMode="External"/><Relationship Id="rId6" Type="http://schemas.openxmlformats.org/officeDocument/2006/relationships/hyperlink" Target="http://school-collection.edu.ru/" TargetMode="External"/><Relationship Id="rId7" Type="http://schemas.openxmlformats.org/officeDocument/2006/relationships/hyperlink" Target="http://school-collection.edu.ru/" TargetMode="External"/><Relationship Id="rId8" Type="http://schemas.openxmlformats.org/officeDocument/2006/relationships/hyperlink" Target="http://school-collection.edu.ru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екретова Наталия Василь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БОУ СОШ № 5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ского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ACF-A38B-463A-97D3-A46D6A3B46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58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B85-947F-4A8D-A8D8-0D6DB6FC69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E4A-A86B-47CD-9DC3-A80C7A55C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251460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41911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334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13716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36576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48006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354-8E8C-43AD-B755-414EB2CB6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Т.С. Сухова, В.И. Строганов «Биология».   5 класс. М.: Издательский центр «Вентана-Граф».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Биология: 5-6 классы: методическое пособие / Т.С. Сухова, В.И. Строганов. –              М. : Вентана- Граф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-ресурсы: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biouroki.ru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school-collection.edu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FC5-7DC4-4E0F-847D-F2598EA89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518184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3200400"/>
            <a:ext cx="335268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леточ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и жи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920"/>
            <a:ext cx="830592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ок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еточное строение – призна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ех живых орг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6DE-AD99-4A06-B067-B2747E32C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научиться сравнивать объекты живой природы на рисунках (с 17, рис 15)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апредметные УУД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ые: уметь формулировать проблему, извлекать необходимую из прослушанных текстов, сопоставлять биологический текст с иллюстрациями учебника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077-CDC1-4379-97E0-96CE47165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ставить учебную задачу на основе соотнесения того, что уже известно и освоено, и того, что ещё неизвестно, осознавать качество и уровень усвоения.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уметь с достаточной полнотой и точностью выражать свои мысли.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чностные УУД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у учащихся нравственно-этического оценивания места человека в окружающем ми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A6C-34A4-4956-A552-ED1989474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F97-18A3-4A98-A4A8-A6479AECD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185-EC85-4DE2-96AE-8EE4EB37A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77A-1B1E-4626-ABD0-EFDF143EF6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686800" cy="624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F42-E6A0-4F10-B025-D6A8305EE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9BB-5113-4004-A415-B1636424E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31T11:41:38Z</dcterms:created>
  <dc:creator>наталия</dc:creator>
  <dc:description/>
  <dc:language>en-US</dc:language>
  <cp:lastModifiedBy>наталия</cp:lastModifiedBy>
  <dcterms:modified xsi:type="dcterms:W3CDTF">2019-10-27T13:34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