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4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1EF-E221-48FB-A0FC-4B97E445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FAA-7D5E-4A5C-8739-6EDF682F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49A-49C6-4D82-A897-EB7A507B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A94-45DB-49FB-BA43-9DEDDE36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3C8A-A366-4B69-800F-B12BB4D0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714D-102D-4401-8EAA-64C8EF1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97CB-1581-451A-B0BF-C082EEDB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A740-7895-489C-87D0-CD7CBDD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C0F7-6D8B-4247-9EAD-28E6969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5FA9-2397-4589-8C2B-CC1D8347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2BDE-5C87-495D-A1AD-8559956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AEC-4174-4C95-B9CA-1A765482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ECAB-E65B-45FD-AFBD-CAB011E3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E5E0-8AC5-4721-94BD-A597471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B91C-B845-4661-ADFA-AFDA6A5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0A21-13B5-482D-8C12-49128298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AD73-BBF8-4E39-8B85-1CE314F3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1515-383F-45CD-AA8E-03F3E339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D787-B326-4774-B081-F1E405AE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118E-D4DE-48CA-B8C6-FF2E8CA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8F44-E0FF-4782-B70A-D5C8CC23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2FF9-9D85-4128-94F9-55D050C0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BB4-290A-47F6-9B2A-FE4BF17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B845-162D-451F-AD14-9072C1AC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5FA9-3EC5-4EE2-A7D3-DE804FFD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FB1E-4849-4023-8997-A420DB1E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5DBD-7374-4ED4-92B9-3302CF57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712D-0E43-4682-AB61-431E622A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D03B-8071-48ED-A594-E0E4D1DC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446D-4CA9-4C3E-A1A0-FD611E29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020A-EB17-404F-B8E4-B834EF9F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1A4F-F4D7-4BFC-BC11-C689847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180E-AF0B-463F-B1DE-153D010B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31F-0F19-41B2-96B0-18640AE7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7076-D8CD-47C4-A01E-CFD25FCB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2DB9-2025-4F11-85BF-39F18E25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9493-B646-453F-A54A-617A04B0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62350-24CA-40B3-9CCA-F94064D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B0485-0B15-4DF6-ADFC-AA37EA9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15C2-8E56-45B2-B5CF-CF789E0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F0662-6EB2-4AB2-9078-8D7F4DF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CA6B-216E-4797-A5F0-E38C4820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FED6-D2A7-447C-9779-FE593D6F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97F7A-F0F9-432C-BC05-FCDB7326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D4C-751B-448E-9C52-D980E81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D183-69FC-4FF9-9568-AD24A5F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B1F0-3AF6-4BA8-97F9-6087C7B6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B2E9-0C4B-47E5-98DB-6DA36E9F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BA6FF-6C04-4F90-8892-D89E32AB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53E4-E0FD-4936-A871-5F14AE50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6B78-9B08-4007-83B4-8976315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E1900-FE7B-4B71-93B1-82EA0D3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7578-8B1C-45E1-8506-51995D78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1E16-420A-4C29-B584-E07FDF4B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669F7-E9BF-4CBF-8990-2655410C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E09-13D0-4921-803B-AAD2C070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CCC48-817D-4255-9343-B26F09DC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112F-099C-4037-905F-8D28F656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1737-481D-458D-85DD-6FCCB85F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05CF7-C64F-4186-9762-76D23CE6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723D-B3FD-4983-90CE-C099EEFA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A7B4-AE92-4957-88FB-C31E6B5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5A6EB-76E1-4C2B-9C42-6FBFED64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506B-1F66-4F3F-8DAE-90602CB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2BC7-8763-42BB-9ED2-DB28E42E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EE43-A3DC-474C-AC9D-5CF08DB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74C-5053-4328-8A3E-C9A2B8F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125F-692D-44A6-A07C-82FF841B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0E8C-C441-48C3-A5F4-8FE32DE4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C3042-9641-4A96-89F4-15FCF2A4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B7CE1-11F5-48C9-8549-A89AB228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286D4-9467-4E74-9A44-3E67BBFE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B9BFF-A7E6-481E-99AF-54B21487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5EF43-1D30-4C3F-A574-88E8E36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BAB6-B8E7-4CFA-A3EF-1D1DC211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40058-516B-4565-869E-D39A2FFE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D1E20-69A9-4B43-B578-57118ADA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EE9-4F54-4F1E-BFD3-194A78D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84741-DF09-4CC1-AECF-5FF7EE5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1BB74-2127-4785-85FB-AE70C28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257F-F02F-45C9-83CE-7D305102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ACBF-8622-4C95-9073-E23B953E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3422C-0838-4330-A3EC-0189FD21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79E-D389-4712-96A3-5859032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025D-1812-4D2E-AB24-B957B87E5A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E47C-68BB-4A44-BBA7-EDBB6FF41D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F67E-8E4B-4B37-8D34-789F3D5AFD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1509-083E-4F10-8BA2-31B0654F4A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ABD5-77B7-4024-A6AE-A4907627D7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BFA5-B873-4C51-8B72-56FBB9E932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C3F-DEC3-40B3-9B83-0C8465046E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18572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наешь ли ты свой край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спользуемые интернет-ресурс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hotel-kremlin.r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velosamara.r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syzran-small.ne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осс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осси́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(от греч. Ρωσία — Русь) — страна, расположенная в Восточной Европе и Северной Азии. Является самым большим государством мира (17 075 400 км² или 11,46 % площади всей суши Земли, или 12,65 % заселённой человеком суши, что почти вдвое больше, чем у занимающей второе место Канады)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4" descr="Россия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214280" y="421488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Герб России"/>
          <p:cNvPicPr/>
          <p:nvPr/>
        </p:nvPicPr>
        <p:blipFill>
          <a:blip r:embed="rId2"/>
          <a:stretch/>
        </p:blipFill>
        <p:spPr>
          <a:xfrm>
            <a:off x="5429160" y="450072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Russian Federation (orthographic projection).svg"/>
          <p:cNvPicPr/>
          <p:nvPr/>
        </p:nvPicPr>
        <p:blipFill>
          <a:blip r:embed="rId3"/>
          <a:stretch/>
        </p:blipFill>
        <p:spPr>
          <a:xfrm>
            <a:off x="7286760" y="2858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>
            <a:off x="3429000" y="6357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Флаг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478620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Герб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амарская обла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71280" y="1285920"/>
            <a:ext cx="79628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ама́рская о́бла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— субъект Российской Федерации, входит в состав Приволжского федерального округ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дминистративный центр — город Сама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раничит с Саратовской, Ульяновской, Оренбургской областями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 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спубликой Татарстан. Из-за близости границы с Западно-Казахстанской областью Казахстана часть Большечерниговсого района имеет статус приграничной территор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 декабря 1850 года вышел Указ императора Николая I правительствующему Сенату об образовании Самарской губерн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4 мая 1928 года образована как Средневолжская область. В 1929 году переименована в Средневолжский край, в1935 году — в Куйбышевский край. В период с 1936 года по 1990 год называлась Куйбышевской областью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Герб Самарской области"/>
          <p:cNvPicPr/>
          <p:nvPr/>
        </p:nvPicPr>
        <p:blipFill>
          <a:blip r:embed="rId1"/>
          <a:stretch/>
        </p:blipFill>
        <p:spPr>
          <a:xfrm>
            <a:off x="7170840" y="4714920"/>
            <a:ext cx="1571400" cy="1500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Флаг Самарской области"/>
          <p:cNvPicPr/>
          <p:nvPr/>
        </p:nvPicPr>
        <p:blipFill>
          <a:blip r:embed="rId2"/>
          <a:stretch/>
        </p:blipFill>
        <p:spPr>
          <a:xfrm>
            <a:off x="1785960" y="5411880"/>
            <a:ext cx="2571840" cy="12859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4357800" y="58770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Флаг Самар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6246720" y="6308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Герб Самар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4" descr=""/>
          <p:cNvPicPr/>
          <p:nvPr/>
        </p:nvPicPr>
        <p:blipFill>
          <a:blip r:embed="rId1"/>
          <a:stretch/>
        </p:blipFill>
        <p:spPr>
          <a:xfrm>
            <a:off x="-20520" y="404640"/>
            <a:ext cx="4808520" cy="37166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572000" cy="37166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" descr=""/>
          <p:cNvPicPr/>
          <p:nvPr/>
        </p:nvPicPr>
        <p:blipFill>
          <a:blip r:embed="rId3"/>
          <a:stretch/>
        </p:blipFill>
        <p:spPr>
          <a:xfrm>
            <a:off x="2484360" y="3573360"/>
            <a:ext cx="3024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ызран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56840" y="2565000"/>
            <a:ext cx="74977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ы́зрань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— город в Самарской области Российской Федерации. Административный центр Сызранского района. Расположен на правом берегу Саратовского водохранилища реки Волг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исленность населения — 173 тыс. человек (2017 г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ород расположен у подножия Приволжской возвышенности, на правом берегу реки Волга (Саратовское водохранилище), в устье реки Сызранка, в 137 км к западу от Самары вниз по течению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лижайший город — Октябрьск находится в 19 к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Герб"/>
          <p:cNvPicPr/>
          <p:nvPr/>
        </p:nvPicPr>
        <p:blipFill>
          <a:blip r:embed="rId1"/>
          <a:stretch/>
        </p:blipFill>
        <p:spPr>
          <a:xfrm>
            <a:off x="5435640" y="274680"/>
            <a:ext cx="2106720" cy="20858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7596360" y="171468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Герб Сыз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http://www.syzran-small.net/albums/svysoty/2_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2" descr="http://www.velosamara.ru/route/pylyavskiy/large/Syzr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www.syzran-small.net/albums/histfoto/hist11.jpg"/>
          <p:cNvPicPr/>
          <p:nvPr/>
        </p:nvPicPr>
        <p:blipFill>
          <a:blip r:embed="rId1"/>
          <a:stretch/>
        </p:blipFill>
        <p:spPr>
          <a:xfrm rot="240600">
            <a:off x="471240" y="-91800"/>
            <a:ext cx="5643360" cy="3459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www.hotel-kremlin.ru/images/foto/Kreml_big.jpg"/>
          <p:cNvPicPr/>
          <p:nvPr/>
        </p:nvPicPr>
        <p:blipFill>
          <a:blip r:embed="rId2"/>
          <a:stretch/>
        </p:blipFill>
        <p:spPr>
          <a:xfrm rot="20781600">
            <a:off x="3973680" y="2192400"/>
            <a:ext cx="5518080" cy="4071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Картинка 2 из 271"/>
          <p:cNvPicPr/>
          <p:nvPr/>
        </p:nvPicPr>
        <p:blipFill>
          <a:blip r:embed="rId3"/>
          <a:stretch/>
        </p:blipFill>
        <p:spPr>
          <a:xfrm rot="627600">
            <a:off x="0" y="368604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http://img1.liveinternet.ru/images/foto/b/3/681/3275681/f_18051168.jpg"/>
          <p:cNvPicPr/>
          <p:nvPr/>
        </p:nvPicPr>
        <p:blipFill>
          <a:blip r:embed="rId1"/>
          <a:stretch/>
        </p:blipFill>
        <p:spPr>
          <a:xfrm>
            <a:off x="0" y="-28584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2:55:46Z</dcterms:created>
  <dc:creator>Андрей</dc:creator>
  <dc:description/>
  <dc:language>en-US</dc:language>
  <cp:lastModifiedBy>user</cp:lastModifiedBy>
  <dcterms:modified xsi:type="dcterms:W3CDTF">2020-02-06T17:46:23Z</dcterms:modified>
  <cp:revision>10</cp:revision>
  <dc:subject/>
  <dc:title>Знаешь ли ты свой край?</dc:title>
</cp:coreProperties>
</file>