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CCA1-ABC6-4936-9105-A16321D1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68B1-8B12-4C28-AE3B-B1FC3CE8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78E2-00A5-43FC-B09B-669E88F2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BE69-F713-4CC4-B444-0BC004E4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7D39-7EF6-4B09-9BE3-12AA0A1B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6F34-B1F5-4367-87F4-F9DF32FD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1727-5E57-4073-9E33-D34C1A35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A4A7-E64B-47BA-8607-97BCEEC8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309F-D141-4B01-8AE0-B1D621D4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AD5B-8ED7-414E-9583-35C8DAEF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90F6-5D46-494C-9154-F178F60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23C8-6835-4591-A3A1-CBB96D61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5555-08A6-4C00-9A92-CFBFAC0C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4B7A-2936-4581-911E-E0C2036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FEE7-CDB7-4175-8F15-7BE58524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ED0A-55BF-4BF4-93DC-F032A0DA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7094-EFD0-4894-A7C7-9F1933E7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C4DE-C088-42EF-8EBD-63A815BC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7B5D-68C5-4719-8745-931936D6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3014-C24A-4A69-A465-71D3401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9DD9-5E00-445A-B508-C8D96FFA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7B6E0-EE20-4821-A944-11C68E64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3BD4-9DCC-4A8D-A874-74F7303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9413-FD1F-48AB-AA28-FC597D9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E678-3069-409A-B4C3-D84264836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/>
              <a:ahLst/>
              <a:rect l="l" t="t" r="r" b="b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/>
              <a:ahLst/>
              <a:rect l="l" t="t" r="r" b="b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/>
              <a:ahLst/>
              <a:rect l="l" t="t" r="r" b="b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/>
              <a:ahLst/>
              <a:rect l="l" t="t" r="r" b="b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/>
              <a:ahLst/>
              <a:rect l="l" t="t" r="r" b="b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/>
              <a:ahLst/>
              <a:rect l="l" t="t" r="r" b="b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/>
              <a:ahLst/>
              <a:rect l="l" t="t" r="r" b="b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/>
              <a:ahLst/>
              <a:rect l="l" t="t" r="r" b="b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8960"/>
            <a:ext cx="7314840" cy="4572360"/>
            <a:chOff x="914760" y="1218960"/>
            <a:chExt cx="7314840" cy="457236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8600" y="1218960"/>
              <a:ext cx="864720" cy="4547520"/>
              <a:chOff x="1128600" y="1218960"/>
              <a:chExt cx="864720" cy="454752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8600" y="122904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6880" y="121896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70496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93320" y="1243080"/>
                <a:ext cx="0" cy="45219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6760"/>
              <a:ext cx="7314840" cy="4094640"/>
              <a:chOff x="914760" y="1436760"/>
              <a:chExt cx="7314840" cy="409464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6760"/>
                <a:ext cx="7295040" cy="820440"/>
                <a:chOff x="914760" y="1436760"/>
                <a:chExt cx="729504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67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14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50400" y="198216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736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200" y="2521080"/>
                <a:ext cx="7295400" cy="820080"/>
                <a:chOff x="934200" y="2521080"/>
                <a:chExt cx="7295400" cy="82008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200" y="252108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9440" y="27957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9840" y="306612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800" y="33411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6640"/>
                <a:ext cx="7295040" cy="820440"/>
                <a:chOff x="914760" y="3626640"/>
                <a:chExt cx="72950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66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132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50400" y="417204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7360" y="444708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200" y="4710960"/>
                <a:ext cx="7295400" cy="820440"/>
                <a:chOff x="934200" y="4710960"/>
                <a:chExt cx="7295400" cy="82044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200" y="47109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9440" y="498564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9840" y="525636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800" y="5531400"/>
                  <a:ext cx="7220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8240" y="1243440"/>
              <a:ext cx="864720" cy="4547880"/>
              <a:chOff x="2298240" y="1243440"/>
              <a:chExt cx="864720" cy="454788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824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652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7460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6296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4440" y="1243440"/>
              <a:ext cx="864720" cy="4547880"/>
              <a:chOff x="3484440" y="1243440"/>
              <a:chExt cx="864720" cy="454788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444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6272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6080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916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70640" y="1243440"/>
              <a:ext cx="864720" cy="4547880"/>
              <a:chOff x="4670640" y="1243440"/>
              <a:chExt cx="864720" cy="454788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7064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892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700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536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06080" y="1243440"/>
              <a:ext cx="864720" cy="4547880"/>
              <a:chOff x="5806080" y="1243440"/>
              <a:chExt cx="864720" cy="454788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0608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436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8244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7080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7800" y="1243440"/>
              <a:ext cx="864720" cy="4547880"/>
              <a:chOff x="6967800" y="1243440"/>
              <a:chExt cx="864720" cy="454788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7800" y="125352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6080" y="124344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44160" y="126756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32520" y="1267560"/>
                <a:ext cx="0" cy="45223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422-8FDE-4DF3-8D0A-1ED42643EB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интаксис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ункту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ение в начале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числите разделы науки от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несите данные определения с раздел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стоимение, гласный, суффикс,запятая, подлежащее, вид глагола, словосочетание, точка, звук, окончание, чер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ишите только словосоче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рандаш и ручка, после уроков, тридцать три, доволен результатом, девочка пишет, чудесное утро, около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ите разбор словосоче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ечн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л краси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евочка пиш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аспространите его второстепенными член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051109"/>
          <p:cNvPicPr/>
          <p:nvPr/>
        </p:nvPicPr>
        <p:blipFill>
          <a:blip r:embed="rId1"/>
          <a:stretch/>
        </p:blipFill>
        <p:spPr>
          <a:xfrm>
            <a:off x="6400800" y="1219320"/>
            <a:ext cx="2666880" cy="3276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йте характеристику предлож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изведите синтаксический разбор предло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2438280"/>
            <a:ext cx="723924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вет проникал в саму глубину ущелья и на дне реки разжигал костры из разноцветных камн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апро (4)"/>
          <p:cNvPicPr/>
          <p:nvPr/>
        </p:nvPicPr>
        <p:blipFill>
          <a:blip r:embed="rId1"/>
          <a:stretch/>
        </p:blipFill>
        <p:spPr>
          <a:xfrm>
            <a:off x="0" y="1447920"/>
            <a:ext cx="263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метьте нераспространен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т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Зимни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шел пое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октябре похолод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апро (3)"/>
          <p:cNvPicPr/>
          <p:nvPr/>
        </p:nvPicPr>
        <p:blipFill>
          <a:blip r:embed="rId1"/>
          <a:stretch/>
        </p:blipFill>
        <p:spPr>
          <a:xfrm>
            <a:off x="5807160" y="1981080"/>
            <a:ext cx="30128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кажите сложные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.Снова нахмурилось небо и буд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н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.Березка мила и при солнце и в серый день и при дожд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.Я сел под деревом и вскоре усну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. Солнце село и тусклые тучи висели на темной степ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 Он рощи полюбил густые уединенье тишину и ночь и звезды и лу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АВЬТЕ ЗНАКИ ПРЕП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авьте знаки препи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огда закат пр..щальными лучами спокойных вод оз..л..тит стекло и ляж..т тень ночная над п..лями и зам..лчит весёлое село  с какой отрадой непонятной на мир я в этот час гляжу и в тишине природы необ..ятной покой уму и сер..цу на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5-09-02T17:36:00Z</dcterms:modified>
  <cp:revision>9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