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0160" y="878040"/>
            <a:ext cx="44737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0B202-08A0-4BEE-B7BC-E208A0FB9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21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2EC6-1255-4D55-AB6B-9D9CA2744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482B-8DC5-4E34-9783-EB698D553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293D-0EE8-43CC-93B6-3A085F7EC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3C75-4EAA-4F7B-AA19-AAFF9BC9C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E1CC-C6A8-4160-B290-6873E1148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0AEB-9CFB-4815-A629-5F13E8D2D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78BF-BF04-4F7E-81D2-274CF6FA0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4BD2-23AB-4532-A428-8A2F82C15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CB90-F157-404A-88B2-343B48A3C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7612-12C3-474A-AC31-7ED29A282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14E4-4313-4CF7-A365-0507547A8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D523-F986-4B11-ABC8-8AE22546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89DE3D-95AD-4F57-AE92-50C37FB56B8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2428920"/>
            <a:ext cx="813744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на тему:  Гигиена 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0160" y="714240"/>
            <a:ext cx="557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Lucida Sans Unicode"/>
              </a:rPr>
              <a:t>МБОУ Карасартовская ООШ Карасукского района Новосибир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643040" y="4643280"/>
            <a:ext cx="621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полнила обучающаяся 9 класса Мустафинова Камил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рт2019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79280" y="115920"/>
            <a:ext cx="8229600" cy="6323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Lucida Sans Unicode"/>
              </a:rPr>
              <a:t>Гигиеническое значение вод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Lucida Sans Unicode"/>
              </a:rPr>
              <a:t>Вода используется для:</a:t>
            </a:r>
            <a:br>
              <a:rPr sz="2400"/>
            </a:b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даления нечистот через канализационную сеть - 41 %,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держки чистоты тела- 37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готовления еды и мытья посуды - 6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питья - 5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ирки белья - 4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борки жилья и общественных помещений - 3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лива улиц и зеленых насаждений- 3 %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мойки автомобиля - 1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79280" y="189000"/>
            <a:ext cx="8229600" cy="57211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Эпидемиологическое значени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Загрязненная вода может быть причиной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Lucida Sans Unicode"/>
              </a:rPr>
              <a:t>возникновения острых желудочно-кишечных инфе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таких как холера, брюшной тиф, паратифы, бактериальная и амебная дизентер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Lucida Sans Unicode"/>
              </a:rPr>
              <a:t>острые энтериты инфекционного характера и  др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то в значительной степен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зависит 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условий водоснабжения, санитарной очистки населенных мест, уровня санитарной культуры  насел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0" y="260280"/>
            <a:ext cx="8229600" cy="5865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Доброкачественная питьевая вода должна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Безопасной в эпидемиологическом отношени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ода не должна содержать патогенных микробов, вирусов и других биологических включений, опасных для здоровья потреб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Безвредной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 по химическому состав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то есть быть самой благоприятной с физиологической точки зрения) и не ограничивать ее использование  в бы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Безопасной в радиационном отнош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Lucida Sans Unicode"/>
              </a:rPr>
              <a:t>МЕТЬ ХОРОШИЕ ОРГАНОЛЕПТИЧЕСК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Lucida Sans Unicode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Lucida Sans Unicode"/>
              </a:rPr>
              <a:t>СВОЙ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быть прозрачной, без цвета, не иметь никакого привкуса или запах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826920" y="2840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 CYR"/>
                <a:ea typeface="Lucida Sans Unicode"/>
              </a:rPr>
              <a:t>Виживание патогенных микроорганизмов в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557360"/>
          <a:ext cx="7561080" cy="6327720"/>
        </p:xfrm>
        <a:graphic>
          <a:graphicData uri="http://schemas.openxmlformats.org/drawingml/2006/table">
            <a:tbl>
              <a:tblPr/>
              <a:tblGrid>
                <a:gridCol w="3233520"/>
                <a:gridCol w="1879560"/>
                <a:gridCol w="2448000"/>
              </a:tblGrid>
              <a:tr h="808920">
                <a:tc rowSpan="2">
                  <a:txBody>
                    <a:bodyPr lIns="90000" rIns="90000" tIns="1490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Микроорганиз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490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Виживание (в днях) в во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Колоде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Ре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Кишечная палоч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21-1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Возбудители брюшного тиф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71,5-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4-1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Бактерии дизенте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12-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Холерный вибри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1-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0,5-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Лептоспи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7-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до 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Возбудители тулярем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12-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7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Бруцел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4-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900000" y="89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 CYR"/>
                <a:ea typeface="Lucida Sans Unicode"/>
              </a:rPr>
              <a:t>Микробиологические показатели безопасности питьевой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1066680"/>
          <a:ext cx="7778880" cy="5900760"/>
        </p:xfrm>
        <a:graphic>
          <a:graphicData uri="http://schemas.openxmlformats.org/drawingml/2006/table">
            <a:tbl>
              <a:tblPr/>
              <a:tblGrid>
                <a:gridCol w="1079640"/>
                <a:gridCol w="2305080"/>
                <a:gridCol w="2214360"/>
                <a:gridCol w="2179800"/>
              </a:tblGrid>
              <a:tr h="669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Наименование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Единицы изме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Нормати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Число бактерий в 1 см</a:t>
                      </a:r>
                      <a:r>
                        <a:rPr b="0" lang="ru-RU" sz="1400" spc="-1" strike="noStrike" baseline="30000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 воды, которая исследуется (ОМЧ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Колонийобразующие единицы (микроорганизмы)/см</a:t>
                      </a:r>
                      <a:r>
                        <a:rPr b="0" lang="ru-RU" sz="1400" spc="-1" strike="noStrike" baseline="30000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 КОО/см</a:t>
                      </a:r>
                      <a:r>
                        <a:rPr b="0" lang="ru-RU" sz="1400" spc="-1" strike="noStrike" baseline="30000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не более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Число бактерий группы кишечных палочек (колоний образующих микроорганизмов) в 1 дм</a:t>
                      </a:r>
                      <a:r>
                        <a:rPr b="0" lang="ru-RU" sz="1400" spc="-1" strike="noStrike" baseline="30000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 воды, которая исследуется (индекс БГКП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Колонийобразующие единицы (микроорганизмы)/ дм</a:t>
                      </a:r>
                      <a:r>
                        <a:rPr b="0" lang="ru-RU" sz="1400" spc="-1" strike="noStrike" baseline="30000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8000"/>
                          </a:solidFill>
                          <a:latin typeface="Times New Roman CYR"/>
                          <a:ea typeface="Lucida Sans Unicode"/>
                        </a:rPr>
                        <a:t>не более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Число термостабильных кишечных палочек (фекальных колиформ - индекс ФК) в 100 с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 води, которая исследует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Колонийобразующие единицы (микроорганизмы)/100 с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 КОО/100 с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отсут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Число патогенных микроорганизмов в 1 дм3 воды которая исследует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Колонийобразующие единицы (микроорганизмы)/д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 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КОО/д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отсутств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Число колифагов у 1 д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 воды, которая исследует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Бляшкообразующие единицы/д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 БОО/дм</a:t>
                      </a:r>
                      <a:r>
                        <a:rPr b="0" lang="ru-RU" sz="14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отсут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Токсикологические показатели безвредности химического состава питьевой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8137440" cy="4965840"/>
        </p:xfrm>
        <a:graphic>
          <a:graphicData uri="http://schemas.openxmlformats.org/drawingml/2006/table">
            <a:tbl>
              <a:tblPr/>
              <a:tblGrid>
                <a:gridCol w="630360"/>
                <a:gridCol w="3474720"/>
                <a:gridCol w="1295640"/>
                <a:gridCol w="1434960"/>
                <a:gridCol w="1301760"/>
              </a:tblGrid>
              <a:tr h="100548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 CYR"/>
                          <a:ea typeface="Lucida Sans Unicode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 CYR"/>
                          <a:ea typeface="Lucida Sans Unicode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 CYR"/>
                          <a:ea typeface="Lucida Sans Unicode"/>
                        </a:rPr>
                        <a:t>Единицы измере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 CYR"/>
                          <a:ea typeface="Lucida Sans Unicode"/>
                        </a:rPr>
                        <a:t>Нормативы (не боле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 CYR"/>
                          <a:ea typeface="Lucida Sans Unicode"/>
                        </a:rPr>
                        <a:t>Клас опас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800">
                <a:tc gridSpan="5"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Неорганические компон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2 (0,5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Ба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ыш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2984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С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507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Ник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Нитр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</a:tr>
              <a:tr h="42912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476280"/>
          <a:ext cx="8221680" cy="4732200"/>
        </p:xfrm>
        <a:graphic>
          <a:graphicData uri="http://schemas.openxmlformats.org/drawingml/2006/table">
            <a:tbl>
              <a:tblPr/>
              <a:tblGrid>
                <a:gridCol w="264960"/>
                <a:gridCol w="216000"/>
                <a:gridCol w="3616200"/>
                <a:gridCol w="1376280"/>
                <a:gridCol w="1374840"/>
                <a:gridCol w="1373400"/>
              </a:tblGrid>
              <a:tr h="606960">
                <a:tc gridSpan="6">
                  <a:txBody>
                    <a:bodyPr lIns="90000" rIns="90000" tIns="1490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Органические компонен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gridSpan="2"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Тригалометаны (ТГМ, сум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97160">
                <a:tc gridSpan="2"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хлорофор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97160">
                <a:tc gridSpan="2"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дибромхлорме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97160">
                <a:tc gridSpan="2"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тетрахлоруглер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eaef0"/>
                    </a:solidFill>
                  </a:tcPr>
                </a:tc>
              </a:tr>
              <a:tr h="439560">
                <a:tc gridSpan="2"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Пестициды (сумм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ff2ac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 gridSpan="6">
                  <a:txBody>
                    <a:bodyPr lIns="90000" rIns="90000" tIns="1490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Интегральные 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2"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Окисляемость (КМnO</a:t>
                      </a:r>
                      <a:r>
                        <a:rPr b="0" lang="ru-RU" sz="2000" spc="-1" strike="noStrike" baseline="-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2">
                  <a:txBody>
                    <a:bodyPr lIns="90000" rIns="90000" tIns="1198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Общий органический углер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20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24"/>
          <p:cNvSpPr/>
          <p:nvPr/>
        </p:nvSpPr>
        <p:spPr>
          <a:xfrm>
            <a:off x="250920" y="5373360"/>
            <a:ext cx="873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 CYR"/>
                <a:ea typeface="Lucida Sans Unicode"/>
              </a:rPr>
              <a:t>Примечание</a:t>
            </a:r>
            <a:r>
              <a:rPr b="0" lang="ru-RU" sz="2000" spc="-1" strike="noStrike">
                <a:solidFill>
                  <a:srgbClr val="008000"/>
                </a:solidFill>
                <a:latin typeface="Times New Roman CYR"/>
                <a:ea typeface="Lucida Sans Unicode"/>
              </a:rPr>
              <a:t>:* - величина, обозначенная в скобках, допускается при обработке воды реагентами, которые содержат алюми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 CYR"/>
                <a:ea typeface="Lucida Sans Unicode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Times New Roman CYR"/>
                <a:ea typeface="Lucida Sans Unicode"/>
              </a:rPr>
              <a:t>** - перечень контрольных пестицидов устанавливают с учетом конкретной ситу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9280" y="476280"/>
            <a:ext cx="8229600" cy="59040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употреблении воды с повышенной концентрацией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нитрат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озможно возникновение метгемоглобинем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торая сопровождается токсическим циан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аще всего метгемоглобинемией болеют дети, которым молочные смеси готовят на воде, в которой содержание нитратов превыш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45 мг/д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итраты в пищеварительном канале детей с помощью ацидофильной микрофлоры восстанавливаются в нитриты. Последние, всасываясь в кровь и соединившись с гемоглобином крови, образуют метгемоглобин, который 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особен переносить кислоро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Предельно допустимая концентрация нитритов в водопроводной воде – 0,002 мг/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ДМ</a:t>
            </a:r>
            <a:r>
              <a:rPr b="1" lang="ru-RU" sz="1800" spc="-1" strike="noStrike" u="sng" baseline="30000">
                <a:solidFill>
                  <a:srgbClr val="000000"/>
                </a:solidFill>
                <a:uFillTx/>
                <a:latin typeface="Arial"/>
                <a:ea typeface="Lucida Sans Unicode"/>
              </a:rPr>
              <a:t>3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79280" y="260280"/>
            <a:ext cx="8229600" cy="5792760"/>
          </a:xfrm>
          <a:prstGeom prst="rect">
            <a:avLst/>
          </a:prstGeom>
          <a:solidFill>
            <a:srgbClr val="bbe0e3"/>
          </a:solidFill>
          <a:ln cap="sq"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Нормальное  содерж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фтора в во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Lucida Sans Unicode"/>
              </a:rPr>
              <a:t>от 0,7 до 1,5 мг/дм</a:t>
            </a:r>
            <a:r>
              <a:rPr b="1" lang="ru-RU" sz="2800" spc="-1" strike="noStrike" baseline="30000">
                <a:solidFill>
                  <a:srgbClr val="0000ff"/>
                </a:solidFill>
                <a:latin typeface="Arial"/>
                <a:ea typeface="Lucida Sans Unicode"/>
              </a:rPr>
              <a:t>3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Lucida Sans Unicode"/>
              </a:rPr>
              <a:t> способствует нормальному развитию и минерализации костей и зуб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достаточное количество фтора в воде - меньше 0,7 мг/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приводит к развитию кариеса зубов (гнилые зуб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79280" y="104760"/>
            <a:ext cx="8229600" cy="131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Lucida Sans Unicode"/>
              </a:rPr>
              <a:t>Повышенное содержание ф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1484280"/>
            <a:ext cx="8229600" cy="4525920"/>
          </a:xfrm>
          <a:prstGeom prst="rect">
            <a:avLst/>
          </a:prstGeom>
          <a:solidFill>
            <a:srgbClr val="eff2ac"/>
          </a:solidFill>
          <a:ln cap="sq" w="9360">
            <a:solidFill>
              <a:srgbClr val="eff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держание фтора в во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Lucida Sans Unicode"/>
              </a:rPr>
              <a:t>более 5 мг/дм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-- вызывает поражение не только зубов но и костно- суставного аппар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вышенное содержание фто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свыше 1,5 мг/дм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ызывает флюороз, который проявляется поражением эмали зубов в виде пигментированных желтых и коричневых пят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378240" y="4464000"/>
            <a:ext cx="2381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1403280" y="1557360"/>
            <a:ext cx="6330960" cy="5000760"/>
            <a:chOff x="1403280" y="1557360"/>
            <a:chExt cx="6330960" cy="500076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tretch/>
          </p:blipFill>
          <p:spPr>
            <a:xfrm>
              <a:off x="1403280" y="1557360"/>
              <a:ext cx="6330960" cy="50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"/>
            <p:cNvSpPr/>
            <p:nvPr/>
          </p:nvSpPr>
          <p:spPr>
            <a:xfrm>
              <a:off x="1403280" y="1557360"/>
              <a:ext cx="633096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Rectangle 4"/>
          <p:cNvSpPr/>
          <p:nvPr/>
        </p:nvSpPr>
        <p:spPr>
          <a:xfrm>
            <a:off x="324000" y="26028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да является одним из важнейших элементов биосферы. Без воды невозможная жизнь людей, животных и растений. Человек без воды может прожить не более 5-6 су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08000" y="189000"/>
            <a:ext cx="8229600" cy="1143000"/>
          </a:xfrm>
          <a:prstGeom prst="rect">
            <a:avLst/>
          </a:prstGeom>
          <a:solidFill>
            <a:srgbClr val="f3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  <a:ea typeface="Lucida Sans Unicode"/>
              </a:rPr>
              <a:t>профилактика карие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38040" y="13320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 целью профилактики кариеса зубов на главных сооружениях водопроводов проводят обогащение воды фто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Lucida Sans Unicode"/>
              </a:rPr>
              <a:t>Фторирование 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проводят фторидом натрия или кремнефтористым натр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914560" y="36352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620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Радиационная безопасность питьев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ределяется в Бк/д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по предельно допустимым уровням суммарной активности альфа- и бета- излуч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71640" y="458136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щая объемная активность альфа- излучателей не должна превышать 0,1 Бк/дм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Бета- излучателей  - 1,0 Бк/дм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  <a:ea typeface="Lucida Sans Unicode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125360"/>
          <a:ext cx="7850160" cy="5618520"/>
        </p:xfrm>
        <a:graphic>
          <a:graphicData uri="http://schemas.openxmlformats.org/drawingml/2006/table">
            <a:tbl>
              <a:tblPr/>
              <a:tblGrid>
                <a:gridCol w="1077840"/>
                <a:gridCol w="2665440"/>
                <a:gridCol w="1369800"/>
                <a:gridCol w="1513080"/>
                <a:gridCol w="1224000"/>
              </a:tblGrid>
              <a:tr h="7696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Наименование показател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Единицы измере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Нормативы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(не более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Клас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imes New Roman CYR"/>
                          <a:ea typeface="Lucida Sans Unicode"/>
                        </a:rPr>
                        <a:t>опасност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Зап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ПР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утност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НЕМ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5 (1,5)**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Цветност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гра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0 (3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Привку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ПР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Водородный показатель, рН, в диапаз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единиц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6,5-8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инерализация общая (сухой остаток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000 (150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Жесткость общ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-экв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7 (1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Сульфат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50 (50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Хлорид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250 (35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ед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1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аргане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Желез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9999"/>
                          </a:solidFill>
                          <a:latin typeface="Times New Roman CYR"/>
                          <a:ea typeface="Lucida Sans Unicode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Хлорфенол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мг/дм</a:t>
                      </a:r>
                      <a:r>
                        <a:rPr b="0" lang="ru-RU" sz="1500" spc="-1" strike="noStrike" baseline="30000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0,00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 CYR"/>
                          <a:ea typeface="Lucida Sans Unicode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32"/>
          <p:cNvSpPr/>
          <p:nvPr/>
        </p:nvSpPr>
        <p:spPr>
          <a:xfrm>
            <a:off x="684360" y="260280"/>
            <a:ext cx="77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Органолептические показатели качества питьев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39640" y="457200"/>
            <a:ext cx="7232760" cy="5181480"/>
          </a:xfrm>
          <a:prstGeom prst="rect">
            <a:avLst/>
          </a:prstGeom>
          <a:noFill/>
          <a:ln cap="sq"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щая жесткость 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преимущественно предопределяется присутствием в ней карбонатов, бикарбонатов, хлоридов, сульфат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ругих соединений кальция и маг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личают карбонатную (устранимую) и постоянную жесткость(неустраниму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льций из многих пищевых продуктов усваивается лишь на 30 %, тогда как кальций питьевой воды - на 90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1600" y="380880"/>
            <a:ext cx="6400800" cy="5257800"/>
          </a:xfrm>
          <a:prstGeom prst="rect">
            <a:avLst/>
          </a:prstGeom>
          <a:noFill/>
          <a:ln cap="sq"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  <a:ea typeface="Lucida Sans Unicode"/>
              </a:rPr>
              <a:t>Хлориды (ион хло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есные воды преимущественно содержат до 30-50 мг/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хлоридов. Если их количество превышает 350-500 мг/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такие воды имеют соленый привкус и неблагоприятно влияют на желудочную секре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держание хлоридов в водопроводной питьевой воде не должно превышать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  <a:ea typeface="Lucida Sans Unicode"/>
              </a:rPr>
              <a:t>250 мг/дм</a:t>
            </a:r>
            <a:r>
              <a:rPr b="1" lang="ru-RU" sz="2800" spc="-1" strike="noStrike" baseline="30000">
                <a:solidFill>
                  <a:srgbClr val="99cc00"/>
                </a:solidFill>
                <a:latin typeface="Arial"/>
                <a:ea typeface="Lucida Sans Unicode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и только в отдельных случаях допускается  до 350 мг/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0" y="476280"/>
            <a:ext cx="8642520" cy="525780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  <a:ea typeface="Lucida Sans Unicode"/>
              </a:rPr>
              <a:t>Сульфа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ион сульфа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количествах свыше 500 мг/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придают воде горько-соленый привкус, могут вызывать диспептические явления (особенно при одновременном большом содержании магния в воде) у лиц, которые не привыкли к такой воде. Содержание сульфатов в питьевой воде не должно превышать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  <a:ea typeface="Lucida Sans Unicode"/>
              </a:rPr>
              <a:t>250 (350) мг/дм</a:t>
            </a:r>
            <a:r>
              <a:rPr b="1" lang="ru-RU" sz="2400" spc="-1" strike="noStrike" baseline="30000">
                <a:solidFill>
                  <a:srgbClr val="009999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0" y="0"/>
            <a:ext cx="8497800" cy="5416560"/>
          </a:xfrm>
          <a:prstGeom prst="rect">
            <a:avLst/>
          </a:prstGeom>
          <a:noFill/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Соли желе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более 0,3 мг/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 и </a:t>
            </a:r>
            <a:r>
              <a:rPr b="1" lang="ru-RU" sz="2400" spc="-1" strike="noStrike">
                <a:solidFill>
                  <a:srgbClr val="f3abcc"/>
                </a:solidFill>
                <a:latin typeface="Arial"/>
                <a:ea typeface="Lucida Sans Unicode"/>
              </a:rPr>
              <a:t>марганц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более 0,1 мг/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придают воде вяжущий привкус. Значительно ухудшается и вкус чая, приготовленного на такой воде. Такая вода непригодна для некоторых процессов в пищевой промышленности придает маслу, сыру и другим пищевым продуктам неприятный привкус, в быту (окрашивает белье во время стирки и тому подобно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0"/>
            <a:ext cx="8362800" cy="5869080"/>
          </a:xfrm>
          <a:prstGeom prst="rect">
            <a:avLst/>
          </a:prstGeom>
          <a:solidFill>
            <a:srgbClr val="bbe0e3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Химические показатели загрязнения источника 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 ним принадлежат вещества, которые содержатся в моче и фекалиях людей и животных, или продукты их распада (органические соединения, аммиак, нитриты, нитраты, хлориды и др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и соединения сами по себе в тех количествах, в которых они встречаются в пресной воде, безвредны для здоровья человека и только указывают на загрязнение почвы и 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о вместе с ними вода может содержать и патогенные микроорган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539640" y="24912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  <a:ea typeface="Lucida Sans Unicode"/>
              </a:rPr>
              <a:t>Методы обеззараживания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Химические мето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Хлорирование, озонирование, олигодинамическое действие солей сереб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Физические мето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Кипячение, облучение ультрафиолетовыми лучами, токами высокой частоты, быстрыми электронами или гамма-луч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  <a:ea typeface="Lucida Sans Unicode"/>
              </a:rPr>
              <a:t>Методы улучшения качества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свет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устранение мутности 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есцвечи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устранение цветности 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еззаражи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освобождение воды от патогенных микробов и вир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25720" y="4064040"/>
            <a:ext cx="23036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115920"/>
            <a:ext cx="836280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Lucida Sans Unicode"/>
              </a:rPr>
              <a:t>Организм взрослого человека состоит в среднем на 65 % из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  <a:ea typeface="Lucida Sans Unicode"/>
              </a:rPr>
              <a:t>С возрастом ее количество воды в организме человека уменьш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родыш человека содержит 97 % в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рганизм новорожденных - 77 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 50 годам количество воды в организме составляет лишь 60 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сновная масса воды (70 %) сосредоточена внутри клето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 30 % - это внеклеточная 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376360" y="4032360"/>
            <a:ext cx="302436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ециальные методы улучшения качества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Дезодор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достигается аэрированием воды, обработкой окислителями, фильтрованием через слой активированного угля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езжелези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производится путем аэрации в градир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Умягч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фильтрование через ионитовые филь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реснение – ионитовые фильтры, электродиализ, вымораж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Дезактив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фильтрация через ионообменные филь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Обесфтори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оды – ионообменные филь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Фторир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– добавление к воде кремнефтористого или фтористого на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111480" y="44798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нтрольные 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600200"/>
            <a:ext cx="822960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сновные требования к качеству питьевой 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чины метгемоглобинемии у детей грудно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веты просьба отсылать Neonila.Golka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Lucida Sans Unicode"/>
              </a:rPr>
              <a:t>БЛАГОДАРЮ ЗА ВНИМАНИЕ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404640"/>
            <a:ext cx="8229600" cy="5977080"/>
          </a:xfrm>
          <a:prstGeom prst="rect">
            <a:avLst/>
          </a:prstGeom>
          <a:solidFill>
            <a:srgbClr val="bbe0e3"/>
          </a:solidFill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В разных органах и тканях  содержание воды не одинаков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скелет содержит 20 %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мышечная ткань – 76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соединительная ткань – 8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плазма крови – 92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Lucida Sans Unicode"/>
              </a:rPr>
              <a:t>стекловидное тело - 99  %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27240" y="4052880"/>
            <a:ext cx="33447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8229600" cy="6480000"/>
          </a:xfrm>
          <a:prstGeom prst="rect">
            <a:avLst/>
          </a:prstGeom>
          <a:solidFill>
            <a:srgbClr val="e8eeb0"/>
          </a:soli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Lucida Sans Unicode"/>
              </a:rPr>
              <a:t>ФИЗИОЛОГИЧЕСКОЕ  ЗНАЧЕНИЕ 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се биохимические реакции связанные с процессами пищеварения и усвоения питательных веществ, протекают в водной ср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месте с солями вода принимает участие в поддержании важнейшей физиологической константы организма - величины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Lucida Sans Unicode"/>
              </a:rPr>
              <a:t>осмотического д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 счет малой вязкости, а также способности растворять разные химические вещества и вступать с ними в неустойчивые связи, вода является основной частью крови и играет роль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Lucida Sans Unicode"/>
              </a:rPr>
              <a:t>транспортного сред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да является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Lucida Sans Unicode"/>
              </a:rPr>
              <a:t>основой кислотно-щелочного равновес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 организме, поскольку проявляет свойства как кислот, так и ос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се процессы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Lucida Sans Unicode"/>
              </a:rPr>
              <a:t>усвоения и выде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в организме также протекают в водной ср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03280" y="244440"/>
            <a:ext cx="8229600" cy="63802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Lucida Sans Unicode"/>
              </a:rPr>
              <a:t>        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ЭКЗОГЕННАЯ 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уточная потребность человека в воде составляет 2,5-3,0 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да в организм человека поступает с питьем и пищевыми продукта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 питьевой водой поступает много макро- и микроэлементов, таких как кальций, магний, натрий, калий, йод, фтор и д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8280" y="4535640"/>
            <a:ext cx="278100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260280"/>
            <a:ext cx="8229600" cy="6264360"/>
          </a:xfrm>
          <a:prstGeom prst="rect">
            <a:avLst/>
          </a:prstGeom>
          <a:solidFill>
            <a:srgbClr val="99ff99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Lucida Sans Unicode"/>
              </a:rPr>
              <a:t>ЭНДОГЕННАЯ В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полном окислении 100 г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3600" spc="-1" strike="noStrike">
                <a:solidFill>
                  <a:srgbClr val="ff33cc"/>
                </a:solidFill>
                <a:latin typeface="Arial"/>
                <a:ea typeface="Lucida Sans Unicode"/>
              </a:rPr>
              <a:t>жир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образуется 107 г  воды,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1" lang="ru-RU" sz="3600" spc="-1" strike="noStrike">
                <a:solidFill>
                  <a:srgbClr val="ff33cc"/>
                </a:solidFill>
                <a:latin typeface="Arial"/>
                <a:ea typeface="Lucida Sans Unicode"/>
              </a:rPr>
              <a:t>углевод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- 55,5 г вод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3600" spc="-1" strike="noStrike">
                <a:solidFill>
                  <a:srgbClr val="ff33cc"/>
                </a:solidFill>
                <a:latin typeface="Arial"/>
                <a:ea typeface="Lucida Sans Unicode"/>
              </a:rPr>
              <a:t>белк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- 41 г в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040360" y="4103640"/>
            <a:ext cx="33116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89000"/>
            <a:ext cx="8435880" cy="6480000"/>
          </a:xfrm>
          <a:prstGeom prst="rect">
            <a:avLst/>
          </a:prstGeom>
          <a:solidFill>
            <a:srgbClr val="bbe0e3"/>
          </a:solidFill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Lucida Sans Unicode"/>
              </a:rPr>
              <a:t>ВЫДЕЛЕНИЕ ВОДЫ ИЗ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состоянии покоя из организма человека выводится следующее количество  в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ерез почки - 1,5 л/су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ерез легкие - приблизительно 0,4 л                       через кишечный тракт - около 0,2 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ще 0,6 л воды выделяется через поры кожи в процессе терморегуляци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жесуточно из организма человека в состоянии покоя выводится около 3 л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работе в горячих цехах, летом в поле, при некоторых патологических состояниях, например, при лихорадке  выделение воды может увеличиваться до 8-10 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260280"/>
            <a:ext cx="8229600" cy="6418440"/>
          </a:xfrm>
          <a:prstGeom prst="rect">
            <a:avLst/>
          </a:prstGeom>
          <a:solidFill>
            <a:srgbClr val="e8eeb0"/>
          </a:soli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Lucida Sans Unicode"/>
              </a:rPr>
              <a:t>Симптомы обезвоживания организма челове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Э.Адольф, 195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уменьшении воды в организме (в %  от массы тела) наблюдае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-5 % --  жажда, недомогание, экономия движений, потеря аппетита, покраснение кожи, раздражительность, сонливость, повышение температуры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-10 % -- головокружение, одышка, ощущение ползания "мурашек" в конечностях, уменьшение объема крови, остановка слюноотделения, цианоз, нечеткая речь, тяжесть ходь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1-15 % -- бред, распухание языка, затруднение глотания, глухота, ослабление зрения, вялость и онемение кожи, болезненное мочеотделение, ану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5-20 % от массы тела при температуре воздуха свыше 30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 является смертель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5 % - является смертельной при любой темпер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13:36Z</dcterms:created>
  <dc:creator>User</dc:creator>
  <dc:description/>
  <dc:language>en-US</dc:language>
  <cp:lastModifiedBy>Пользователь</cp:lastModifiedBy>
  <dcterms:modified xsi:type="dcterms:W3CDTF">2020-03-17T15:43:59Z</dcterms:modified>
  <cp:revision>95</cp:revision>
  <dc:subject/>
  <dc:title>Слайд 1</dc:title>
</cp:coreProperties>
</file>