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340-8B8B-4C82-A2F1-961C7252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4F0-5337-4BC8-A8FF-872BBCBF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789-0756-49AE-AEFB-D9BF3C16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BF8-B0E4-48C1-8D23-5D2B8D2F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273-7E72-4D94-8614-4A544FB0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CB0-A6E9-4126-A4E4-58C3B77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799-2C2D-4958-857D-A9813760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B26-7CC7-4E00-BA3C-6E3CE74F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60A-B346-4D90-B904-72BEA5D6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770-CE30-4289-A9E4-DDC5FC5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E8F-520A-4B23-99E5-5B8D55B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521-D7FF-4676-967E-E236805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16EA-8A07-42D9-977B-D3D123BBD5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sportal.ru/shkola/administrirovanie-shkoly/library/2012/05/15/modernizatsiya-v-sfere-obrazovaniya" TargetMode="External"/><Relationship Id="rId2" Type="http://schemas.openxmlformats.org/officeDocument/2006/relationships/hyperlink" Target="http://nsportal.ru/shkola/administrirovanie-shkoly/library/2012/05/15/modernizatsiya-v-sfere-obrazovaniya" TargetMode="External"/><Relationship Id="rId3" Type="http://schemas.openxmlformats.org/officeDocument/2006/relationships/hyperlink" Target="http://knmc.kubannet.ru/node/976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714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образователь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на уроке музы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горец Алла Анатольев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узыки МОБУ «Муринская 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градская область  г.Мур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ая система образования предполагает отказ 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как предоставления обучающимся готов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ов на заданные ими вопросы, широкое исполь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го обучения, исследовательского метода, мет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ов, обеспечение органического единства в обучении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и, школьной и внешкольной деятель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школьников в самые разнообразные социа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и. Используя современные инновацио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в  преподавании, учитель открывает для себ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интересные возможности в профессиональ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, благодаря чему для учителя - работа, а для 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ов - обучение станут радостнее и увлекательн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вко Г.К. Современные образовательные технологии: Учебное пособ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 Народное образование,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.А.Замятина «Современный урок музыки», учебно-методическое пособие -М.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-во «Глобус»-201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Лобанова Е.А. «Возможности урока как средства ре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х технологий». Журнал «Музыка в школе», 2005 г. №3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Шоган, В.В. Технология личностно ориентированного урока.  Ростов н/Д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, 200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http://nsportal.ru/shkola/muzyka/library/2014/02/02/sovremennye-obrazovatelny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hnologii-primenyaemye-na-urokak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nsportal.ru/shkola/administrirova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shkoly/library/2012/05/15/modernizatsiya-v-sfere-obrazovani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nmc.kubannet.ru/node/97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http://festival.1september.ru/articles/6307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tp://www.twirpx.com/file/747377/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714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ая деятельность может быть либо технологией, либо искусством.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основано на интуиции, технология - на нау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кусства всё начинается, технологией заканчивается, чтобы затем всё  началось снач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П.Беспалько -  до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наук, профессор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714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12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детально прописанный путь осуществления той или иной деятельности в рамках выбранного мет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такое построение деятельности учителя, в котором входящие в него действия представлены в определенной последовательности и предполагают достижение прогнозируемого результата. В узком смысле слова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технологи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следовательность определенных действий, операций, связанных с конкретной деятельностью учителя и направленных на достижение поставленных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1714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, составляющие сущность педагогической технолог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значное и строгое определение целей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чему и для чего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бор и структура содержания (что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тимальная организация учебного процесса (как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ы, приемы и средства обучения (с помощью чего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т необходимого реального уровня квалификации учителя (кто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ые методы оценки результатов обуч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к ли эт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ременным образовательным  технологиям относ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ю дистанционного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у инновационной оценки «портфолио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уровневое обуч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ую систему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коммуникативные технолог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ю решения изобретательских задач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 сотрудничеств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ю использования в обучении игровых метод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ю модульного и блочно-модульного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ю «Дебаты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ю развития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музыки чаще всего использую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вития ассоциативно – образного мышления школь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которая базируется  «на интеграции музыки с другими видами искусства: литературой, изобразительным искусством, кино, театром. Интеграция искусств дает возможность осваивать язык музыки на основе выявления его «сходства и различия» с языком других искусств. При этом категория «художественный образ» должна рассматриваться как общая платформа для взаимодействия искусства в процессе музыкальных занятий. Следует подчеркнуть, что в процессе интеграции искусств на музыкальных занятиях доминирующая роль должна принадлежать музыке» (Сергеева Г.П., зав. кафедрой методики преподавания дисциплин художественно-эстетического цикла АСОУ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ая технология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ние музы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песен участие в разнообразной творчес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снимает нервные перегрузки, положите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ет на эмоциональное состоя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технология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ики во время игры ма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ют, активно работает их мозг и интеллек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вивающего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одной  из веду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й, используемой на уроках музыки,  является мет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ов, в основе которого лежит умение ориентироваться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м пространстве и самостояте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ть свои знания; метод всегда ориентирован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ую работу  уча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КТ на уроках музыкального искусства позволя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-новому использовать на уроках музыки текстову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овую, графическую и видеоинформацию и её источн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огащать методические возможности урока музы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ть ему современный уровен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изировать творческий потенциал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ть интерес к музыкальной культу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духовный мир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 – ориентиров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учении 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ах музыки способствует раскрытию индивидуа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, которая находит свое выражение в характ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тельных процессов, запоминании, внимании, 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и инициативы, творчества. При усвоении нов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а каждый ребенок обнаруживает различ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ы и по-разному использует свои з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ременном этапе развития педагогической мы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 ориентированный способ обучения явля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м и повышает эффективность учебн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ого процесса.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4160484 Корепин Дмитрий Васильевич</cp:lastModifiedBy>
  <dcterms:modified xsi:type="dcterms:W3CDTF">2021-01-31T19:48:26Z</dcterms:modified>
  <cp:revision>13</cp:revision>
  <dc:subject/>
  <dc:title> </dc:title>
</cp:coreProperties>
</file>