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86EE-71AC-4E93-8D44-46B03DD8A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6AB0-274A-495C-BB97-4C2C4C5B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F049-3F32-42A0-9BF1-8BB8D431B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E465-79B9-439D-BB7B-AB24ECA66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FE16-00BD-46DF-853B-66A3AB44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74D-8089-463B-B9F7-3068D454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F494-BCB8-4267-B0D6-AEE281498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22A7-0041-4092-9AA5-985D9DF4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31D2-42FB-42C0-81B7-E2FF960EB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668F-B80D-4089-B83A-D48526DD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304-1108-497A-83AF-4D001F3C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00B1-279B-422C-AC90-CF9F68D4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8F4B-C786-4E19-8699-43B364017F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4" descr="C:\Users\user\Desktop\картинки осень\осен.листья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152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1835280" y="765000"/>
            <a:ext cx="4895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Краса 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Comic Sans MS"/>
              </a:rPr>
              <a:t>природ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835280" y="357336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Внеклассное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 мероприятие 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для учеников 1-2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6"/>
          <p:cNvSpPr/>
          <p:nvPr/>
        </p:nvSpPr>
        <p:spPr>
          <a:xfrm>
            <a:off x="395280" y="5229360"/>
            <a:ext cx="53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Автор: Сахина Вера Алексеевна,учитель начальных классов МАОУ «СОШ № 31»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Comic Sans MS"/>
              </a:rPr>
              <a:t>г. Великого Новгор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Box 2"/>
          <p:cNvSpPr/>
          <p:nvPr/>
        </p:nvSpPr>
        <p:spPr>
          <a:xfrm>
            <a:off x="1547640" y="69228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Народные прим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2843280" y="162864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Что бы это значи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755640" y="220500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Осенью птицы летают выс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611280" y="4292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Комары поздней ос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>
            <a:off x="611280" y="3573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Птицы дружно улет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2"/>
          <p:cNvSpPr/>
          <p:nvPr/>
        </p:nvSpPr>
        <p:spPr>
          <a:xfrm>
            <a:off x="755640" y="285264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Листопад прошёл быс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3"/>
          <p:cNvSpPr/>
          <p:nvPr/>
        </p:nvSpPr>
        <p:spPr>
          <a:xfrm>
            <a:off x="826920" y="5013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С берёзы и дуба лист не чисто па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C:\Users\user\Desktop\картинки осень\знаки.jpg"/>
          <p:cNvPicPr/>
          <p:nvPr/>
        </p:nvPicPr>
        <p:blipFill>
          <a:blip r:embed="rId2"/>
          <a:stretch/>
        </p:blipFill>
        <p:spPr>
          <a:xfrm>
            <a:off x="7596360" y="2060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4"/>
          <p:cNvSpPr/>
          <p:nvPr/>
        </p:nvSpPr>
        <p:spPr>
          <a:xfrm>
            <a:off x="6084720" y="2637000"/>
            <a:ext cx="22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к холодной 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зи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C:\Users\user\Desktop\картинки осень\знаки.jpg"/>
          <p:cNvPicPr/>
          <p:nvPr/>
        </p:nvPicPr>
        <p:blipFill>
          <a:blip r:embed="rId3"/>
          <a:stretch/>
        </p:blipFill>
        <p:spPr>
          <a:xfrm>
            <a:off x="7524720" y="414972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15"/>
          <p:cNvSpPr/>
          <p:nvPr/>
        </p:nvSpPr>
        <p:spPr>
          <a:xfrm>
            <a:off x="6300720" y="3789360"/>
            <a:ext cx="19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к тёплой 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зи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"/>
          <p:cNvSpPr/>
          <p:nvPr/>
        </p:nvSpPr>
        <p:spPr>
          <a:xfrm>
            <a:off x="1547640" y="692280"/>
            <a:ext cx="63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Народные примет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43280" y="162864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Что бы это значил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755640" y="220500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Comic Sans MS"/>
              </a:rPr>
              <a:t>Осенью птицы летают высок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0"/>
          <p:cNvSpPr/>
          <p:nvPr/>
        </p:nvSpPr>
        <p:spPr>
          <a:xfrm>
            <a:off x="611280" y="429264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ffc000"/>
                </a:solidFill>
                <a:latin typeface="Comic Sans MS"/>
              </a:rPr>
              <a:t>Комары поздней осе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11"/>
          <p:cNvSpPr/>
          <p:nvPr/>
        </p:nvSpPr>
        <p:spPr>
          <a:xfrm>
            <a:off x="611280" y="357336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Птицы дружно улета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12"/>
          <p:cNvSpPr/>
          <p:nvPr/>
        </p:nvSpPr>
        <p:spPr>
          <a:xfrm>
            <a:off x="755640" y="285264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Листопад прошёл быст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826920" y="5013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omic Sans MS"/>
              </a:rPr>
              <a:t>С берёзы и дуба лист не чисто пада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C:\Users\user\Desktop\картинки осень\знаки.jpg"/>
          <p:cNvPicPr/>
          <p:nvPr/>
        </p:nvPicPr>
        <p:blipFill>
          <a:blip r:embed="rId2"/>
          <a:stretch/>
        </p:blipFill>
        <p:spPr>
          <a:xfrm>
            <a:off x="7596360" y="206064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14"/>
          <p:cNvSpPr/>
          <p:nvPr/>
        </p:nvSpPr>
        <p:spPr>
          <a:xfrm>
            <a:off x="6084720" y="2637000"/>
            <a:ext cx="22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f81bd"/>
                </a:solidFill>
                <a:latin typeface="Comic Sans MS"/>
              </a:rPr>
              <a:t>к холодной </a:t>
            </a:r>
            <a:br>
              <a:rPr sz="2800"/>
            </a:br>
            <a:r>
              <a:rPr b="1" lang="ru-RU" sz="2800" spc="-1" strike="noStrike">
                <a:solidFill>
                  <a:srgbClr val="4f81bd"/>
                </a:solidFill>
                <a:latin typeface="Comic Sans MS"/>
              </a:rPr>
              <a:t>зи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C:\Users\user\Desktop\картинки осень\знаки.jpg"/>
          <p:cNvPicPr/>
          <p:nvPr/>
        </p:nvPicPr>
        <p:blipFill>
          <a:blip r:embed="rId3"/>
          <a:stretch/>
        </p:blipFill>
        <p:spPr>
          <a:xfrm>
            <a:off x="7524720" y="4149720"/>
            <a:ext cx="1008000" cy="9349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5"/>
          <p:cNvSpPr/>
          <p:nvPr/>
        </p:nvSpPr>
        <p:spPr>
          <a:xfrm>
            <a:off x="6300720" y="3789360"/>
            <a:ext cx="19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omic Sans MS"/>
              </a:rPr>
              <a:t>к тёплой </a:t>
            </a:r>
            <a:br>
              <a:rPr sz="2800"/>
            </a:br>
            <a:r>
              <a:rPr b="1" lang="ru-RU" sz="2800" spc="-1" strike="noStrike">
                <a:solidFill>
                  <a:srgbClr val="ffc000"/>
                </a:solidFill>
                <a:latin typeface="Comic Sans MS"/>
              </a:rPr>
              <a:t>зим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"/>
          <p:cNvSpPr/>
          <p:nvPr/>
        </p:nvSpPr>
        <p:spPr>
          <a:xfrm>
            <a:off x="1547640" y="6922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Вопросы Почемуч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>
            <a:off x="1258920" y="1557360"/>
            <a:ext cx="7058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Почему осенью листья меняют цве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1"/>
          <p:cNvSpPr/>
          <p:nvPr/>
        </p:nvSpPr>
        <p:spPr>
          <a:xfrm>
            <a:off x="2195640" y="2205000"/>
            <a:ext cx="6480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Свежей листве придаёт зелёный цвет особое вещество – 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хлорофилл</a:t>
            </a: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, который осенью разрушается из-за недостатка солнечного све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Картинки по запросу картинки ученик"/>
          <p:cNvPicPr/>
          <p:nvPr/>
        </p:nvPicPr>
        <p:blipFill>
          <a:blip r:embed="rId2"/>
          <a:stretch/>
        </p:blipFill>
        <p:spPr>
          <a:xfrm>
            <a:off x="395280" y="2637000"/>
            <a:ext cx="2143080" cy="3816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0"/>
          <p:cNvSpPr/>
          <p:nvPr/>
        </p:nvSpPr>
        <p:spPr>
          <a:xfrm>
            <a:off x="2268360" y="4292640"/>
            <a:ext cx="60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В листьях начинают преобладать пигменты оранжевого, жёлтого или красного цветов – 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каратиноиды</a:t>
            </a: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TextBox 2"/>
          <p:cNvSpPr/>
          <p:nvPr/>
        </p:nvSpPr>
        <p:spPr>
          <a:xfrm>
            <a:off x="1547640" y="6922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Вопросы Почемуч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1116000" y="1557360"/>
            <a:ext cx="75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Почему  листья желтеют неравномерн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Картинки по запросу картинки ученик"/>
          <p:cNvPicPr/>
          <p:nvPr/>
        </p:nvPicPr>
        <p:blipFill>
          <a:blip r:embed="rId2"/>
          <a:stretch/>
        </p:blipFill>
        <p:spPr>
          <a:xfrm>
            <a:off x="395280" y="2637000"/>
            <a:ext cx="2143080" cy="38163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8"/>
          <p:cNvSpPr/>
          <p:nvPr/>
        </p:nvSpPr>
        <p:spPr>
          <a:xfrm>
            <a:off x="2124000" y="2421000"/>
            <a:ext cx="58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Обычно листья на деревьях желтеют сначала на верхушках.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Там холоднее, вершины менее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                                  защище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2268360" y="4653000"/>
            <a:ext cx="58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Раньше всех желтеют вершины лип и берё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2"/>
          <p:cNvSpPr/>
          <p:nvPr/>
        </p:nvSpPr>
        <p:spPr>
          <a:xfrm>
            <a:off x="1547640" y="6922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Вопросы Почемуч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"/>
          <p:cNvSpPr/>
          <p:nvPr/>
        </p:nvSpPr>
        <p:spPr>
          <a:xfrm>
            <a:off x="1692360" y="155736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Почему осенью листья опадаю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1476360" y="2060640"/>
            <a:ext cx="741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Осенью растениям не хватает света. Они начинают питаться за счёт своих запасов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Картинки по запросу картинки ученик"/>
          <p:cNvPicPr/>
          <p:nvPr/>
        </p:nvPicPr>
        <p:blipFill>
          <a:blip r:embed="rId2"/>
          <a:stretch/>
        </p:blipFill>
        <p:spPr>
          <a:xfrm>
            <a:off x="395280" y="2637000"/>
            <a:ext cx="214308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8"/>
          <p:cNvSpPr/>
          <p:nvPr/>
        </p:nvSpPr>
        <p:spPr>
          <a:xfrm>
            <a:off x="2411280" y="2997360"/>
            <a:ext cx="561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Чтобы не тратить питательные вещества на листья, деревья их сбрасывают, сохраняя запасы на всю зи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9"/>
          <p:cNvSpPr/>
          <p:nvPr/>
        </p:nvSpPr>
        <p:spPr>
          <a:xfrm>
            <a:off x="2411280" y="4869000"/>
            <a:ext cx="58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Образование питательных веществ в листьях называется 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фотосинтезом</a:t>
            </a: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1547640" y="6922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Вопросы Почемуч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3"/>
          <p:cNvSpPr/>
          <p:nvPr/>
        </p:nvSpPr>
        <p:spPr>
          <a:xfrm>
            <a:off x="287280" y="155736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Почему хвойные растения не опадают осенью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Картинки по запросу картинки ученик"/>
          <p:cNvPicPr/>
          <p:nvPr/>
        </p:nvPicPr>
        <p:blipFill>
          <a:blip r:embed="rId2"/>
          <a:stretch/>
        </p:blipFill>
        <p:spPr>
          <a:xfrm>
            <a:off x="395280" y="2637000"/>
            <a:ext cx="2143080" cy="38163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2411280" y="3860640"/>
            <a:ext cx="60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Хвойные растения хорошо удерживают влагу из-за  тонкой восковой плёнки на их игл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2411280" y="5300640"/>
            <a:ext cx="532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Растения  сохраняют влагу до ве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1908000" y="2060640"/>
            <a:ext cx="53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Листья этих растений – хво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2411280" y="2565360"/>
            <a:ext cx="532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Хвоинки имеют маленькую 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площадь поверхности. 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Это не даёт испаряться влаг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i?id=37479029&amp;tov=8"/>
          <p:cNvPicPr/>
          <p:nvPr/>
        </p:nvPicPr>
        <p:blipFill>
          <a:blip r:embed="rId3"/>
          <a:stretch/>
        </p:blipFill>
        <p:spPr>
          <a:xfrm>
            <a:off x="7667640" y="2205000"/>
            <a:ext cx="10587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"/>
          <p:cNvSpPr/>
          <p:nvPr/>
        </p:nvSpPr>
        <p:spPr>
          <a:xfrm>
            <a:off x="1547640" y="69228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Вопросы Почемуче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3"/>
          <p:cNvSpPr/>
          <p:nvPr/>
        </p:nvSpPr>
        <p:spPr>
          <a:xfrm>
            <a:off x="1692360" y="1557360"/>
            <a:ext cx="62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Какие птицы улетают первыми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Картинки по запросу картинки ученик"/>
          <p:cNvPicPr/>
          <p:nvPr/>
        </p:nvPicPr>
        <p:blipFill>
          <a:blip r:embed="rId2"/>
          <a:stretch/>
        </p:blipFill>
        <p:spPr>
          <a:xfrm>
            <a:off x="395280" y="2637000"/>
            <a:ext cx="2143080" cy="38163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8"/>
          <p:cNvSpPr/>
          <p:nvPr/>
        </p:nvSpPr>
        <p:spPr>
          <a:xfrm>
            <a:off x="2556000" y="3500280"/>
            <a:ext cx="62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Первыми улетают в тёплые края грачи, кукушки, ласточки, журав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9"/>
          <p:cNvSpPr/>
          <p:nvPr/>
        </p:nvSpPr>
        <p:spPr>
          <a:xfrm>
            <a:off x="2124000" y="4724280"/>
            <a:ext cx="504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Последними покидают нас гуси, утки, лебе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2050920" y="2276640"/>
            <a:ext cx="605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Недостаток разного корма влияет 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на порядок отлёта пт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TextBox 2"/>
          <p:cNvSpPr/>
          <p:nvPr/>
        </p:nvSpPr>
        <p:spPr>
          <a:xfrm>
            <a:off x="1332000" y="1916280"/>
            <a:ext cx="6480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Журавли летят, курлычут,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Шлют последнее «прощай».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За собою лето кличут,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Забирают в тёплый кра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А. М. Позна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TextBox 2"/>
          <p:cNvSpPr/>
          <p:nvPr/>
        </p:nvSpPr>
        <p:spPr>
          <a:xfrm>
            <a:off x="2771640" y="69228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Дары ос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C:\Users\user\Desktop\картинки осень\урожай.jpg"/>
          <p:cNvPicPr/>
          <p:nvPr/>
        </p:nvPicPr>
        <p:blipFill>
          <a:blip r:embed="rId2"/>
          <a:stretch/>
        </p:blipFill>
        <p:spPr>
          <a:xfrm>
            <a:off x="2556000" y="1413000"/>
            <a:ext cx="4103640" cy="22986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9"/>
          <p:cNvSpPr/>
          <p:nvPr/>
        </p:nvSpPr>
        <p:spPr>
          <a:xfrm>
            <a:off x="2050920" y="3500280"/>
            <a:ext cx="5400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Солнце низко, дождик близко,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Холодает, птиц не слышно…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А мы осень провожаем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Щедрым, вкусным урожаем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Box 2"/>
          <p:cNvSpPr/>
          <p:nvPr/>
        </p:nvSpPr>
        <p:spPr>
          <a:xfrm>
            <a:off x="2771640" y="69228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Дары ос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5"/>
          <p:cNvSpPr/>
          <p:nvPr/>
        </p:nvSpPr>
        <p:spPr>
          <a:xfrm>
            <a:off x="2340000" y="1557360"/>
            <a:ext cx="496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Отгадайте-ка, друзья,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Что нам осень прине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"/>
          <p:cNvSpPr/>
          <p:nvPr/>
        </p:nvSpPr>
        <p:spPr>
          <a:xfrm>
            <a:off x="826920" y="263700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блокя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7"/>
          <p:cNvSpPr/>
          <p:nvPr/>
        </p:nvSpPr>
        <p:spPr>
          <a:xfrm>
            <a:off x="3995640" y="2637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шуг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0"/>
          <p:cNvSpPr/>
          <p:nvPr/>
        </p:nvSpPr>
        <p:spPr>
          <a:xfrm>
            <a:off x="6804000" y="263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вис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1"/>
          <p:cNvSpPr/>
          <p:nvPr/>
        </p:nvSpPr>
        <p:spPr>
          <a:xfrm>
            <a:off x="826920" y="2997360"/>
            <a:ext cx="15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ябло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12"/>
          <p:cNvSpPr/>
          <p:nvPr/>
        </p:nvSpPr>
        <p:spPr>
          <a:xfrm>
            <a:off x="3995640" y="2997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груш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13"/>
          <p:cNvSpPr/>
          <p:nvPr/>
        </p:nvSpPr>
        <p:spPr>
          <a:xfrm>
            <a:off x="6804000" y="299736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сли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4"/>
          <p:cNvSpPr/>
          <p:nvPr/>
        </p:nvSpPr>
        <p:spPr>
          <a:xfrm>
            <a:off x="826920" y="3645000"/>
            <a:ext cx="13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кв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5"/>
          <p:cNvSpPr/>
          <p:nvPr/>
        </p:nvSpPr>
        <p:spPr>
          <a:xfrm>
            <a:off x="826920" y="40053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тык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6"/>
          <p:cNvSpPr/>
          <p:nvPr/>
        </p:nvSpPr>
        <p:spPr>
          <a:xfrm>
            <a:off x="3995640" y="364500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биря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7"/>
          <p:cNvSpPr/>
          <p:nvPr/>
        </p:nvSpPr>
        <p:spPr>
          <a:xfrm>
            <a:off x="3995640" y="4005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ряб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9"/>
          <p:cNvSpPr/>
          <p:nvPr/>
        </p:nvSpPr>
        <p:spPr>
          <a:xfrm>
            <a:off x="6804000" y="357336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корм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0"/>
          <p:cNvSpPr/>
          <p:nvPr/>
        </p:nvSpPr>
        <p:spPr>
          <a:xfrm>
            <a:off x="6804000" y="3933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морков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1"/>
          <p:cNvSpPr/>
          <p:nvPr/>
        </p:nvSpPr>
        <p:spPr>
          <a:xfrm>
            <a:off x="826920" y="4653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фекарт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22"/>
          <p:cNvSpPr/>
          <p:nvPr/>
        </p:nvSpPr>
        <p:spPr>
          <a:xfrm>
            <a:off x="826920" y="5084640"/>
            <a:ext cx="20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картоф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3"/>
          <p:cNvSpPr/>
          <p:nvPr/>
        </p:nvSpPr>
        <p:spPr>
          <a:xfrm>
            <a:off x="3995640" y="4653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бриг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24"/>
          <p:cNvSpPr/>
          <p:nvPr/>
        </p:nvSpPr>
        <p:spPr>
          <a:xfrm>
            <a:off x="3995640" y="508464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гри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C:\Documents and Settings\Admin\Рабочий стол\ПРЕЗЕНТАЦИИ НА УРОКИ\ГРИБЫ\желчный гриб.jpg"/>
          <p:cNvPicPr/>
          <p:nvPr/>
        </p:nvPicPr>
        <p:blipFill>
          <a:blip r:embed="rId2"/>
          <a:stretch/>
        </p:blipFill>
        <p:spPr>
          <a:xfrm>
            <a:off x="2124000" y="4149720"/>
            <a:ext cx="20163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2"/>
          <p:cNvSpPr/>
          <p:nvPr/>
        </p:nvSpPr>
        <p:spPr>
          <a:xfrm>
            <a:off x="2050920" y="692280"/>
            <a:ext cx="51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Отгадай загадк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979640" y="2133720"/>
            <a:ext cx="5329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Что за время непог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Все зовут «краса природы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Дождик чаще, холода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Птицы к югу улетаю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780000" y="4869000"/>
            <a:ext cx="136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ос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83" name="Picture 4" descr="C:\Users\user\Desktop\картинки осень\осен.листья.jpg"/>
          <p:cNvPicPr/>
          <p:nvPr/>
        </p:nvPicPr>
        <p:blipFill>
          <a:blip r:embed="rId1"/>
          <a:stretch/>
        </p:blipFill>
        <p:spPr>
          <a:xfrm>
            <a:off x="-7920" y="0"/>
            <a:ext cx="9151920" cy="6851520"/>
          </a:xfrm>
          <a:prstGeom prst="rect">
            <a:avLst/>
          </a:prstGeom>
          <a:ln w="0">
            <a:noFill/>
          </a:ln>
        </p:spPr>
      </p:pic>
      <p:sp>
        <p:nvSpPr>
          <p:cNvPr id="184" name="TextBox 7"/>
          <p:cNvSpPr/>
          <p:nvPr/>
        </p:nvSpPr>
        <p:spPr>
          <a:xfrm>
            <a:off x="1908000" y="1700280"/>
            <a:ext cx="5472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Мы провожаем осень вдал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Погоды ждём совсем иной,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Хотя нам чуточку и жаль</a:t>
            </a:r>
            <a:br>
              <a:rPr sz="2800"/>
            </a:b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Прощаться с этой красотой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Прямоугольник 11" descr=""/>
          <p:cNvPicPr/>
          <p:nvPr/>
        </p:nvPicPr>
        <p:blipFill>
          <a:blip r:embed="rId2"/>
          <a:stretch/>
        </p:blipFill>
        <p:spPr>
          <a:xfrm>
            <a:off x="822240" y="4071960"/>
            <a:ext cx="764532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TextBox 2"/>
          <p:cNvSpPr/>
          <p:nvPr/>
        </p:nvSpPr>
        <p:spPr>
          <a:xfrm>
            <a:off x="2627280" y="476280"/>
            <a:ext cx="41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Список иллюстр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3"/>
          <p:cNvSpPr/>
          <p:nvPr/>
        </p:nvSpPr>
        <p:spPr>
          <a:xfrm>
            <a:off x="684360" y="1484280"/>
            <a:ext cx="7775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com/url?sa=i&amp;ur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com/imgres?imgurl=https%3A%2F%2Fi2.wp.com%2Fsyl.ru%2Fmisc%2Fi%2Fai%2F353448%2F2094596.jpg&amp;imgrefurl=https%3A%2F%2Frokkit.ru%2Fzima%2Fuslovnye-oboznacheniya-osadkov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com/imgres?imgurl=https%3A%2F%2Fas2.ftcdn.net%2Fjpg%2F00%2F20%2F38%2F79%2F1000_F_20387929_MUHUaUsOzeo7EqK4ajJk5NcQBdfOV2Uh.jpg&amp;imgrefurl=https%3A%2F%2Fvr-smart.ru%2Fitem-kartinki-dlya-kalendary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com/imgres?imgurl=https%3A%2F%2Fi.pinim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com/imgres?imgurl=https%3A%2F%2Fimg3.akspic.ru%2Foriginals%2F6%2F3%2F8%2F6%2F96836-tykva-tykvy-zhatva-pishha-list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com/imgres?imgurl=https%3A%2F%2F3d-galleru.ru%2Fcards%2F14%2F75%2Fopredavciq2kd5a%2Fzdravstvuj-sentyab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https://www.google.com/imgres?imgurl=https%3A%2F%2Ffsd.multiurok.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Box 2"/>
          <p:cNvSpPr/>
          <p:nvPr/>
        </p:nvSpPr>
        <p:spPr>
          <a:xfrm>
            <a:off x="2050920" y="6922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Признаки осен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3132000" y="2060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похоло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3132000" y="278136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частые дож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2050920" y="3500280"/>
            <a:ext cx="50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изменение цвета листьев, листоп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3564000" y="4797360"/>
            <a:ext cx="23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отлёт пти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Users\user\Desktop\картинки осень\знаки.jpg"/>
          <p:cNvPicPr/>
          <p:nvPr/>
        </p:nvPicPr>
        <p:blipFill>
          <a:blip r:embed="rId2"/>
          <a:stretch/>
        </p:blipFill>
        <p:spPr>
          <a:xfrm>
            <a:off x="755640" y="184464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user\Desktop\картинки осень\знаки.jpg"/>
          <p:cNvPicPr/>
          <p:nvPr/>
        </p:nvPicPr>
        <p:blipFill>
          <a:blip r:embed="rId3"/>
          <a:stretch/>
        </p:blipFill>
        <p:spPr>
          <a:xfrm>
            <a:off x="6781680" y="1773360"/>
            <a:ext cx="1462320" cy="1726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C:\Users\user\Desktop\картинки осень\тучки.jpg"/>
          <p:cNvPicPr/>
          <p:nvPr/>
        </p:nvPicPr>
        <p:blipFill>
          <a:blip r:embed="rId4"/>
          <a:stretch/>
        </p:blipFill>
        <p:spPr>
          <a:xfrm>
            <a:off x="900000" y="4437000"/>
            <a:ext cx="177012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547640" y="1125360"/>
            <a:ext cx="6120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К нам в заплаканные ок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Равнодушно дождь стучит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Над холодными луг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Слышен крик отставшей пт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Пожелтели и поник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Ветки бронзовые сос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Ворон каркает над бор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«Это осень!  Это осень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А. Твардов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1619280" y="692280"/>
            <a:ext cx="619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Осенний календ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2484360" y="162864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Назовите месяцы осе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4"/>
          <p:cNvSpPr/>
          <p:nvPr/>
        </p:nvSpPr>
        <p:spPr>
          <a:xfrm>
            <a:off x="1042920" y="234936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ент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5"/>
          <p:cNvSpPr/>
          <p:nvPr/>
        </p:nvSpPr>
        <p:spPr>
          <a:xfrm>
            <a:off x="971640" y="32846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кт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1042920" y="4292640"/>
            <a:ext cx="14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о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user\Desktop\картинки осень\осен.листья.jpg"/>
          <p:cNvPicPr/>
          <p:nvPr/>
        </p:nvPicPr>
        <p:blipFill>
          <a:blip r:embed="rId2"/>
          <a:stretch/>
        </p:blipFill>
        <p:spPr>
          <a:xfrm rot="15342000">
            <a:off x="3687840" y="2052360"/>
            <a:ext cx="3425760" cy="34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1042920" y="2349360"/>
            <a:ext cx="18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Сент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5"/>
          <p:cNvSpPr/>
          <p:nvPr/>
        </p:nvSpPr>
        <p:spPr>
          <a:xfrm>
            <a:off x="971640" y="3284640"/>
            <a:ext cx="165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Окт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6"/>
          <p:cNvSpPr/>
          <p:nvPr/>
        </p:nvSpPr>
        <p:spPr>
          <a:xfrm>
            <a:off x="1042920" y="4292640"/>
            <a:ext cx="144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mic Sans MS"/>
              </a:rPr>
              <a:t>Ноябр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2843280" y="1628640"/>
            <a:ext cx="396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Почему так говорят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2843280" y="234936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первоосенье, «хмурень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10"/>
          <p:cNvSpPr/>
          <p:nvPr/>
        </p:nvSpPr>
        <p:spPr>
          <a:xfrm>
            <a:off x="2771640" y="3284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-</a:t>
            </a: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 глубокая осень, «грязни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1"/>
          <p:cNvSpPr/>
          <p:nvPr/>
        </p:nvSpPr>
        <p:spPr>
          <a:xfrm>
            <a:off x="2771640" y="4292640"/>
            <a:ext cx="532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Comic Sans MS"/>
              </a:rPr>
              <a:t>- </a:t>
            </a: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предзимье, «листогной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1619280" y="692280"/>
            <a:ext cx="619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Осенний календ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TextBox 2"/>
          <p:cNvSpPr/>
          <p:nvPr/>
        </p:nvSpPr>
        <p:spPr>
          <a:xfrm>
            <a:off x="1619280" y="692280"/>
            <a:ext cx="619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Осенний календ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26920" y="1844640"/>
            <a:ext cx="68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Первый месяц осени ещё называют «ревун», «дождезвон»,«листопадник», «рябинник», «златоцвет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826920" y="3500280"/>
            <a:ext cx="7561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В далёкие времена на Руси 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новый год начинался 1 сентября. 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А в Древнем Риме сентябрь  был сначала седьмым по счёту месяцем. Поэтому и получил название «септембер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C:\Users\user\Desktop\картинки осень\ёжик.jpg"/>
          <p:cNvPicPr/>
          <p:nvPr/>
        </p:nvPicPr>
        <p:blipFill>
          <a:blip r:embed="rId2"/>
          <a:stretch/>
        </p:blipFill>
        <p:spPr>
          <a:xfrm>
            <a:off x="6659640" y="2708280"/>
            <a:ext cx="1657440" cy="16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i?id=37819843&amp;tov=3"/>
          <p:cNvPicPr/>
          <p:nvPr/>
        </p:nvPicPr>
        <p:blipFill>
          <a:blip r:embed="rId2"/>
          <a:stretch/>
        </p:blipFill>
        <p:spPr>
          <a:xfrm>
            <a:off x="7308720" y="1700280"/>
            <a:ext cx="1690920" cy="151272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1619280" y="692280"/>
            <a:ext cx="619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Осенний календ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826920" y="1844640"/>
            <a:ext cx="691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В октябре солнце бледное и холодное, 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в полдень поднимается невысо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2"/>
          <p:cNvSpPr/>
          <p:nvPr/>
        </p:nvSpPr>
        <p:spPr>
          <a:xfrm>
            <a:off x="826920" y="2997360"/>
            <a:ext cx="763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Всё чаще идут дожди. Появляются лужи 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и грязь. Поэтому октябрь – «грязник», «позимник», «листопадник», «капустник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826920" y="4581360"/>
            <a:ext cx="69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Про октябрь говорят: «От осени к лету поворота нету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C:\Users\user\Desktop\картинки осень\осень фон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1619280" y="692280"/>
            <a:ext cx="6194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mic Sans MS"/>
              </a:rPr>
              <a:t>Осенний календар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1"/>
          <p:cNvSpPr/>
          <p:nvPr/>
        </p:nvSpPr>
        <p:spPr>
          <a:xfrm>
            <a:off x="826920" y="1844640"/>
            <a:ext cx="7417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Ноябрь – «ворота зимы», «сумерки года». 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В ноябре зима с осенью борю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826920" y="321300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Ноябрь – сентябрёв внук, октябрёв сын, зиме – родной батюш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"/>
          <p:cNvSpPr/>
          <p:nvPr/>
        </p:nvSpPr>
        <p:spPr>
          <a:xfrm>
            <a:off x="826920" y="4581360"/>
            <a:ext cx="67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Холоден октябрь-батюшка, а ноябрь </a:t>
            </a:r>
            <a:br>
              <a:rPr sz="2800"/>
            </a:br>
            <a:r>
              <a:rPr b="0" lang="ru-RU" sz="2800" spc="-1" strike="noStrike">
                <a:solidFill>
                  <a:srgbClr val="993300"/>
                </a:solidFill>
                <a:latin typeface="Comic Sans MS"/>
              </a:rPr>
              <a:t>и его перехолод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2" descr="C:\Program Files\Microsoft Office\MEDIA\CAGCAT10\j0293828.wmf"/>
          <p:cNvPicPr/>
          <p:nvPr/>
        </p:nvPicPr>
        <p:blipFill>
          <a:blip r:embed="rId2"/>
          <a:stretch/>
        </p:blipFill>
        <p:spPr>
          <a:xfrm>
            <a:off x="6804000" y="2276640"/>
            <a:ext cx="1390680" cy="1463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C:\Users\user\Desktop\картинки осень\круг.jpg"/>
          <p:cNvPicPr/>
          <p:nvPr/>
        </p:nvPicPr>
        <p:blipFill>
          <a:blip r:embed="rId3"/>
          <a:stretch/>
        </p:blipFill>
        <p:spPr>
          <a:xfrm rot="1031400">
            <a:off x="7848360" y="231264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24T15:59:18Z</dcterms:created>
  <dc:creator>user</dc:creator>
  <dc:description/>
  <dc:language>en-US</dc:language>
  <cp:lastModifiedBy>user</cp:lastModifiedBy>
  <dcterms:modified xsi:type="dcterms:W3CDTF">2021-09-26T17:26:14Z</dcterms:modified>
  <cp:revision>38</cp:revision>
  <dc:subject/>
  <dc:title>Слайд 1</dc:title>
</cp:coreProperties>
</file>