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2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057-739E-4E3E-9626-E95DD728CA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194-A636-43F5-99CD-C6CE37C2687A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сч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E87-1234-403B-A155-FEC0485E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EEE-2572-4841-AE28-6EBEF212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52B83-5A7A-4D78-A958-40161F6A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2DDF0-6420-4A2B-8767-F9B4DF5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C8C69-0B59-48C2-913E-67A70D3B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18CF4-A0BE-4ADB-BB85-26CBD43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78368-85AF-4ECD-811F-5AB6F64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CECC0-CF01-4FBD-8F66-F31B9CB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A64DB-6F3F-419E-B8A0-136EAE2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2CE69-CD0C-4032-A950-EF7C7E5C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BF68-7A9A-4542-996E-4B4B2B51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BA2CB-4940-48FF-BC71-15F2BB5B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1A0-056F-492D-81F8-AECFB981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A4E81-0D15-4090-80CF-C265274D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94FC8-71E9-40FC-8CB5-3B57B8A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8DD13-747A-42BB-9718-008AEC3E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1135-E7CD-491C-8FAD-12C091FA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8288-7942-4AAA-BDDC-8B65CF2A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B2FC2-DDD5-4989-A863-255CD30C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3F02-AD1C-45CD-B480-EA29B05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270F5-D41A-4CF4-87A2-7AC3F5A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F336-3619-44C2-9CD5-1DDDE886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1E5DB-BDAD-4443-A39F-ED0A28DE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5F7-5CDA-4A27-8122-FE9DFFBE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3A0D8-92D9-4124-B42D-83F346CB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3A95-D61E-460D-83B3-F155A63E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B082-4BD4-4E4C-962F-B50776BF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DDFA-D9C6-4675-8299-204265F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D513-FACF-44ED-AB3D-46B5F726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3E66-1658-4804-8069-851AFB2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37A4-D686-4123-B156-A949919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2711-1B6F-4B30-851E-49D7C59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F6F-74E7-4DB5-B72D-9AEA01A7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7C03-5E2A-4ED8-8420-4B5008C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F8A0-9F94-4888-A581-EBD2746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C948-9243-43A1-9438-8CDED78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5599-3BB5-49CD-B5CB-C3928373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1820-D986-452A-A9CF-F45C1023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806D-9E12-4483-AFF8-C24B616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48EB-5117-4B7B-BBB6-813F5210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D00D-6469-49EE-A46E-6D9C941A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B726-40F4-4A8A-BE04-94EFA858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A9BB-439F-477D-9B19-DFDA5FC0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8C3-44F4-4E19-8C84-1F5135E3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276E-7EAB-4949-8212-FA15C1C6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D737-DF45-4370-8EE1-29F42DD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E0CE-491B-46CE-BC19-726164F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B38A-AD71-4E85-A768-87FCE4F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13B2-142E-4510-AF6C-60B93BD7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950B-F660-4CCB-B0EB-68B9F9F3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B826-4BAC-4017-931E-BD043268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2B0B-8BCB-48AC-9994-D53A3D0D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D2D7-73D2-4643-888E-38C253AF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82D0-9E74-41E2-86DD-5897F82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CB8-759B-4065-B050-A4DB8663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238C-E2E1-4623-8B95-4CA20D6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A1BA-0D81-4821-B581-559D4374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9504-1FFD-43DF-BE40-25391660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AED5-5A6D-44EC-8329-B94B9C7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023F-35A0-4C21-8009-7E3D945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A5D2-9DE8-41E8-A9FE-8B53679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EDCA-C5D0-4FC2-89B6-A20091CF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7E33-524B-475D-9A67-172D0EF8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82B6-ECE5-4FE5-B175-9042FBCC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894C-1F0F-45F8-8CF3-A089104E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7B9-ABA6-4F09-9552-7D9FBC28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D3C7-383A-491C-9E3B-C8FB889F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C560A-67EF-48E2-BDBB-407EBB8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88A14-5D1A-4519-9C47-1BBD261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89BA-80CE-4C00-9C10-2C5EE14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B08A-90A8-4F61-9650-1268065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E77F-6AEC-48D2-B88E-54A18B46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825E-0246-41A7-BC37-C9DC565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C145-31F4-41B4-992F-AB4D4EF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0FD6-E1DD-4AB6-8E16-790D41F1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EF48-8747-4D9E-BA33-0E8AF9D4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454-D203-4266-956E-CD9A887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5A18-99B5-437E-AD4C-D9BAFD22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4B30-C783-4799-BF0C-19D05262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B0C0A-4F77-43CB-ADA7-D26B1D9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26AF-71DB-47B2-9800-E5E72D4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3C117-2A06-4D0B-9BFC-2233E2EA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548F-B6E5-4C9E-8B36-748FAE16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8EFB-8465-43E2-937D-8CF4674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96BD-DCAE-47C9-815A-80415DF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2905-897F-48E5-8A22-85CE4E5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9E797-6792-4016-931E-1A022127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D5F-25AF-46F3-827B-E305228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B862E-2B83-4C62-B44F-58A5A0A6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BDE3-F191-4ECD-8299-FEEC4EA6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EAFC-7E48-478C-9759-C64E1132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1AFC-ED19-4330-A3B5-56081391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04BF-E4EF-4F2D-9B00-2435BE48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0DD2A-D0AA-4EDB-975B-A63363B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FEDB7-7C29-4DE6-AB5A-C3D5BF8D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4912-1807-4A66-99E9-4A90A476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BA84-75B0-4755-88E2-9FD7404A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C6AD-5A83-40CB-8634-4107670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E36-E761-487B-8716-095FB55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9EE15-7F77-471F-807E-03FB1741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5E5A-BDA9-4DD1-A399-4D0F7BC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F2D8A-9F54-4ED9-A1E6-455F392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69AE-1D5A-4DB2-9F95-C796B613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3088-3BCB-4CF4-86DF-062F9681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9E51-88E9-4FF2-B063-2D95C9BB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7E32-B9DD-4CCE-B085-9295C8A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C2EEC-E10F-4683-9C3E-88C5F2F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E836-EDCC-4708-90ED-8C648B4A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5E919-29F7-4A27-9C2D-5021284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741-7BA1-411C-8E52-D15F2E1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17A0-6EB6-4991-97AA-58855A57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68C7A-3196-421F-BD28-3D027E3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4F074-A7C5-43F0-8EA0-3B2D600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3027-0690-4481-AE35-07AB538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A996-1DC6-48B6-BD61-DC00262E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6BDD-F05F-46CD-8E8C-A88FA990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8FFB5-14E6-4C6E-B821-048F003C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EB230-5A06-493C-AEB8-40186870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8A6C1-2D44-4BE4-835F-BBED7918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CBE5C-BD1E-426F-B258-27B75C50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2C9-00B2-4EFB-B02F-93BDB940ACFC}" type="datetime">
              <a:rPr b="1" i="1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503D-B907-4EC8-B953-50D520EA5C23}" type="slidenum">
              <a:rPr b="1" i="1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D97-E019-4C47-8B24-1A181AE091AB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400C-A657-417A-97E9-F3A479A292D5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A705-1CBE-4955-A426-242844069F19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826-AABF-41AC-A3A9-6E6449E9C5C9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2A5-7794-4ED6-95A8-A50E19E08C04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D2AF-C053-4A07-96A2-2E783C54E79C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DDC1-0761-416E-A05F-7F327CC804AE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E9CE-2BA8-43B3-A746-85911592F101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234-F088-4820-85B2-BDEEE0232574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6885-139A-4047-B50C-67039D482465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871B-3CD4-4D20-BA4F-B56985C24B27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226B-4172-4C6A-B12D-A4944678C926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83E4-DE64-4BF5-897D-F096CCCA2DE3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CCB-6C70-47F8-9F7C-5160C0E99D68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EB72-42CB-4F10-8C2E-30BD33AC4B12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09F0-F804-4EB5-9089-41B7A515130D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C78E-F476-48F3-B253-938E426C5566}" type="datetime">
              <a:rPr b="0" lang="ru-RU" sz="1200" spc="-1" strike="noStrike">
                <a:solidFill>
                  <a:srgbClr val="898989"/>
                </a:solidFill>
                <a:latin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Кравченко Галина Михайл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6848-7199-44A6-BD36-4E7CA53659C4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5"/>
          <p:cNvSpPr/>
          <p:nvPr/>
        </p:nvSpPr>
        <p:spPr>
          <a:xfrm>
            <a:off x="755640" y="620640"/>
            <a:ext cx="741672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«Предмет математики настолько серьезен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не нужно упускать случая дел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го немного занимательным и интересным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Б. Паска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 Box 8" descr=""/>
          <p:cNvPicPr/>
          <p:nvPr/>
        </p:nvPicPr>
        <p:blipFill>
          <a:blip r:embed="rId1"/>
          <a:stretch/>
        </p:blipFill>
        <p:spPr>
          <a:xfrm>
            <a:off x="249120" y="1773360"/>
            <a:ext cx="2189160" cy="976320"/>
          </a:xfrm>
          <a:prstGeom prst="rect">
            <a:avLst/>
          </a:prstGeom>
          <a:ln w="0">
            <a:noFill/>
          </a:ln>
        </p:spPr>
      </p:pic>
      <p:pic>
        <p:nvPicPr>
          <p:cNvPr id="467" name="Text Box 9" descr=""/>
          <p:cNvPicPr/>
          <p:nvPr/>
        </p:nvPicPr>
        <p:blipFill>
          <a:blip r:embed="rId2"/>
          <a:stretch/>
        </p:blipFill>
        <p:spPr>
          <a:xfrm>
            <a:off x="212760" y="2597040"/>
            <a:ext cx="2384280" cy="981360"/>
          </a:xfrm>
          <a:prstGeom prst="rect">
            <a:avLst/>
          </a:prstGeom>
          <a:ln w="0">
            <a:noFill/>
          </a:ln>
        </p:spPr>
      </p:pic>
      <p:pic>
        <p:nvPicPr>
          <p:cNvPr id="468" name="Text Box 11" descr=""/>
          <p:cNvPicPr/>
          <p:nvPr/>
        </p:nvPicPr>
        <p:blipFill>
          <a:blip r:embed="rId3"/>
          <a:stretch/>
        </p:blipFill>
        <p:spPr>
          <a:xfrm>
            <a:off x="176040" y="3578400"/>
            <a:ext cx="2622600" cy="987120"/>
          </a:xfrm>
          <a:prstGeom prst="rect">
            <a:avLst/>
          </a:prstGeom>
          <a:ln w="0">
            <a:noFill/>
          </a:ln>
        </p:spPr>
      </p:pic>
      <p:pic>
        <p:nvPicPr>
          <p:cNvPr id="469" name="AutoShape 21" descr=""/>
          <p:cNvPicPr/>
          <p:nvPr/>
        </p:nvPicPr>
        <p:blipFill>
          <a:blip r:embed="rId4"/>
          <a:stretch/>
        </p:blipFill>
        <p:spPr>
          <a:xfrm>
            <a:off x="2335320" y="1596960"/>
            <a:ext cx="1560240" cy="1176480"/>
          </a:xfrm>
          <a:prstGeom prst="rect">
            <a:avLst/>
          </a:prstGeom>
          <a:ln w="0">
            <a:noFill/>
          </a:ln>
        </p:spPr>
      </p:pic>
      <p:pic>
        <p:nvPicPr>
          <p:cNvPr id="470" name="AutoShape 22" descr=""/>
          <p:cNvPicPr/>
          <p:nvPr/>
        </p:nvPicPr>
        <p:blipFill>
          <a:blip r:embed="rId5"/>
          <a:stretch/>
        </p:blipFill>
        <p:spPr>
          <a:xfrm>
            <a:off x="2951280" y="2401920"/>
            <a:ext cx="3108240" cy="1163520"/>
          </a:xfrm>
          <a:prstGeom prst="rect">
            <a:avLst/>
          </a:prstGeom>
          <a:ln w="0">
            <a:noFill/>
          </a:ln>
        </p:spPr>
      </p:pic>
      <p:pic>
        <p:nvPicPr>
          <p:cNvPr id="471" name="AutoShape 24" descr=""/>
          <p:cNvPicPr/>
          <p:nvPr/>
        </p:nvPicPr>
        <p:blipFill>
          <a:blip r:embed="rId6"/>
          <a:stretch/>
        </p:blipFill>
        <p:spPr>
          <a:xfrm>
            <a:off x="2779560" y="326700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5"/>
          <p:cNvSpPr/>
          <p:nvPr/>
        </p:nvSpPr>
        <p:spPr>
          <a:xfrm>
            <a:off x="1571760" y="285840"/>
            <a:ext cx="6143400" cy="1296720"/>
          </a:xfrm>
          <a:prstGeom prst="cloudCallout">
            <a:avLst>
              <a:gd name="adj1" fmla="val 59180"/>
              <a:gd name="adj2" fmla="val 53060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"Торопись, да не ошибись"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Рисунок 32" descr="Рамка  Буратино и Мальвина ..."/>
          <p:cNvPicPr/>
          <p:nvPr/>
        </p:nvPicPr>
        <p:blipFill>
          <a:blip r:embed="rId7"/>
          <a:srcRect l="0" t="53383" r="62506" b="0"/>
          <a:stretch/>
        </p:blipFill>
        <p:spPr>
          <a:xfrm>
            <a:off x="214200" y="285840"/>
            <a:ext cx="1428840" cy="1185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C:\Documents and Settings\Admin\Рабочий стол\images (2).jpg"/>
          <p:cNvPicPr/>
          <p:nvPr/>
        </p:nvPicPr>
        <p:blipFill>
          <a:blip r:embed="rId8"/>
          <a:stretch/>
        </p:blipFill>
        <p:spPr>
          <a:xfrm>
            <a:off x="6516720" y="1476360"/>
            <a:ext cx="2073240" cy="2236680"/>
          </a:xfrm>
          <a:prstGeom prst="rect">
            <a:avLst/>
          </a:prstGeom>
          <a:ln w="0">
            <a:noFill/>
          </a:ln>
        </p:spPr>
      </p:pic>
      <p:pic>
        <p:nvPicPr>
          <p:cNvPr id="475" name="TextBox 2" descr=""/>
          <p:cNvPicPr/>
          <p:nvPr/>
        </p:nvPicPr>
        <p:blipFill>
          <a:blip r:embed="rId9"/>
          <a:stretch/>
        </p:blipFill>
        <p:spPr>
          <a:xfrm>
            <a:off x="176040" y="4516560"/>
            <a:ext cx="3225960" cy="12319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3" descr=""/>
          <p:cNvPicPr/>
          <p:nvPr/>
        </p:nvPicPr>
        <p:blipFill>
          <a:blip r:embed="rId10"/>
          <a:stretch/>
        </p:blipFill>
        <p:spPr>
          <a:xfrm>
            <a:off x="2897280" y="4533840"/>
            <a:ext cx="311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Решение задач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1749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Script"/>
              </a:rPr>
              <a:t>Рефлексия</a:t>
            </a:r>
            <a:r>
              <a:rPr b="0" lang="ru-RU" sz="4400" spc="-1" strike="noStrike">
                <a:solidFill>
                  <a:srgbClr val="c00000"/>
                </a:solidFill>
                <a:latin typeface="Segoe Script"/>
              </a:rPr>
              <a:t>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54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Segoe UI"/>
              </a:rPr>
              <a:t>                 </a:t>
            </a:r>
            <a:r>
              <a:rPr b="0" lang="ru-RU" sz="3200" spc="-1" strike="noStrike">
                <a:solidFill>
                  <a:srgbClr val="002060"/>
                </a:solidFill>
                <a:latin typeface="Segoe UI"/>
              </a:rPr>
              <a:t>все понял и научился применять        формулы;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 algn="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 algn="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 algn="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Segoe UI"/>
              </a:rPr>
              <a:t>понял, но затрудняюсь                     применя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5396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Рисунок 2" descr=""/>
          <p:cNvPicPr/>
          <p:nvPr/>
        </p:nvPicPr>
        <p:blipFill>
          <a:blip r:embed="rId5"/>
          <a:stretch/>
        </p:blipFill>
        <p:spPr>
          <a:xfrm>
            <a:off x="755640" y="1600200"/>
            <a:ext cx="1981080" cy="131112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8"/>
          <p:cNvSpPr/>
          <p:nvPr/>
        </p:nvSpPr>
        <p:spPr>
          <a:xfrm>
            <a:off x="-40176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Рисунок 25" descr=""/>
          <p:cNvPicPr/>
          <p:nvPr/>
        </p:nvPicPr>
        <p:blipFill>
          <a:blip r:embed="rId6"/>
          <a:stretch/>
        </p:blipFill>
        <p:spPr>
          <a:xfrm>
            <a:off x="755640" y="3341520"/>
            <a:ext cx="188280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3" descr=""/>
          <p:cNvPicPr/>
          <p:nvPr/>
        </p:nvPicPr>
        <p:blipFill>
          <a:blip r:embed="rId2"/>
          <a:stretch/>
        </p:blipFill>
        <p:spPr>
          <a:xfrm>
            <a:off x="-201600" y="-171360"/>
            <a:ext cx="9345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4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Задачи урока:</a:t>
            </a:r>
            <a:endParaRPr b="0" lang="en-US" sz="36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закрепление навыков</a:t>
            </a: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чащимися предметного (теоретического и практического) содержания по теме «Сложение и вычитание смешанных чисел»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ить понятия смешанного числа;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батывать умен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ять сумму или разность двух и более дробей или смешанных чисел.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*</a:t>
            </a:r>
            <a:endParaRPr b="0" lang="en-US" sz="24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91" name="Picture 5" descr=""/>
          <p:cNvPicPr/>
          <p:nvPr/>
        </p:nvPicPr>
        <p:blipFill>
          <a:blip r:embed="rId1"/>
          <a:srcRect l="0" t="-199" r="0" b="210"/>
          <a:stretch/>
        </p:blipFill>
        <p:spPr>
          <a:xfrm>
            <a:off x="0" y="2700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2"/>
          <p:cNvSpPr/>
          <p:nvPr/>
        </p:nvSpPr>
        <p:spPr>
          <a:xfrm>
            <a:off x="4302000" y="3429000"/>
            <a:ext cx="3006720" cy="863640"/>
          </a:xfrm>
          <a:prstGeom prst="rect">
            <a:avLst/>
          </a:prstGeom>
          <a:solidFill>
            <a:srgbClr val="ff99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4859280" y="278136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539640" y="278136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619280" y="54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  <a:ea typeface="Arial"/>
              </a:rPr>
              <a:t>Разгадайте  реб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8" descr="angel"/>
          <p:cNvPicPr/>
          <p:nvPr/>
        </p:nvPicPr>
        <p:blipFill>
          <a:blip r:embed="rId1"/>
          <a:stretch/>
        </p:blipFill>
        <p:spPr>
          <a:xfrm>
            <a:off x="2411280" y="3284640"/>
            <a:ext cx="1511280" cy="1439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img14"/>
          <p:cNvPicPr/>
          <p:nvPr/>
        </p:nvPicPr>
        <p:blipFill>
          <a:blip r:embed="rId2"/>
          <a:srcRect l="0" t="0" r="55981" b="0"/>
          <a:stretch/>
        </p:blipFill>
        <p:spPr>
          <a:xfrm>
            <a:off x="684360" y="3284640"/>
            <a:ext cx="1584000" cy="143964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0"/>
          <p:cNvSpPr/>
          <p:nvPr/>
        </p:nvSpPr>
        <p:spPr>
          <a:xfrm flipV="1" rot="10800000">
            <a:off x="2700360" y="2851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Г = 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WordArt 12"/>
          <p:cNvSpPr txBox="1"/>
          <p:nvPr/>
        </p:nvSpPr>
        <p:spPr>
          <a:xfrm>
            <a:off x="3851280" y="314172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426" name="Picture 13" descr="img15"/>
          <p:cNvPicPr/>
          <p:nvPr/>
        </p:nvPicPr>
        <p:blipFill>
          <a:blip r:embed="rId3"/>
          <a:srcRect l="0" t="0" r="45964" b="0"/>
          <a:stretch/>
        </p:blipFill>
        <p:spPr>
          <a:xfrm>
            <a:off x="5292720" y="3284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6" descr="игла"/>
          <p:cNvPicPr/>
          <p:nvPr/>
        </p:nvPicPr>
        <p:blipFill>
          <a:blip r:embed="rId4"/>
          <a:srcRect l="0" t="0" r="67953" b="-7953"/>
          <a:stretch/>
        </p:blipFill>
        <p:spPr>
          <a:xfrm>
            <a:off x="7236000" y="3284640"/>
            <a:ext cx="496800" cy="1439640"/>
          </a:xfrm>
          <a:prstGeom prst="rect">
            <a:avLst/>
          </a:prstGeom>
          <a:ln w="0">
            <a:noFill/>
          </a:ln>
        </p:spPr>
      </p:pic>
      <p:sp>
        <p:nvSpPr>
          <p:cNvPr id="428" name="WordArt 17"/>
          <p:cNvSpPr txBox="1"/>
          <p:nvPr/>
        </p:nvSpPr>
        <p:spPr>
          <a:xfrm>
            <a:off x="7380360" y="436572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29" name="WordArt 18"/>
          <p:cNvSpPr txBox="1"/>
          <p:nvPr/>
        </p:nvSpPr>
        <p:spPr>
          <a:xfrm>
            <a:off x="7164360" y="436572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619280" y="1773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Смешан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1" name="Group 18"/>
          <p:cNvGrpSpPr/>
          <p:nvPr/>
        </p:nvGrpSpPr>
        <p:grpSpPr>
          <a:xfrm>
            <a:off x="63360" y="76320"/>
            <a:ext cx="8991360" cy="6705000"/>
            <a:chOff x="63360" y="76320"/>
            <a:chExt cx="8991360" cy="6705000"/>
          </a:xfrm>
        </p:grpSpPr>
        <p:sp>
          <p:nvSpPr>
            <p:cNvPr id="432" name="Freeform 19"/>
            <p:cNvSpPr/>
            <p:nvPr/>
          </p:nvSpPr>
          <p:spPr>
            <a:xfrm>
              <a:off x="528840" y="1036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Freeform 20"/>
            <p:cNvSpPr/>
            <p:nvPr/>
          </p:nvSpPr>
          <p:spPr>
            <a:xfrm>
              <a:off x="568440" y="6767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901476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11628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116280" y="6289920"/>
              <a:ext cx="45180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 flipH="1">
              <a:off x="8602560" y="6275880"/>
              <a:ext cx="4521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 flipH="1" rot="16200000">
              <a:off x="8583120" y="6912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 rot="5400000">
              <a:off x="70560" y="68760"/>
              <a:ext cx="4644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dd36efffaaed"/>
          <p:cNvPicPr/>
          <p:nvPr/>
        </p:nvPicPr>
        <p:blipFill>
          <a:blip r:embed="rId1"/>
          <a:stretch/>
        </p:blipFill>
        <p:spPr>
          <a:xfrm>
            <a:off x="250920" y="2492280"/>
            <a:ext cx="2428920" cy="3961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Рисунок15"/>
          <p:cNvPicPr/>
          <p:nvPr/>
        </p:nvPicPr>
        <p:blipFill>
          <a:blip r:embed="rId2"/>
          <a:stretch/>
        </p:blipFill>
        <p:spPr>
          <a:xfrm>
            <a:off x="6084720" y="2276640"/>
            <a:ext cx="2725920" cy="4149720"/>
          </a:xfrm>
          <a:prstGeom prst="rect">
            <a:avLst/>
          </a:prstGeom>
          <a:ln w="0">
            <a:noFill/>
          </a:ln>
        </p:spPr>
      </p:pic>
      <p:sp>
        <p:nvSpPr>
          <p:cNvPr id="442" name="WordArt 6"/>
          <p:cNvSpPr txBox="1"/>
          <p:nvPr/>
        </p:nvSpPr>
        <p:spPr>
          <a:xfrm>
            <a:off x="755640" y="1341360"/>
            <a:ext cx="8020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ложение и вычитание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мешанных чисел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-Какие числа называют смешанными?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U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Segoe Script (Заголовки)"/>
              </a:rPr>
              <a:t>Сформулируйте алгоритм сложения и вычитания смешанных чисел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258920" y="14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Выполнить задание в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apps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or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Рисунок 4" descr=""/>
          <p:cNvPicPr/>
          <p:nvPr/>
        </p:nvPicPr>
        <p:blipFill>
          <a:blip r:embed="rId1"/>
          <a:stretch/>
        </p:blipFill>
        <p:spPr>
          <a:xfrm>
            <a:off x="1835280" y="1704960"/>
            <a:ext cx="4824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2120" y="39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АЗГАДАЙ»(запишите ответы в порядке возрастания)</a:t>
            </a:r>
            <a:br>
              <a:rPr sz="3200"/>
            </a:b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 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пп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(Д) 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1357200" cy="934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3203640" y="1868400"/>
            <a:ext cx="1272960" cy="839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"/>
          <p:cNvPicPr/>
          <p:nvPr/>
        </p:nvPicPr>
        <p:blipFill>
          <a:blip r:embed="rId3"/>
          <a:stretch/>
        </p:blipFill>
        <p:spPr>
          <a:xfrm>
            <a:off x="6008760" y="1820880"/>
            <a:ext cx="1008000" cy="887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4"/>
          <a:stretch/>
        </p:blipFill>
        <p:spPr>
          <a:xfrm>
            <a:off x="855720" y="3772080"/>
            <a:ext cx="1616040" cy="880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"/>
          <p:cNvPicPr/>
          <p:nvPr/>
        </p:nvPicPr>
        <p:blipFill>
          <a:blip r:embed="rId5"/>
          <a:stretch/>
        </p:blipFill>
        <p:spPr>
          <a:xfrm>
            <a:off x="3840120" y="3875040"/>
            <a:ext cx="1150920" cy="849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"/>
          <p:cNvPicPr/>
          <p:nvPr/>
        </p:nvPicPr>
        <p:blipFill>
          <a:blip r:embed="rId6"/>
          <a:stretch/>
        </p:blipFill>
        <p:spPr>
          <a:xfrm>
            <a:off x="6008760" y="3857760"/>
            <a:ext cx="1227240" cy="83340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3"/>
          <p:cNvSpPr/>
          <p:nvPr/>
        </p:nvSpPr>
        <p:spPr>
          <a:xfrm>
            <a:off x="611280" y="2967120"/>
            <a:ext cx="79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(Д)                                      (У)                                  (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(Л)                                     (П)                                (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3471120" y="558972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ЛАНУ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7"/>
          <a:stretch/>
        </p:blipFill>
        <p:spPr>
          <a:xfrm>
            <a:off x="7213680" y="692280"/>
            <a:ext cx="19303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Рисунок 2" descr="boy-upside-down.jpg"/>
          <p:cNvPicPr/>
          <p:nvPr/>
        </p:nvPicPr>
        <p:blipFill>
          <a:blip r:embed="rId1"/>
          <a:stretch/>
        </p:blipFill>
        <p:spPr>
          <a:xfrm>
            <a:off x="6588000" y="3170160"/>
            <a:ext cx="2571840" cy="36878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3" descr="Muscle_boy.png"/>
          <p:cNvPicPr/>
          <p:nvPr/>
        </p:nvPicPr>
        <p:blipFill>
          <a:blip r:embed="rId2"/>
          <a:stretch/>
        </p:blipFill>
        <p:spPr>
          <a:xfrm>
            <a:off x="0" y="357120"/>
            <a:ext cx="1857240" cy="22636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"/>
          <p:cNvSpPr/>
          <p:nvPr/>
        </p:nvSpPr>
        <p:spPr>
          <a:xfrm>
            <a:off x="2000160" y="548280"/>
            <a:ext cx="4572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встали, улыбнулис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- выше потянулис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-ка, плечи распрямит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ите, опусти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вернитес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 ладонями косните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- встали, сели- вст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, надеюсь, не уст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зарядка будет впро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ем наш уро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Самостоятельная работа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7d23"/>
                </a:solidFill>
                <a:latin typeface="Segoe UI"/>
              </a:rPr>
              <a:t>https://forms.gle/6WNbvLnUoD8759UM7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18:56Z</dcterms:created>
  <dc:creator>Admin</dc:creator>
  <dc:description/>
  <dc:language>en-US</dc:language>
  <cp:lastModifiedBy>Азамат</cp:lastModifiedBy>
  <dcterms:modified xsi:type="dcterms:W3CDTF">2021-03-02T18:04:08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