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6FD-E6E7-4F13-9FBE-883C559F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103-DA76-4E4F-A486-A0BBFF90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E34-9A1C-4E90-85B8-528628E5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753-D3C4-4F13-896D-A589BA41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A8F-3460-4621-8368-6D6634D1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5AF-A088-4EEB-9E8C-931DA9D8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162-235B-4C03-859E-E54C9152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358-9A4E-4A5A-B416-39E90D70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322-FE8D-4E98-95C6-4310A079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999-76DF-4C95-A828-CBF07A81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08C-8A04-4F3A-A9DE-C7FE6A7C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8A5-BC5B-4CD9-AD89-782759E7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FEB9-A807-4FA4-93EE-BED34AE10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kozentsev@mail.ru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желания участникам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Реальная разработка ПО предполагает полный контроль над создаваемым продуктом, а потому:</a:t>
            </a:r>
            <a:br>
              <a:rPr sz="1600"/>
            </a:b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- забудьте о средствах «быстрой» разработки, только работа ума, мышления, воображения и пальчиков - ни какой «мышиной возни»;</a:t>
            </a:r>
            <a:br>
              <a:rPr sz="1600"/>
            </a:b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- не ожидайте лёгких и быстрых путей достижения конечной цели, осмысленная, упорная и постоянная работа приведёт вас к результату.</a:t>
            </a:r>
            <a:br>
              <a:rPr sz="1600"/>
            </a:b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Не исключено временное покраснение глаз и мозоли на заднем месте </a:t>
            </a:r>
            <a:r>
              <a:rPr b="0" i="1" lang="ru-RU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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Почему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C++ ?</a:t>
            </a:r>
            <a:br>
              <a:rPr sz="1600"/>
            </a:b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- Потому, что это язык «де факто» профессионального программирования;</a:t>
            </a:r>
            <a:br>
              <a:rPr sz="1600"/>
            </a:b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- Потому, что на этот язык и на его библиотеки существует ряд международных стандартов, а это гарантирует его применимость «везде» и «всег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Работа на занятиях будет проводиться в устном порядке и с компьютером, письменной записи вестись не будет. Все необходимые материалы будут передаваться учащимся в электронном виде: необходимые инструментальные средства, учебные пособия, конспекты занятий, задания для самостоятельной работы. Для этого каждому учащемуся желательно обзавестись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USB-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флеш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Занятия будут проводится всего лишь раз в неделю, что предполагает наличие дома компьютера, а также самостоятельную работу с полученными материалами и домашними зада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Удачи вам будущие программист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68360" y="476280"/>
            <a:ext cx="8280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становка редактора с подсветкой синтаксис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red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пустить на выполнение программу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red3.0.3-setup_2k.ex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ледовать указаниям инсталлятора, принимая все предлагаемые умолч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копировать командный файл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d.ba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основной рабочий каталог</a:t>
            </a:r>
            <a:br>
              <a:rPr sz="1600"/>
            </a:b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Скопировать туда же другие командные файлы, необходимые для генерации заготовок программ по шаблонам, их компиляции и удаления откомпилированных модулей, а также сами шаблоны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3030480"/>
            <a:ext cx="8280360" cy="36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ы работы с программами в командной стро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rt &lt;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имя_файл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&gt; &lt;std&gt;|&lt;cpp&gt;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нерация заготовки программы по шаблону «стандартный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» или «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++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ответстве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d &lt;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имя_файл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&gt;.cpp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едактирование нового или сгенерированного исходного фай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c|cw &lt;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имя_файл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омпиляция исходного текста программы (имя файла записывается без расширения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cpp”)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g++ &lt;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имя_файл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&gt;.cpp –o &lt;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имя_файл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&gt;.ex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ругой прямой вариант вызова компиля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имя_файл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| &lt;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имя_файла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&gt;.ex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пуск откомпилированного модуля (програм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ln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даление модулей компиляции (*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, *.exe)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 выход в вышестоящий ката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 Box 4"/>
          <p:cNvSpPr/>
          <p:nvPr/>
        </p:nvSpPr>
        <p:spPr>
          <a:xfrm>
            <a:off x="250920" y="320760"/>
            <a:ext cx="864216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// ввод исход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“x1=“; cin&gt;&gt;x1; cout&lt;&lt;“y1=“; cin&gt;&gt;y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“x2=“; cin&gt;&gt;x2; cout&lt;&lt;“y2=“; cin&gt;&gt;y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“x3=“; cin&gt;&gt;x3; cout&lt;&lt;“y3=“; cin&gt;&gt;y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стороны треуг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dist(x1,y1,x2,y2); b = dist(x2,y2,x3,y3); c = dist(x3,y3,x1,y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/ периме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= a+b+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полупериметр треуг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 = p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площадь (формула Геро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sqrt(pp*(pp-a)*(pp-b)*(pp-c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вывод 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иметр треугольника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&lt;&lt;p&lt;&lt;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щадь треугольника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&lt;&lt;s&lt;&lt;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(“pause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конец главной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4"/>
          <p:cNvSpPr/>
          <p:nvPr/>
        </p:nvSpPr>
        <p:spPr>
          <a:xfrm>
            <a:off x="250920" y="189000"/>
            <a:ext cx="86756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ите внимание, что фун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(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а и объявлена до главной функ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аком вид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(…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е. при компиляции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main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илятор уже «знает» что так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dist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этому компиляция протекает без ошиб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dist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после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main”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для правильной работы компилятора, чтобы он не выдавал сообщений типа «неизвестный идентификатор», необходимо функ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dist”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явить до функ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main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способ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(…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// переписываем в точности заголовок функции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“dis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(…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…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Text Box 4"/>
          <p:cNvSpPr/>
          <p:nvPr/>
        </p:nvSpPr>
        <p:spPr>
          <a:xfrm>
            <a:off x="250920" y="189000"/>
            <a:ext cx="86756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им простой 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mm ( int a, int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a+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=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(x,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“x=“&lt;&lt;x&lt;&lt;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, что в приведенном примере на экран будет выведен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x=1”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е. операто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a=a+b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summ”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б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работает. На самом деле происходит следующее: в функ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summ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аются не сами переменны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x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y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и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альнейшие манипуляции выпол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копия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этому при возвращении (по оператор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return”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и переменны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x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y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таются не изменёнными. Т.е. к перемен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добавляется переменна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в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summ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менялись сами переменны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x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y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обходимо передать их в эту функци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о значе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т.е. не копию), 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ссыл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т.е. указатель на саму переменную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4"/>
          <p:cNvSpPr/>
          <p:nvPr/>
        </p:nvSpPr>
        <p:spPr>
          <a:xfrm>
            <a:off x="324000" y="189000"/>
            <a:ext cx="8569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функция, приведенная выше могла изменить передаваемые ей в качестве параметров переменные, необходимо эти переменные передать ей по ссылке следующим способ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*summ ( in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in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a = *a + *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=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(&amp;x,&amp;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“x=“&lt;&lt;x&lt;&lt;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видим, в функцию передаются не переменные (их копии), а указатели на переменные (ссылки). Далее, с использованием операции разымено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*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перации уже выполняются с самими переменными, на которые ссылаются переданные указ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ызове функции внутр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main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честве фактических параметров надо передать однотипные указателям значения, т.е. адреса переменных. Это достигается операцией взятия адрес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&amp;”: summ(&amp;x,&amp;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324000" y="189000"/>
            <a:ext cx="8569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спользовании функции часто возникает необходимость указать, что она не возвращает ни какого результата (то, что в Паскале называется процедура) или тот случай, когда аргументы у функции отсутствуют. В этих случаях используется специальный тип данных –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тается «пуст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umm (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*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s = a+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5"/>
          <p:cNvSpPr/>
          <p:nvPr/>
        </p:nvSpPr>
        <p:spPr>
          <a:xfrm>
            <a:off x="324000" y="3781440"/>
            <a:ext cx="856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.М. Златопольский - Сборник задач по программированию.djv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7, 10.15, 10.17, 10.19, 10.24 (НОК=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*b)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Д), 10.25, 10.32, 10.38, 10.41, 10.42, 10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4"/>
          <p:cNvSpPr/>
          <p:nvPr/>
        </p:nvSpPr>
        <p:spPr>
          <a:xfrm>
            <a:off x="32220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Модульное программирование. Составление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5"/>
          <p:cNvSpPr/>
          <p:nvPr/>
        </p:nvSpPr>
        <p:spPr>
          <a:xfrm>
            <a:off x="179280" y="69228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ан массив чисел (не больше 10). Программа, для приличия, должна спросить у пользователя, сколько элементов он собирается вве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ь должен вводить элементы одному. Надо в отдельной функции вычислить максимальное число, минимальное, и сумму всех чисел. А потом вывести это на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6"/>
          <p:cNvSpPr/>
          <p:nvPr/>
        </p:nvSpPr>
        <p:spPr>
          <a:xfrm>
            <a:off x="250920" y="2332080"/>
            <a:ext cx="85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Функции, не возвращающей значение, на вход передаётся строго 2-значное число 10..99. другие числа исключаются. То есть проверок при вводе не надо делать. Функция должна выдавать на экран следующий результ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=[входное число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адший разряд=[младший разряд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ший разряд=[старший разряд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в [ ] заключен результат. Входное число - это число, которое передавали этой функции в качестве парам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адший разряд - это число единиц ( в числе 87 - 7 едини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ший разряд - это число десятков (в числе 54 - 5 десятков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Text Box 4"/>
          <p:cNvSpPr/>
          <p:nvPr/>
        </p:nvSpPr>
        <p:spPr>
          <a:xfrm>
            <a:off x="324000" y="2602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дача, практически аналогичная предыдущей, только на сей раз функция должна возвращать значение, переданного ей элемента. Изменённое значение. К примеру, передаётся число 34, функция должна вернуть 4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оминаю условие прошл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ход передаётся строго 2-х значное число 10..99. другие числа исключаются. То есть проверок при вводе не надо делать. Далее, элемент передаётся в функцию, которая и должна возвращать результат, но не менять значение этого числа после выхода из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6"/>
          <p:cNvSpPr/>
          <p:nvPr/>
        </p:nvSpPr>
        <p:spPr>
          <a:xfrm>
            <a:off x="324000" y="2708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льзователь вводит строку символов. Найти, сколько гласных в этой строч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7"/>
          <p:cNvSpPr/>
          <p:nvPr/>
        </p:nvSpPr>
        <p:spPr>
          <a:xfrm>
            <a:off x="324000" y="3500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Дан массив символов m[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ь должен ввести символы (не больше 1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программа должна переставить введённые символы: поменять местами первый с последним, второй с предпоследним и так далее. Результат должен выводиться на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ь вводит abc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выводит 321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на сей раз переставлять местами символы должна отдельная функция. Переставлять их она будет в цикле, по два эле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05"/>
          <p:cNvSpPr/>
          <p:nvPr/>
        </p:nvSpPr>
        <p:spPr>
          <a:xfrm>
            <a:off x="468360" y="404640"/>
            <a:ext cx="820728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Во всех последующих задачах в рабочем каталоге (</a:t>
            </a:r>
            <a:r>
              <a:rPr b="0" lang="en-US" sz="2800" spc="-1" strike="noStrike">
                <a:solidFill>
                  <a:srgbClr val="a40000"/>
                </a:solidFill>
                <a:latin typeface="Arial"/>
              </a:rPr>
              <a:t>c:\MinGW\cpp) </a:t>
            </a: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4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Создать подкаталог для новой за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4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Набр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4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Откомпилиро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4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Запустить пр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4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Ввести тестовые знач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4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Сверить их с выводом програм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4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Удалить результаты компиляции (</a:t>
            </a:r>
            <a:r>
              <a:rPr b="0" lang="en-US" sz="2800" spc="-1" strike="noStrike">
                <a:solidFill>
                  <a:srgbClr val="a40000"/>
                </a:solidFill>
                <a:latin typeface="Arial"/>
              </a:rPr>
              <a:t>cln.b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4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a40000"/>
                </a:solidFill>
                <a:latin typeface="Arial"/>
              </a:rPr>
              <a:t>Перейти к следующе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250920" y="13968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аписать программу пересчёта веса из фунтов в килограммы (1 фунт = 405,6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task11"/>
          <p:cNvPicPr/>
          <p:nvPr/>
        </p:nvPicPr>
        <p:blipFill>
          <a:blip r:embed="rId1"/>
          <a:stretch/>
        </p:blipFill>
        <p:spPr>
          <a:xfrm>
            <a:off x="324000" y="476280"/>
            <a:ext cx="5976720" cy="4313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task12"/>
          <p:cNvPicPr/>
          <p:nvPr/>
        </p:nvPicPr>
        <p:blipFill>
          <a:blip r:embed="rId2"/>
          <a:stretch/>
        </p:blipFill>
        <p:spPr>
          <a:xfrm>
            <a:off x="3348000" y="3068640"/>
            <a:ext cx="5580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96720" y="13968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аписать программу вычисления площади треугольника по формуле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=1/2 a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task21"/>
          <p:cNvPicPr/>
          <p:nvPr/>
        </p:nvPicPr>
        <p:blipFill>
          <a:blip r:embed="rId1"/>
          <a:stretch/>
        </p:blipFill>
        <p:spPr>
          <a:xfrm>
            <a:off x="289080" y="515880"/>
            <a:ext cx="5219640" cy="4322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task22"/>
          <p:cNvPicPr/>
          <p:nvPr/>
        </p:nvPicPr>
        <p:blipFill>
          <a:blip r:embed="rId2"/>
          <a:stretch/>
        </p:blipFill>
        <p:spPr>
          <a:xfrm>
            <a:off x="3995640" y="3146400"/>
            <a:ext cx="49690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396720" y="139680"/>
            <a:ext cx="835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аписать программу вычисления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опротивления электрической цепи состоящей из двух параллельно соединённых резисторов (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R=R1*R2/(R1+R2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task31"/>
          <p:cNvPicPr/>
          <p:nvPr/>
        </p:nvPicPr>
        <p:blipFill>
          <a:blip r:embed="rId1"/>
          <a:stretch/>
        </p:blipFill>
        <p:spPr>
          <a:xfrm>
            <a:off x="276120" y="768240"/>
            <a:ext cx="6024600" cy="4965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ask32"/>
          <p:cNvPicPr/>
          <p:nvPr/>
        </p:nvPicPr>
        <p:blipFill>
          <a:blip r:embed="rId2"/>
          <a:stretch/>
        </p:blipFill>
        <p:spPr>
          <a:xfrm>
            <a:off x="3924360" y="3313080"/>
            <a:ext cx="5014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22200" y="1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Краткая история языка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643280" y="1192320"/>
            <a:ext cx="41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Язык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ыл изобретён и впервые реализован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еннисом Ритч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nnis Ritchie)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а компьютере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 PDP-11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д управлением ОС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x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 1972 г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основе языка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CPL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который в свою очередь был разработан Мартином Ричардсом под влиянием другого языка 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dennis_ritchie6"/>
          <p:cNvPicPr/>
          <p:nvPr/>
        </p:nvPicPr>
        <p:blipFill>
          <a:blip r:embed="rId1"/>
          <a:stretch/>
        </p:blipFill>
        <p:spPr>
          <a:xfrm>
            <a:off x="468360" y="1333440"/>
            <a:ext cx="3744720" cy="3608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468360" y="5078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enn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t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468360" y="18900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етом 1983 г. был создан комитет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SI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разработке стандарта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бота комитета затянулась на целых 6 лет. В итоге в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1989 г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был принят стандарт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SI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торый был одобрен Организацией Международных Стандартов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SO)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 появился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NSI/ISO Standard C 1989 (C8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859280" y="2754360"/>
            <a:ext cx="37432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ле 1989 г. в центре внимания программистов оказался уже язык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++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втором и руководителем комитета по стандартизации которого был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Бьерн Страустр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bjarne_stroustrup"/>
          <p:cNvPicPr/>
          <p:nvPr/>
        </p:nvPicPr>
        <p:blipFill>
          <a:blip r:embed="rId1"/>
          <a:stretch/>
        </p:blipFill>
        <p:spPr>
          <a:xfrm>
            <a:off x="1187280" y="2611440"/>
            <a:ext cx="2934000" cy="32893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1187280" y="59961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jar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roust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395280" y="54936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 1998 г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был принят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й стандарт, «выросший» из C89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SI/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ISO C++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68360" y="1773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999 году был принят новый и, вероятно, последний стандарт С (С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68360" y="2997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 2003 г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был принят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й стандарт году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SI/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SO C++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68360" y="4437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настоящее время в комитете по стандартизаци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++ ISO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едётся интенсивная по разработке нового стандарта, появление которого ожидается в этом или в следующем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ые реализации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4904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GNU C (вариант, поддерживаемый компилятором GCC, на данный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мент - расширенный C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Язык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Microsoft Visual C++ (реализация Microsoft, вначале отличающаяся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 стандарта рядом деталей; сейчас почти точный ISO C++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Borland C++ (полная или почти полная реализация C++ 1998,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последствии расширенная рядом возможнос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GNU C++ (вариант, поддерживаемый компилятором G++, наиболее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лная реализация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тандарта C++ 2003 с некоторыми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полнительными возможностя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илятор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nGW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ртом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NU C++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под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ix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ду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539640" y="1159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бщая структура программы на языке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 /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43080" y="995400"/>
            <a:ext cx="8476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8e00"/>
                </a:solidFill>
                <a:latin typeface="Arial"/>
              </a:rPr>
              <a:t>#include &lt;</a:t>
            </a:r>
            <a:r>
              <a:rPr b="0" lang="ru-RU" sz="2400" spc="-1" strike="noStrike">
                <a:solidFill>
                  <a:srgbClr val="698e00"/>
                </a:solidFill>
                <a:latin typeface="Arial"/>
              </a:rPr>
              <a:t>заголовок1</a:t>
            </a:r>
            <a:r>
              <a:rPr b="0" lang="en-US" sz="2400" spc="-1" strike="noStrike">
                <a:solidFill>
                  <a:srgbClr val="698e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698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стандартный 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8e00"/>
                </a:solidFill>
                <a:latin typeface="Arial"/>
              </a:rPr>
              <a:t>#include “</a:t>
            </a:r>
            <a:r>
              <a:rPr b="0" lang="ru-RU" sz="2400" spc="-1" strike="noStrike">
                <a:solidFill>
                  <a:srgbClr val="698e00"/>
                </a:solidFill>
                <a:latin typeface="Arial"/>
              </a:rPr>
              <a:t>заголовок</a:t>
            </a:r>
            <a:r>
              <a:rPr b="0" lang="en-US" sz="2400" spc="-1" strike="noStrike">
                <a:solidFill>
                  <a:srgbClr val="698e00"/>
                </a:solidFill>
                <a:latin typeface="Arial"/>
              </a:rPr>
              <a:t>2”</a:t>
            </a:r>
            <a:r>
              <a:rPr b="0" lang="ru-RU" sz="2400" spc="-1" strike="noStrike">
                <a:solidFill>
                  <a:srgbClr val="698e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// личный заголовочный фай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  …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/* комментарии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  m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…   …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Устройство ПК: Функциональная схема </a:t>
            </a:r>
            <a:br>
              <a:rPr sz="2000"/>
            </a:b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(основные устрой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763640" y="1125360"/>
            <a:ext cx="165744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P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708360" y="1125360"/>
            <a:ext cx="1655640" cy="64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рати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653080" y="1125360"/>
            <a:ext cx="1655640" cy="64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 rot="16200000">
            <a:off x="358560" y="4762440"/>
            <a:ext cx="26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говременная пам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1403280" y="3503520"/>
            <a:ext cx="22338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7"/>
          <p:cNvSpPr/>
          <p:nvPr/>
        </p:nvSpPr>
        <p:spPr>
          <a:xfrm>
            <a:off x="754200" y="1701720"/>
            <a:ext cx="7634160" cy="1873440"/>
          </a:xfrm>
          <a:prstGeom prst="leftRightArrow">
            <a:avLst>
              <a:gd name="adj1" fmla="val 69028"/>
              <a:gd name="adj2" fmla="val 1356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4788000" y="3646440"/>
            <a:ext cx="151596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bo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4788000" y="4583160"/>
            <a:ext cx="151596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4788000" y="5519880"/>
            <a:ext cx="1515960" cy="7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o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 rot="16200000">
            <a:off x="6084720" y="4654440"/>
            <a:ext cx="266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ие внешние устрой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ода-вы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4211640" y="3503520"/>
            <a:ext cx="367344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 rot="16200000">
            <a:off x="3132000" y="4799160"/>
            <a:ext cx="266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тройства ввода-вы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5"/>
          <p:cNvSpPr/>
          <p:nvPr/>
        </p:nvSpPr>
        <p:spPr>
          <a:xfrm>
            <a:off x="1187280" y="256716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>
            <a:off x="1187280" y="285444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>
            <a:off x="1187280" y="314316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2629080" y="1989000"/>
            <a:ext cx="36716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ая 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2557440" y="2347920"/>
            <a:ext cx="3670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2557440" y="2638440"/>
            <a:ext cx="3670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а адр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2557440" y="2925720"/>
            <a:ext cx="3670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2"/>
          <p:cNvSpPr/>
          <p:nvPr/>
        </p:nvSpPr>
        <p:spPr>
          <a:xfrm>
            <a:off x="255744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>
            <a:off x="450072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51672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979640" y="3646440"/>
            <a:ext cx="1514520" cy="7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жест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ов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1979640" y="4581360"/>
            <a:ext cx="151272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од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/DV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1979640" y="5518080"/>
            <a:ext cx="151272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од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оп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H="1">
            <a:off x="3490920" y="4078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 flipV="1">
            <a:off x="3708360" y="3285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2"/>
          <p:cNvSpPr/>
          <p:nvPr/>
        </p:nvSpPr>
        <p:spPr>
          <a:xfrm flipH="1">
            <a:off x="349200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 flipV="1">
            <a:off x="3852720" y="3285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 flipH="1">
            <a:off x="3492360" y="5950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7"/>
          <p:cNvSpPr/>
          <p:nvPr/>
        </p:nvSpPr>
        <p:spPr>
          <a:xfrm flipV="1">
            <a:off x="3995640" y="32860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8"/>
          <p:cNvSpPr/>
          <p:nvPr/>
        </p:nvSpPr>
        <p:spPr>
          <a:xfrm flipH="1">
            <a:off x="6300360" y="407844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9"/>
          <p:cNvSpPr/>
          <p:nvPr/>
        </p:nvSpPr>
        <p:spPr>
          <a:xfrm flipV="1">
            <a:off x="6516720" y="3285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6300360" y="494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1"/>
          <p:cNvSpPr/>
          <p:nvPr/>
        </p:nvSpPr>
        <p:spPr>
          <a:xfrm flipV="1">
            <a:off x="6659640" y="3285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2"/>
          <p:cNvSpPr/>
          <p:nvPr/>
        </p:nvSpPr>
        <p:spPr>
          <a:xfrm flipH="1">
            <a:off x="6300720" y="595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3"/>
          <p:cNvSpPr/>
          <p:nvPr/>
        </p:nvSpPr>
        <p:spPr>
          <a:xfrm flipV="1">
            <a:off x="6805440" y="32860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4"/>
          <p:cNvSpPr/>
          <p:nvPr/>
        </p:nvSpPr>
        <p:spPr>
          <a:xfrm>
            <a:off x="7453440" y="328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39640" y="1159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Базовые типы данных языка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 (C+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24000" y="17985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 со зна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79280" y="760320"/>
            <a:ext cx="86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d5d"/>
                </a:solidFill>
                <a:latin typeface="Arial"/>
              </a:rPr>
              <a:t>ВНИМ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5d5d"/>
                </a:solidFill>
                <a:latin typeface="Arial"/>
              </a:rPr>
              <a:t>Язык программирования </a:t>
            </a:r>
            <a:r>
              <a:rPr b="1" lang="en-US" sz="1600" spc="-1" strike="noStrike">
                <a:solidFill>
                  <a:srgbClr val="ff5d5d"/>
                </a:solidFill>
                <a:latin typeface="Arial"/>
              </a:rPr>
              <a:t>C (C++)</a:t>
            </a:r>
            <a:r>
              <a:rPr b="1" lang="ru-RU" sz="1600" spc="-1" strike="noStrike">
                <a:solidFill>
                  <a:srgbClr val="ff5d5d"/>
                </a:solidFill>
                <a:latin typeface="Arial"/>
              </a:rPr>
              <a:t> различает прописные и заглавные буквы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d5d"/>
                </a:solidFill>
                <a:latin typeface="Arial"/>
              </a:rPr>
              <a:t>Int </a:t>
            </a:r>
            <a:r>
              <a:rPr b="1" lang="ru-RU" sz="1600" spc="-1" strike="noStrike">
                <a:solidFill>
                  <a:srgbClr val="ff5d5d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ff5d5d"/>
                </a:solidFill>
                <a:latin typeface="Arial"/>
              </a:rPr>
              <a:t>int, FLOAT </a:t>
            </a:r>
            <a:r>
              <a:rPr b="1" lang="ru-RU" sz="1600" spc="-1" strike="noStrike">
                <a:solidFill>
                  <a:srgbClr val="ff5d5d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ff5d5d"/>
                </a:solidFill>
                <a:latin typeface="Arial"/>
              </a:rPr>
              <a:t>float, DouBle </a:t>
            </a:r>
            <a:r>
              <a:rPr b="1" lang="ru-RU" sz="1600" spc="-1" strike="noStrike">
                <a:solidFill>
                  <a:srgbClr val="ff5d5d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ff5d5d"/>
                </a:solidFill>
                <a:latin typeface="Arial"/>
              </a:rPr>
              <a:t>double – </a:t>
            </a:r>
            <a:r>
              <a:rPr b="1" lang="ru-RU" sz="1600" spc="-1" strike="noStrike">
                <a:solidFill>
                  <a:srgbClr val="ff5d5d"/>
                </a:solidFill>
                <a:latin typeface="Arial"/>
              </a:rPr>
              <a:t>совершенно разные вещи для </a:t>
            </a:r>
            <a:r>
              <a:rPr b="1" lang="en-US" sz="1600" spc="-1" strike="noStrike">
                <a:solidFill>
                  <a:srgbClr val="ff5d5d"/>
                </a:solidFill>
                <a:latin typeface="Arial"/>
              </a:rPr>
              <a:t>C (C++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4000" y="26161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ное число с «плавающей» 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24000" y="342756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ное число с «плавающей» точк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ой то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24000" y="457992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 (или число в интервале 0 … 255 или -127 … 1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24000" y="5775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троковый тип д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C++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ет собой ссылку на массив символов, заканчивающийся нулё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539640" y="1159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апись выражений в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 (C+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96720" y="16509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a40000"/>
                </a:solidFill>
                <a:latin typeface="Arial"/>
              </a:rPr>
              <a:t>a + 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6720" y="23464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т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a4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a4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a40000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6720" y="30654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a40000"/>
                </a:solidFill>
                <a:latin typeface="Arial"/>
              </a:rPr>
              <a:t>a x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*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96720" y="38829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a4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a4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a40000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852720" y="9795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40000"/>
                </a:solidFill>
                <a:uFillTx/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796000" y="979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 (C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395280" y="470052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ень квадра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40000"/>
                </a:solidFill>
                <a:latin typeface="Symbol"/>
                <a:ea typeface="Symbol"/>
              </a:rPr>
              <a:t>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4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qrt(a)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698e00"/>
                </a:solidFill>
                <a:latin typeface="Arial"/>
              </a:rPr>
              <a:t>&lt;math.h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4313160" y="4767120"/>
            <a:ext cx="50328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524720" y="100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98e00"/>
                </a:solidFill>
                <a:uFillTx/>
                <a:latin typeface="Arial"/>
              </a:rPr>
              <a:t>библиот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396720" y="5516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a4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w(a,b)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698e00"/>
                </a:solidFill>
                <a:latin typeface="Arial"/>
              </a:rPr>
              <a:t>&lt;math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4284720" y="5408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ые команды (инструкци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ваивание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еменная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&gt; = &lt;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раж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46040" y="234792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[80];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h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[80];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flo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;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;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h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canf(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“%s %f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 %d %c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, s1, &amp;f, s2, &amp;d, &amp;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46040" y="486900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х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intf(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“….%s….%f….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….%d….%c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\n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сумма=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25.10,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чисел: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“,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2,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’!’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обрать решение на дос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площади параллелограмм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a*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объема цилин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=Sh/3, 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^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адачи для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46040" y="249228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ить самостоятель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объема куб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=a^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объема цилин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=Sh, 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^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площади поверх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ого параллелепипе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2ab+2bc+2a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сопротивления электрической цепи, состоящей из двух последовательно соединенных сопротивлений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R1+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силы тока в электрическ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п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=U/R, I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а ток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яжение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проти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24000" y="115920"/>
            <a:ext cx="836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сваивание: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менна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= &lt;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324000" y="836640"/>
            <a:ext cx="83628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еременная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ой ранее объявленный допустимый идентификатор (последовательность лат. букв и цифр, начинающаяся с букв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324000" y="2781360"/>
            <a:ext cx="8362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ыражение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ое алгебраическое, строковое, логическое или др. выражение, результат вычисления которого по типу соответствует типу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еременной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24000" y="4379760"/>
            <a:ext cx="835164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 –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это опер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ак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+, -, *, 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). Результат её равен стоящему слева от знака равенства значению. Записанные последовательно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ерации присваивания выполняются справа нале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у равны переменные после выполнения присваив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1)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x=y=5;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  2)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a=b=c=2*(x+y)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;   3)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=12, t=6; z=s=p/t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446040" y="33336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во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ан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canf(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“%s %f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 %d %c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, s1, &amp;f, s2, &amp;d, &amp;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 rot="16200000">
            <a:off x="2844720" y="1052640"/>
            <a:ext cx="719280" cy="3024000"/>
          </a:xfrm>
          <a:custGeom>
            <a:avLst/>
            <a:gdLst>
              <a:gd name="textAreaLeft" fmla="*/ 459720 w 719280"/>
              <a:gd name="textAreaRight" fmla="*/ 719640 w 719280"/>
              <a:gd name="textAreaTop" fmla="*/ 78480 h 3024000"/>
              <a:gd name="textAreaBottom" fmla="*/ 294552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324000" y="3429000"/>
            <a:ext cx="4392360" cy="3024360"/>
          </a:xfrm>
          <a:prstGeom prst="wedgeRectCallout">
            <a:avLst>
              <a:gd name="adj1" fmla="val 15666"/>
              <a:gd name="adj2" fmla="val -65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орматная ст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щая описания (спецификации), следующих за ней переменных для в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%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%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робного числа с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%l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робного двойной т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%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целого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%l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линного це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 rot="16200000">
            <a:off x="6229080" y="1052280"/>
            <a:ext cx="719280" cy="3024360"/>
          </a:xfrm>
          <a:custGeom>
            <a:avLst/>
            <a:gdLst>
              <a:gd name="textAreaLeft" fmla="*/ 459720 w 719280"/>
              <a:gd name="textAreaRight" fmla="*/ 719640 w 719280"/>
              <a:gd name="textAreaTop" fmla="*/ 76680 h 3024360"/>
              <a:gd name="textAreaBottom" fmla="*/ 294768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9"/>
                  <a:pt x="10800" y="1757"/>
                </a:cubicBezTo>
                <a:lnTo>
                  <a:pt x="10800" y="9524"/>
                </a:lnTo>
                <a:cubicBezTo>
                  <a:pt x="10800" y="10403"/>
                  <a:pt x="5400" y="11281"/>
                  <a:pt x="0" y="11281"/>
                </a:cubicBezTo>
                <a:cubicBezTo>
                  <a:pt x="5400" y="11281"/>
                  <a:pt x="10800" y="12160"/>
                  <a:pt x="10800" y="13038"/>
                </a:cubicBezTo>
                <a:lnTo>
                  <a:pt x="10800" y="19843"/>
                </a:lnTo>
                <a:cubicBezTo>
                  <a:pt x="10800" y="2072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5292720" y="3357720"/>
            <a:ext cx="3597120" cy="3024000"/>
          </a:xfrm>
          <a:prstGeom prst="wedgeRectCallout">
            <a:avLst>
              <a:gd name="adj1" fmla="val -12092"/>
              <a:gd name="adj2" fmla="val -63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пис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ссыло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еменные через запятую, каждая из которых соответствует по порядку описанию соответствующей спецификации форматно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7667640" y="907920"/>
            <a:ext cx="1225440" cy="576360"/>
          </a:xfrm>
          <a:prstGeom prst="wedgeEllipseCallout">
            <a:avLst>
              <a:gd name="adj1" fmla="val -43004"/>
              <a:gd name="adj2" fmla="val 1028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7020000" y="260280"/>
            <a:ext cx="1224000" cy="576360"/>
          </a:xfrm>
          <a:prstGeom prst="wedgeEllipseCallout">
            <a:avLst>
              <a:gd name="adj1" fmla="val -44162"/>
              <a:gd name="adj2" fmla="val 2103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5364000" y="620640"/>
            <a:ext cx="1224000" cy="576360"/>
          </a:xfrm>
          <a:prstGeom prst="wedgeEllipseCallout">
            <a:avLst>
              <a:gd name="adj1" fmla="val -10180"/>
              <a:gd name="adj2" fmla="val 14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o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3564000" y="260280"/>
            <a:ext cx="156204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54" y="5718"/>
                </a:moveTo>
                <a:lnTo>
                  <a:pt x="45988" y="5718"/>
                </a:lnTo>
                <a:lnTo>
                  <a:pt x="45988" y="42406"/>
                </a:lnTo>
                <a:lnTo>
                  <a:pt x="41817" y="79253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[8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3132000" y="907920"/>
            <a:ext cx="2016360" cy="576360"/>
          </a:xfrm>
          <a:prstGeom prst="wedgeEllipseCallout">
            <a:avLst>
              <a:gd name="adj1" fmla="val 59527"/>
              <a:gd name="adj2" fmla="val 1128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[8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62040" y="333360"/>
            <a:ext cx="8302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438480" indent="-43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ан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intf(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текст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%s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текст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%f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текст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текст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%d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текст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%c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1, f, s2, d, 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4643280" y="3500280"/>
            <a:ext cx="4176720" cy="3097440"/>
          </a:xfrm>
          <a:prstGeom prst="wedgeRectCallout">
            <a:avLst>
              <a:gd name="adj1" fmla="val 17083"/>
              <a:gd name="adj2" fmla="val -80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орматная ст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щая описания (спецификации), следующих за ней переменных для в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%n.m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%n.m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роб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%n.ml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робное повыш. т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%n.m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%n.ml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линное 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щ. число зна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 rot="16200000">
            <a:off x="5004360" y="-963000"/>
            <a:ext cx="431640" cy="662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68480 h 6624720"/>
              <a:gd name="textAreaBottom" fmla="*/ 6456240 h 66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9"/>
                  <a:pt x="10800" y="1757"/>
                </a:cubicBezTo>
                <a:lnTo>
                  <a:pt x="10800" y="16329"/>
                </a:lnTo>
                <a:cubicBezTo>
                  <a:pt x="10800" y="17208"/>
                  <a:pt x="5400" y="18086"/>
                  <a:pt x="0" y="18086"/>
                </a:cubicBezTo>
                <a:cubicBezTo>
                  <a:pt x="5400" y="18086"/>
                  <a:pt x="10800" y="18965"/>
                  <a:pt x="10800" y="19843"/>
                </a:cubicBezTo>
                <a:lnTo>
                  <a:pt x="10800" y="19843"/>
                </a:lnTo>
                <a:cubicBezTo>
                  <a:pt x="10800" y="2072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755640" y="4437000"/>
            <a:ext cx="3597120" cy="2160720"/>
          </a:xfrm>
          <a:prstGeom prst="wedgeRectCallout">
            <a:avLst>
              <a:gd name="adj1" fmla="val -13726"/>
              <a:gd name="adj2" fmla="val -87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пис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ссыло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еменные через запятую, каждая из которых соответствует по порядку описанию соответствующей спецификации форматно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3708360" y="836640"/>
            <a:ext cx="163368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08" y="5718"/>
                </a:moveTo>
                <a:lnTo>
                  <a:pt x="-45656" y="5718"/>
                </a:lnTo>
                <a:lnTo>
                  <a:pt x="-45656" y="53206"/>
                </a:lnTo>
                <a:lnTo>
                  <a:pt x="-26071" y="100932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[8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 rot="16200000">
            <a:off x="2124000" y="1844640"/>
            <a:ext cx="432000" cy="3168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168720"/>
              <a:gd name="textAreaBottom" fmla="*/ 30880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9"/>
                  <a:pt x="10800" y="1757"/>
                </a:cubicBezTo>
                <a:lnTo>
                  <a:pt x="10800" y="7226"/>
                </a:lnTo>
                <a:cubicBezTo>
                  <a:pt x="10800" y="8105"/>
                  <a:pt x="5400" y="8983"/>
                  <a:pt x="0" y="8983"/>
                </a:cubicBezTo>
                <a:cubicBezTo>
                  <a:pt x="5400" y="8983"/>
                  <a:pt x="10800" y="9862"/>
                  <a:pt x="10800" y="10740"/>
                </a:cubicBezTo>
                <a:lnTo>
                  <a:pt x="10800" y="19843"/>
                </a:lnTo>
                <a:cubicBezTo>
                  <a:pt x="10800" y="2072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2052720" y="1268280"/>
            <a:ext cx="163332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08" y="5718"/>
                </a:moveTo>
                <a:lnTo>
                  <a:pt x="-21789" y="5718"/>
                </a:lnTo>
                <a:lnTo>
                  <a:pt x="-21789" y="59241"/>
                </a:lnTo>
                <a:lnTo>
                  <a:pt x="-16709" y="77903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[8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3060720" y="3645000"/>
            <a:ext cx="1152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26171"/>
              <a:gd name="adj5" fmla="val -126870"/>
              <a:gd name="adj6" fmla="val -141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4429080" y="2490840"/>
            <a:ext cx="115272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19009"/>
              <a:gd name="adj5" fmla="val 78856"/>
              <a:gd name="adj6" fmla="val -169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7"/>
          <p:cNvSpPr/>
          <p:nvPr/>
        </p:nvSpPr>
        <p:spPr>
          <a:xfrm>
            <a:off x="4716360" y="2997360"/>
            <a:ext cx="115272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10328"/>
              <a:gd name="adj5" fmla="val 10574"/>
              <a:gd name="adj6" fmla="val -1571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395280" y="333360"/>
            <a:ext cx="8424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использования функции выв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oat pi=3.14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[30]=“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о пи 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;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2=“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ифаго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1=570; y2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9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ntf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(“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Древнегреческий математик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%s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%d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%d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г.г. до н.э.)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открыл число пи =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%f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.”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s2, y1, y2, p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24000" y="4726080"/>
            <a:ext cx="842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 на экр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96360" y="5458320"/>
            <a:ext cx="8143560" cy="703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Древнегреческий математик Пифагор (570-490 г.г. до н..э.) откры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число пи=3,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обрать решение на дос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объема куб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=a^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объема цилин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=Sh, 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^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адачи для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46040" y="292428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ить самостоятель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площади поверх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ого параллелепипе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2ab+2bc+2a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сопротивления электрической цепи, состоящей из двух последовательно соединенных сопротивлений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R1+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силы тока в электрическ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п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=U/R, I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а ток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яжение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проти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158760" y="174600"/>
            <a:ext cx="882000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ые зад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ы два дробных чис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сти среднее арифметическо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=(x1+x2)/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реднее геометрическо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*x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программу для перевода километров в вёрсты (1 верста = 1066.8 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программу вычисления площади трапеции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h*(a+b)/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ия трапеци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ё вы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программу для вычисления объём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=4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R</a:t>
            </a:r>
            <a:r>
              <a:rPr b="0" lang="en-US" sz="20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лощадь его поверхност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4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и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4159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ть высоту подъёма тела брошенного вертикально вверх со скор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mv</a:t>
            </a:r>
            <a:r>
              <a:rPr b="0" lang="en-US" sz="20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, 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gh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=9.8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/с</a:t>
            </a:r>
            <a:r>
              <a:rPr b="0" lang="ru-RU" sz="2000" spc="-1" strike="noStrike" baseline="4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на сколько градусо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 нагреть тело масс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му передали внутреннюю энерг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ж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Q=c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ж/(кг* </a:t>
            </a:r>
            <a:r>
              <a:rPr b="0" lang="en-US" sz="20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ельная теплоёмкость те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объём полого цилиндр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h*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нешний радиус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внутренний ради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1346040" y="11541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cyl"/>
          <p:cNvPicPr/>
          <p:nvPr/>
        </p:nvPicPr>
        <p:blipFill>
          <a:blip r:embed="rId1"/>
          <a:stretch/>
        </p:blipFill>
        <p:spPr>
          <a:xfrm>
            <a:off x="5651640" y="551664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468360" y="765000"/>
            <a:ext cx="8136000" cy="583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84360" y="2924280"/>
            <a:ext cx="770400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55640" y="26028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сновные виды программного обеспечения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205080" y="2997360"/>
            <a:ext cx="284328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x, Linux, Mac OS, Window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333440" y="4579920"/>
            <a:ext cx="6480360" cy="1657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93720" y="5445000"/>
            <a:ext cx="597564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ура П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630520" y="4653000"/>
            <a:ext cx="410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оенное ПО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m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S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цедуры аппаратных прерыва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контроллеров внешних устройств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341440" y="3716280"/>
            <a:ext cx="4464000" cy="72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дро 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айверы устрой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е утил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755640" y="907920"/>
            <a:ext cx="309564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мент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ства разработч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торы, компилято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претаторы, отладч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грированные сре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строй разработ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4714920" y="907920"/>
            <a:ext cx="367344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кеты приклад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го пользов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Д, САПР, графические пак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онные таблиц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стовые редакторы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2556000" y="2492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3851280" y="1484280"/>
            <a:ext cx="865080" cy="43200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1332000" y="2492280"/>
            <a:ext cx="647640" cy="2089080"/>
          </a:xfrm>
          <a:prstGeom prst="downArrow">
            <a:avLst>
              <a:gd name="adj1" fmla="val 44481"/>
              <a:gd name="adj2" fmla="val 558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457200" y="490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адание на д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95280" y="1341360"/>
            <a:ext cx="82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и настроить дома компи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G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шать все подряд задачи из учебника «Культин_С_С++_в задачах и примерах.pdf» до 76 задачи включительно, пропуская те, которые уже были нами решены на занятиях кружк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адо скопировать на флешку компи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GW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а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d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омандные файлы. Желательно ткаже скопировать данный «конспект занятий», т.к. в нём записана последовательность настройки компилятор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ющие получить проверку решения своих задач или ответ на любой возникший вопрос с понедельника по пятницу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ишите на электронную почту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zentsev@mail.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«стучитесь» в «асю»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350-850-23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олько пишите свои фамилию и имя, пожалуй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539640" y="620640"/>
            <a:ext cx="799308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ое устройство осуществило перекодировку информационного сообщения на русском языке, первоначально записанного в 16-битном коде Unicode, в 8-битную кодировку КОИ-8. При этом информационное сообщение уменьшилось на 480 бит. Какова длина сообщения в символах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8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39640" y="189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ГЭ по информатике –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9640" y="2400480"/>
            <a:ext cx="79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велокроссе участвуют 119 спортсменов. Специальное устройство регистрирует прохождение каждым из участников промежуточного финиша, записывая его номер с использованием минимально возможного количества бит, одинакового для каждого спортсмена. Каков информационный объем сообщения, записанного устройством, после того как промежуточный финиш прошли 70 велосипедистов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 б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 бай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90 б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9 бай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539640" y="42624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о а=D716, b=3318. Какое из чисел c, записанных в двоичной системе, отвечает условию a&lt;c&lt;b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1100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1110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1011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1100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11280" y="5627520"/>
            <a:ext cx="7993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Чему равна сумма чисел 438 и 5616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1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1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91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000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611280" y="21337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611280" y="400536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11280" y="54450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539640" y="620640"/>
            <a:ext cx="799308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ое устройство осуществило перекодировку информационного сообщения на русском языке, первоначально записанного в 16-битном коде Unicode, в 8-битную кодировку КОИ-8. При этом информационное сообщение уменьшилось на 480 бит. Какова длина сообщения в символах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8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39640" y="189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ГЭ по информатике –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539640" y="2400480"/>
            <a:ext cx="79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велокроссе участвуют 119 спортсменов. Специальное устройство регистрирует прохождение каждым из участников промежуточного финиша, записывая его номер с использованием минимально возможного количества бит, одинакового для каждого спортсмена. Каков информационный объем сообщения, записанного устройством, после того как промежуточный финиш прошли 70 велосипедистов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 б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 бай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90 б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9 бай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9640" y="42624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о а=D716, b=3318. Какое из чисел c, записанных в двоичной системе, отвечает условию a&lt;c&lt;b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1100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1110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1011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1100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611280" y="5627520"/>
            <a:ext cx="7993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Чему равна сумма чисел 438 и 5616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1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1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91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000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11280" y="21337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611280" y="400536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611280" y="54450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539640" y="620640"/>
            <a:ext cx="799308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пределите значение переменной c после выполнения следующего фрагмента програм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ейси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аскал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Алгоритмическ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 = 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:=5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: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 = a + 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:=a+6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:=a+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 = – 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:= –a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:= –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 = a – 2 * 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:=a–2*b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:=a–2*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 = –1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 = 15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 = 27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 = 3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539640" y="189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ГЭ по информатике –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39640" y="2708280"/>
            <a:ext cx="799308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 фрагмент программы, обрабатывающей двумерный массив A размера n×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ейси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аскал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Алгоритмическ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k =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k:=1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k: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FOR i = 1 TO 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for i:=1 to n 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 = A(i,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i от 1 до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(i,i) = A(k,i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:=A[i,i]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:=A[i,i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(k,i) = 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[i,i]:=A[k,i]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[i,i]:=A[k,i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NEXT 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A[k,i]:=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[k,i]:=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авим массив в виде квадратной таблицы, в которой для элемента массива A[i,j] величина i является номером строки, а величина j –номером столбца, в котором расположен элемент. Тогда данный алго-ритм меняет мест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а столбца в таблиц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е строки в таблиц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менты диагонали и k-ой строки таблиц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менты диагонали и k-го столбца таблиц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611280" y="26370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39640" y="8683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ля какого из указанных значений X истинно вы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¬ ((X&gt;2) –&gt; (X&gt;3))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11280" y="2184480"/>
            <a:ext cx="799308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Укажите, какое логическое выражение равносильно выражению  A /\ ¬ (¬B \/ C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¬A \/ ¬B \/ ¬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 /\ ¬B /\ ¬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 /\ B /\ ¬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 /\ ¬B /\ 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611280" y="203976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539640" y="189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ГЭ по информатике –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574920" y="4291560"/>
            <a:ext cx="26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дная таблица исти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684360" y="4668840"/>
          <a:ext cx="5019480" cy="1830240"/>
        </p:xfrm>
        <a:graphic>
          <a:graphicData uri="http://schemas.openxmlformats.org/drawingml/2006/table">
            <a:tbl>
              <a:tblPr/>
              <a:tblGrid>
                <a:gridCol w="2361960"/>
                <a:gridCol w="666720"/>
                <a:gridCol w="666720"/>
                <a:gridCol w="667080"/>
                <a:gridCol w="6570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ьюнкция A ^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зъюнкция A v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ликация A =›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виваленция A &lt;=&gt; 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Line 205"/>
          <p:cNvSpPr/>
          <p:nvPr/>
        </p:nvSpPr>
        <p:spPr>
          <a:xfrm>
            <a:off x="611280" y="400536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1912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щё раз рассмотрим подробно ввод и вывод в более упрощённом варианте. Т.е. не для языка Си, а для С++. Тут в библиотеке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ostream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ы специальные классы ввода-вывода, работа с которыми значительно проще, чем с низкоуровневыми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ункциям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ntf()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an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ачиная со следующего занятия, мы более не будем возвращаться к вводу-выводу, а пойдём дальше: начнём изучение операторов выбора и цикл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457200" y="11592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хема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484360" y="3284640"/>
            <a:ext cx="381636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638440" y="3332160"/>
            <a:ext cx="34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5d5d"/>
                </a:solidFill>
                <a:uFillTx/>
                <a:latin typeface="Arial"/>
              </a:rPr>
              <a:t>Программа:   </a:t>
            </a:r>
            <a:r>
              <a:rPr b="1" i="1" lang="en-US" sz="2400" spc="-1" strike="noStrike" u="sng">
                <a:solidFill>
                  <a:srgbClr val="ff5d5d"/>
                </a:solidFill>
                <a:uFillTx/>
                <a:latin typeface="Arial"/>
              </a:rPr>
              <a:t>test1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95280" y="692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у для вычисления объём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4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R</a:t>
            </a:r>
            <a:r>
              <a:rPr b="0" lang="en-US" sz="18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3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лощадь его поверхност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4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и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1415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>
            <a:off x="1979640" y="5516640"/>
            <a:ext cx="504720" cy="288720"/>
          </a:xfrm>
          <a:prstGeom prst="rightArrow">
            <a:avLst>
              <a:gd name="adj1" fmla="val 50000"/>
              <a:gd name="adj2" fmla="val 4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979640" y="501156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1979640" y="4508640"/>
            <a:ext cx="504720" cy="288720"/>
          </a:xfrm>
          <a:prstGeom prst="rightArrow">
            <a:avLst>
              <a:gd name="adj1" fmla="val 50000"/>
              <a:gd name="adj2" fmla="val 4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4"/>
          <p:cNvSpPr/>
          <p:nvPr/>
        </p:nvSpPr>
        <p:spPr>
          <a:xfrm>
            <a:off x="1979640" y="400356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16200000">
            <a:off x="-3960" y="4476240"/>
            <a:ext cx="3168720" cy="78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Arial"/>
              </a:rPr>
              <a:t>входны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и=3,1415;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 -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ад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6300720" y="558792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>
            <a:off x="6300720" y="508320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2"/>
          <p:cNvSpPr/>
          <p:nvPr/>
        </p:nvSpPr>
        <p:spPr>
          <a:xfrm>
            <a:off x="6300720" y="457992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3"/>
          <p:cNvSpPr/>
          <p:nvPr/>
        </p:nvSpPr>
        <p:spPr>
          <a:xfrm>
            <a:off x="6300720" y="4075200"/>
            <a:ext cx="504720" cy="288720"/>
          </a:xfrm>
          <a:prstGeom prst="rightArrow">
            <a:avLst>
              <a:gd name="adj1" fmla="val 50000"/>
              <a:gd name="adj2" fmla="val 4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 rot="16200000">
            <a:off x="5612400" y="4476240"/>
            <a:ext cx="3168720" cy="78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98e00"/>
                </a:solidFill>
                <a:uFillTx/>
                <a:latin typeface="Arial"/>
              </a:rPr>
              <a:t>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e00"/>
                </a:solidFill>
                <a:latin typeface="Arial"/>
              </a:rPr>
              <a:t>V-</a:t>
            </a:r>
            <a:r>
              <a:rPr b="1" lang="ru-RU" sz="1800" spc="-1" strike="noStrike">
                <a:solidFill>
                  <a:srgbClr val="698e00"/>
                </a:solidFill>
                <a:latin typeface="Arial"/>
              </a:rPr>
              <a:t>объём; </a:t>
            </a:r>
            <a:r>
              <a:rPr b="1" lang="en-US" sz="1800" spc="-1" strike="noStrike">
                <a:solidFill>
                  <a:srgbClr val="698e00"/>
                </a:solidFill>
                <a:latin typeface="Arial"/>
              </a:rPr>
              <a:t>S-</a:t>
            </a:r>
            <a:r>
              <a:rPr b="1" lang="ru-RU" sz="1800" spc="-1" strike="noStrike">
                <a:solidFill>
                  <a:srgbClr val="698e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324000" y="1484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такое програм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6" descr="alg"/>
          <p:cNvPicPr/>
          <p:nvPr/>
        </p:nvPicPr>
        <p:blipFill>
          <a:blip r:embed="rId1"/>
          <a:stretch/>
        </p:blipFill>
        <p:spPr>
          <a:xfrm>
            <a:off x="2722680" y="3860640"/>
            <a:ext cx="3362040" cy="20574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7"/>
          <p:cNvSpPr/>
          <p:nvPr/>
        </p:nvSpPr>
        <p:spPr>
          <a:xfrm>
            <a:off x="2627280" y="601488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V=4*</a:t>
            </a:r>
            <a:r>
              <a:rPr b="1" lang="ru-RU" sz="1800" spc="-1" strike="noStrike">
                <a:solidFill>
                  <a:srgbClr val="ff5d5d"/>
                </a:solidFill>
                <a:latin typeface="Arial"/>
              </a:rPr>
              <a:t>пи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*R</a:t>
            </a:r>
            <a:r>
              <a:rPr b="1" lang="en-US" sz="1800" spc="-1" strike="noStrike" baseline="40000">
                <a:solidFill>
                  <a:srgbClr val="ff5d5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/3; S=4*</a:t>
            </a:r>
            <a:r>
              <a:rPr b="1" lang="ru-RU" sz="1800" spc="-1" strike="noStrike">
                <a:solidFill>
                  <a:srgbClr val="ff5d5d"/>
                </a:solidFill>
                <a:latin typeface="Arial"/>
              </a:rPr>
              <a:t>пи*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R</a:t>
            </a:r>
            <a:r>
              <a:rPr b="1" lang="en-US" sz="1800" spc="-1" strike="noStrike" baseline="40000">
                <a:solidFill>
                  <a:srgbClr val="ff5d5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324000" y="2060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о точное формальное предписание, однозначно определяющее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5d5d"/>
                </a:solidFill>
                <a:latin typeface="Arial"/>
              </a:rPr>
              <a:t>содержание и последовательность операций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водящую заданную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совокупность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сходных данных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искомый результат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539640" y="260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ализ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39640" y="1125360"/>
            <a:ext cx="3672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Arial"/>
              </a:rPr>
              <a:t>Исходны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и=3,1415 – дробная конста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 –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адиус шара, дроб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39640" y="5327640"/>
            <a:ext cx="36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5d5d"/>
                </a:solidFill>
                <a:uFillTx/>
                <a:latin typeface="Arial"/>
              </a:rPr>
              <a:t>Связи исходных данных и результа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S=4*</a:t>
            </a:r>
            <a:r>
              <a:rPr b="1" lang="ru-RU" sz="1800" spc="-1" strike="noStrike">
                <a:solidFill>
                  <a:srgbClr val="ff5d5d"/>
                </a:solidFill>
                <a:latin typeface="Arial"/>
              </a:rPr>
              <a:t>пи*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R</a:t>
            </a:r>
            <a:r>
              <a:rPr b="1" lang="en-US" sz="1800" spc="-1" strike="noStrike" baseline="40000">
                <a:solidFill>
                  <a:srgbClr val="ff5d5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; V=4*</a:t>
            </a:r>
            <a:r>
              <a:rPr b="1" lang="ru-RU" sz="1800" spc="-1" strike="noStrike">
                <a:solidFill>
                  <a:srgbClr val="ff5d5d"/>
                </a:solidFill>
                <a:latin typeface="Arial"/>
              </a:rPr>
              <a:t>пи*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R</a:t>
            </a:r>
            <a:r>
              <a:rPr b="1" lang="en-US" sz="1800" spc="-1" strike="noStrike" baseline="40000">
                <a:solidFill>
                  <a:srgbClr val="ff5d5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539640" y="3200400"/>
            <a:ext cx="3672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98e00"/>
                </a:solidFill>
                <a:uFillTx/>
                <a:latin typeface="Arial"/>
              </a:rPr>
              <a:t>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e00"/>
                </a:solidFill>
                <a:latin typeface="Arial"/>
              </a:rPr>
              <a:t>S – </a:t>
            </a:r>
            <a:r>
              <a:rPr b="1" lang="ru-RU" sz="1800" spc="-1" strike="noStrike">
                <a:solidFill>
                  <a:srgbClr val="698e00"/>
                </a:solidFill>
                <a:latin typeface="Arial"/>
              </a:rPr>
              <a:t>площадь поверхности шара, дроб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e00"/>
                </a:solidFill>
                <a:latin typeface="Arial"/>
              </a:rPr>
              <a:t>V – </a:t>
            </a:r>
            <a:r>
              <a:rPr b="1" lang="ru-RU" sz="1800" spc="-1" strike="noStrike">
                <a:solidFill>
                  <a:srgbClr val="698e00"/>
                </a:solidFill>
                <a:latin typeface="Arial"/>
              </a:rPr>
              <a:t>объём шара, дроб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8"/>
          <p:cNvSpPr/>
          <p:nvPr/>
        </p:nvSpPr>
        <p:spPr>
          <a:xfrm>
            <a:off x="5392800" y="1050840"/>
            <a:ext cx="2663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4788000" y="2058840"/>
            <a:ext cx="3816360" cy="576360"/>
          </a:xfrm>
          <a:prstGeom prst="parallelogram">
            <a:avLst>
              <a:gd name="adj" fmla="val 1115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и=3,1415;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вве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506920" y="3067200"/>
            <a:ext cx="2521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S=4*</a:t>
            </a:r>
            <a:r>
              <a:rPr b="1" lang="ru-RU" sz="1800" spc="-1" strike="noStrike">
                <a:solidFill>
                  <a:srgbClr val="ff5d5d"/>
                </a:solidFill>
                <a:latin typeface="Arial"/>
              </a:rPr>
              <a:t>пи*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R</a:t>
            </a:r>
            <a:r>
              <a:rPr b="1" lang="en-US" sz="1800" spc="-1" strike="noStrike" baseline="40000">
                <a:solidFill>
                  <a:srgbClr val="ff5d5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V=4*</a:t>
            </a:r>
            <a:r>
              <a:rPr b="1" lang="ru-RU" sz="1800" spc="-1" strike="noStrike">
                <a:solidFill>
                  <a:srgbClr val="ff5d5d"/>
                </a:solidFill>
                <a:latin typeface="Arial"/>
              </a:rPr>
              <a:t>пи*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R</a:t>
            </a:r>
            <a:r>
              <a:rPr b="1" lang="en-US" sz="1800" spc="-1" strike="noStrike" baseline="40000">
                <a:solidFill>
                  <a:srgbClr val="ff5d5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5d5d"/>
                </a:solidFill>
                <a:latin typeface="Arial"/>
              </a:rPr>
              <a:t>/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1"/>
          <p:cNvSpPr/>
          <p:nvPr/>
        </p:nvSpPr>
        <p:spPr>
          <a:xfrm>
            <a:off x="4745160" y="4940280"/>
            <a:ext cx="3816360" cy="576360"/>
          </a:xfrm>
          <a:prstGeom prst="parallelogram">
            <a:avLst>
              <a:gd name="adj" fmla="val 1115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98e00"/>
                </a:solidFill>
                <a:latin typeface="Arial"/>
              </a:rPr>
              <a:t>Вывести </a:t>
            </a:r>
            <a:r>
              <a:rPr b="1" lang="en-US" sz="1800" spc="-1" strike="noStrike">
                <a:solidFill>
                  <a:srgbClr val="698e00"/>
                </a:solidFill>
                <a:latin typeface="Arial"/>
              </a:rPr>
              <a:t>S,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5506920" y="5948280"/>
            <a:ext cx="2521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6630840" y="1627200"/>
            <a:ext cx="217800" cy="431640"/>
          </a:xfrm>
          <a:prstGeom prst="downArrow">
            <a:avLst>
              <a:gd name="adj1" fmla="val 50000"/>
              <a:gd name="adj2" fmla="val 495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6630840" y="2635200"/>
            <a:ext cx="217800" cy="432000"/>
          </a:xfrm>
          <a:prstGeom prst="downArrow">
            <a:avLst>
              <a:gd name="adj1" fmla="val 50000"/>
              <a:gd name="adj2" fmla="val 49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6659640" y="4508640"/>
            <a:ext cx="217440" cy="43164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6"/>
          <p:cNvSpPr/>
          <p:nvPr/>
        </p:nvSpPr>
        <p:spPr>
          <a:xfrm>
            <a:off x="6659640" y="5516640"/>
            <a:ext cx="217440" cy="43164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4932360" y="260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хема алгорит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468360" y="260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ограм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468360" y="1052640"/>
            <a:ext cx="828036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e00"/>
                </a:solidFill>
                <a:latin typeface="Arial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sing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me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 main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t float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 = 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, S, 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Введите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радиус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n&gt;&gt;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4*pi*R*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4*pi*R*R*R/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лощадь поверхности шара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&lt;S&lt;&lt;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Объём шара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&lt;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468360" y="11592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овые языковые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395280" y="69228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подключение заголовка для ввода-вывода в стиле С++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8e00"/>
                </a:solidFill>
                <a:latin typeface="Arial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95280" y="155736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подключение в глобальн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ь видим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а имё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sing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me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395280" y="292428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так объявляются конст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t float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 = 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95280" y="486900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вывод данных, т.е. результат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лощадь поверхности шара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&lt;S&lt;&lt;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Объём шара: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&lt;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l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нчание предыдущей строки и переход на другую ст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395280" y="386064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 исходных данных с клавиатуры (радиус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n&gt;&gt;R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324000" y="1211400"/>
            <a:ext cx="417492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аспаковать архи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MinGW-5.1.4.rar в любую папку (желательно 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:\MinG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писать путь к исполнимым файлам компилятора в переменную окружения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ath: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ой компьютер -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вая кн. мыши -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в меню выбрать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Свойства» -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закладка «Дополнительно» -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н. «Переменные среды» -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писок «Переменные среды пользователя для …», переменная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“PATH” (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выделить подсветкой) -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н. «Изменить» -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описать в конец строки точку с запятой и путь к исполнимым файлам компилятора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inGW (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“;c:\MinGW\Bi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пис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в переменную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“PATH”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уть к основной рабочей папке, где будут храниться исходные тексты командные файлы и подкаталоги с программами (например: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“c:\MinGW\cpp;”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л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“c:\MinGW\sourc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PATH"/>
          <p:cNvPicPr/>
          <p:nvPr/>
        </p:nvPicPr>
        <p:blipFill>
          <a:blip r:embed="rId1"/>
          <a:stretch/>
        </p:blipFill>
        <p:spPr>
          <a:xfrm>
            <a:off x="4780080" y="1052640"/>
            <a:ext cx="4184640" cy="496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539640" y="2840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Установка и настройка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компилятора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++ MinG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158760" y="174600"/>
            <a:ext cx="882000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обрать на дос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ы два дробных чис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сти среднее арифметическо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(x1+x2)/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реднее геометрическо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*x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шить самостоя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у для перевода километров в вёрсты (1 верста = 1066.8 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у вычисления площади трапеции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h*(a+b)/2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трапеци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ё 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у для вычисления объём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4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R</a:t>
            </a:r>
            <a:r>
              <a:rPr b="0" lang="en-US" sz="18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3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лощадь его поверхност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4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и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1415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ть высоту подъёма тела брошенного вертикально вверх со скорос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mv</a:t>
            </a:r>
            <a:r>
              <a:rPr b="0" lang="en-US" sz="18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, 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gh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=9.8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r>
              <a:rPr b="0" lang="ru-RU" sz="1800" spc="-1" strike="noStrike" baseline="4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на сколько градусо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нагреть тело масс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ему передали внутреннюю энерг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ж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Q=c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ж/(кг* </a:t>
            </a:r>
            <a:r>
              <a:rPr b="0" lang="en-US" sz="18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ельная теплоёмкость те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объём полого цилиндра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h*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нешний радиус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внутренний рад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230480" y="11095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cyl"/>
          <p:cNvPicPr/>
          <p:nvPr/>
        </p:nvPicPr>
        <p:blipFill>
          <a:blip r:embed="rId1"/>
          <a:stretch/>
        </p:blipFill>
        <p:spPr>
          <a:xfrm>
            <a:off x="5364000" y="55166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82872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Что такое среда программирования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Dev-CPP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68360" y="836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а программирова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-CPP (Development for C++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++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исана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p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вободно распространяется в исходных кодах «как е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95280" y="191628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инципе, к данной среде может быть подключен и настроен любой компилятор, имеющий функции работы в командной строке. Но исторически сложилось, что его используют с компиляторами язы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++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Dev-CPP &amp; MinGW”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наиболее популярна, т.к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nG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ак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-CPP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ется свободно распространяемым продуктом по открытой общей лицензии с открытыми исходными кодам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ur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468360" y="414972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GW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ется порт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онных систе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/Linux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воим возможностя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GW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полно поддержива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 стандар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I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O C++ 2003 года. При сравнении возможностей оптимизации генерируемого ко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, вместе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 Visual C++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имает лидирующее положение в списке компиляторов п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. </a:t>
            </a:r>
            <a:r>
              <a:rPr b="1" lang="ru-RU" sz="1800" spc="-1" strike="noStrike">
                <a:solidFill>
                  <a:srgbClr val="f20000"/>
                </a:solidFill>
                <a:latin typeface="Arial"/>
              </a:rPr>
              <a:t>Это говорит о том, что на нём можно писать программы требовательные к ресурса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пример,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828720" y="4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Внешний вид среды программирования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ev-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dev_cpp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88816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6"/>
          <p:cNvSpPr/>
          <p:nvPr/>
        </p:nvSpPr>
        <p:spPr>
          <a:xfrm>
            <a:off x="1042920" y="4581360"/>
            <a:ext cx="3673440" cy="936720"/>
          </a:xfrm>
          <a:prstGeom prst="wedgeEllipseCallout">
            <a:avLst>
              <a:gd name="adj1" fmla="val -54148"/>
              <a:gd name="adj2" fmla="val -4257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-й шаг: создание нов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2556000" y="3068640"/>
            <a:ext cx="3384360" cy="936720"/>
          </a:xfrm>
          <a:prstGeom prst="wedgeEllipseCallout">
            <a:avLst>
              <a:gd name="adj1" fmla="val -94277"/>
              <a:gd name="adj2" fmla="val -265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ранее созданн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3708360" y="1916280"/>
            <a:ext cx="3384720" cy="936360"/>
          </a:xfrm>
          <a:prstGeom prst="wedgeEllipseCallout">
            <a:avLst>
              <a:gd name="adj1" fmla="val -121717"/>
              <a:gd name="adj2" fmla="val -1408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исходный файл: *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p; *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"/>
          <p:cNvSpPr/>
          <p:nvPr/>
        </p:nvSpPr>
        <p:spPr>
          <a:xfrm>
            <a:off x="828720" y="4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здание нов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new"/>
          <p:cNvPicPr/>
          <p:nvPr/>
        </p:nvPicPr>
        <p:blipFill>
          <a:blip r:embed="rId1"/>
          <a:stretch/>
        </p:blipFill>
        <p:spPr>
          <a:xfrm>
            <a:off x="1357200" y="1557360"/>
            <a:ext cx="6527880" cy="37083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6"/>
          <p:cNvSpPr/>
          <p:nvPr/>
        </p:nvSpPr>
        <p:spPr>
          <a:xfrm>
            <a:off x="179280" y="549360"/>
            <a:ext cx="5472360" cy="863640"/>
          </a:xfrm>
          <a:prstGeom prst="wedgeEllipseCallout">
            <a:avLst>
              <a:gd name="adj1" fmla="val -305"/>
              <a:gd name="adj2" fmla="val 1501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чаем, что будем создавать консольное 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108000" y="5373720"/>
            <a:ext cx="4968720" cy="1152360"/>
          </a:xfrm>
          <a:prstGeom prst="wedgeEllipseCallout">
            <a:avLst>
              <a:gd name="adj1" fmla="val -14314"/>
              <a:gd name="adj2" fmla="val -110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пишем назван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желательно латиницей, не более 8 симво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5076720" y="1125360"/>
            <a:ext cx="4067280" cy="863640"/>
          </a:xfrm>
          <a:prstGeom prst="wedgeEllipseCallout">
            <a:avLst>
              <a:gd name="adj1" fmla="val -15027"/>
              <a:gd name="adj2" fmla="val 3093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чаем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5580000" y="5805360"/>
            <a:ext cx="3311640" cy="576360"/>
          </a:xfrm>
          <a:prstGeom prst="wedgeEllipseCallout">
            <a:avLst>
              <a:gd name="adj1" fmla="val -57287"/>
              <a:gd name="adj2" fmla="val -167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828720" y="4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Далее откроется диалоговое окно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dlg"/>
          <p:cNvPicPr/>
          <p:nvPr/>
        </p:nvPicPr>
        <p:blipFill>
          <a:blip r:embed="rId1"/>
          <a:stretch/>
        </p:blipFill>
        <p:spPr>
          <a:xfrm>
            <a:off x="395280" y="2349360"/>
            <a:ext cx="5735520" cy="41976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6"/>
          <p:cNvSpPr/>
          <p:nvPr/>
        </p:nvSpPr>
        <p:spPr>
          <a:xfrm>
            <a:off x="250920" y="549360"/>
            <a:ext cx="3924360" cy="1339920"/>
          </a:xfrm>
          <a:prstGeom prst="wedgeEllipseCallout">
            <a:avLst>
              <a:gd name="adj1" fmla="val -15087"/>
              <a:gd name="adj2" fmla="val 106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мы выбир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ую пап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:\dev-cpp\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4498920" y="547560"/>
            <a:ext cx="4427640" cy="1729080"/>
          </a:xfrm>
          <a:prstGeom prst="wedgeEllipseCallout">
            <a:avLst>
              <a:gd name="adj1" fmla="val -42472"/>
              <a:gd name="adj2" fmla="val 75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ём новую папку в рабочей для нового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– латиница, не более 8 симво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4859280" y="2708280"/>
            <a:ext cx="3924360" cy="1512720"/>
          </a:xfrm>
          <a:prstGeom prst="wedgeEllipseCallout">
            <a:avLst>
              <a:gd name="adj1" fmla="val -125041"/>
              <a:gd name="adj2" fmla="val -156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ваем новую папку для проекта двойным щелчком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5505480" y="4292640"/>
            <a:ext cx="3529080" cy="1800360"/>
          </a:xfrm>
          <a:prstGeom prst="wedgeEllipseCallout">
            <a:avLst>
              <a:gd name="adj1" fmla="val -129620"/>
              <a:gd name="adj2" fmla="val 393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пиш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проекта (латиница, не более 8 симво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828720" y="4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олучаем простейшую «заготовку» пр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" descr="shb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94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ompile"/>
          <p:cNvPicPr/>
          <p:nvPr/>
        </p:nvPicPr>
        <p:blipFill>
          <a:blip r:embed="rId2"/>
          <a:stretch/>
        </p:blipFill>
        <p:spPr>
          <a:xfrm>
            <a:off x="4788000" y="1685880"/>
            <a:ext cx="4105080" cy="303696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0"/>
          <p:cNvSpPr/>
          <p:nvPr/>
        </p:nvSpPr>
        <p:spPr>
          <a:xfrm>
            <a:off x="4788000" y="1700280"/>
            <a:ext cx="4105080" cy="3024000"/>
          </a:xfrm>
          <a:prstGeom prst="rect">
            <a:avLst/>
          </a:prstGeom>
          <a:noFill/>
          <a:ln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3419640" y="1268280"/>
            <a:ext cx="1657080" cy="0"/>
          </a:xfrm>
          <a:prstGeom prst="line">
            <a:avLst/>
          </a:prstGeom>
          <a:ln w="28440">
            <a:solidFill>
              <a:srgbClr val="ff15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5076720" y="1268280"/>
            <a:ext cx="503280" cy="432000"/>
          </a:xfrm>
          <a:prstGeom prst="line">
            <a:avLst/>
          </a:prstGeom>
          <a:ln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179280" y="3129120"/>
            <a:ext cx="277200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ем «Сохранить всё»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rl+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водим название исходного модуля (латиница, не более 8 сим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179280" y="3129120"/>
            <a:ext cx="2781360" cy="20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0"/>
          <p:cNvSpPr/>
          <p:nvPr/>
        </p:nvSpPr>
        <p:spPr>
          <a:xfrm flipH="1">
            <a:off x="1402920" y="1052640"/>
            <a:ext cx="144360" cy="208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3132000" y="5086440"/>
            <a:ext cx="23670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ем «Откомпилировать»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rl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2"/>
          <p:cNvSpPr/>
          <p:nvPr/>
        </p:nvSpPr>
        <p:spPr>
          <a:xfrm>
            <a:off x="3133800" y="5086440"/>
            <a:ext cx="23749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6516720" y="4929120"/>
            <a:ext cx="2232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пустить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rl+F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4"/>
          <p:cNvSpPr/>
          <p:nvPr/>
        </p:nvSpPr>
        <p:spPr>
          <a:xfrm>
            <a:off x="6516720" y="4941720"/>
            <a:ext cx="2232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5"/>
          <p:cNvSpPr/>
          <p:nvPr/>
        </p:nvSpPr>
        <p:spPr>
          <a:xfrm flipH="1">
            <a:off x="4211640" y="2781360"/>
            <a:ext cx="1440000" cy="2303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6"/>
          <p:cNvSpPr/>
          <p:nvPr/>
        </p:nvSpPr>
        <p:spPr>
          <a:xfrm>
            <a:off x="6443640" y="2708280"/>
            <a:ext cx="1152720" cy="2233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8"/>
          <p:cNvSpPr/>
          <p:nvPr/>
        </p:nvSpPr>
        <p:spPr>
          <a:xfrm>
            <a:off x="1835280" y="765000"/>
            <a:ext cx="1584360" cy="1079640"/>
          </a:xfrm>
          <a:prstGeom prst="rect">
            <a:avLst/>
          </a:prstGeom>
          <a:noFill/>
          <a:ln w="28440">
            <a:solidFill>
              <a:srgbClr val="ff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828720" y="152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Разобрать решение на дос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468360" y="671400"/>
            <a:ext cx="8280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я, что земля идеальная сфера радиус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= 63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м., определить расстояние до линии горизонта от точки, поднятой над поверхностью земли на высот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L = 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+h)</a:t>
            </a:r>
            <a:r>
              <a:rPr b="0" lang="en-US" sz="16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R</a:t>
            </a:r>
            <a:r>
              <a:rPr b="0" lang="en-US" sz="16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712800" y="1233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755640" y="15858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Выполнить самостоятель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468360" y="202104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Известно количество жителей в государстве и площадь его территории. Определить плотность населения в нё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68360" y="26924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аны катеты прямоугольного треугольника. Найти его гипотену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468360" y="317340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Найти площадь кольца по заданному внешнему и внутреннему радиу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68360" y="36766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Даны два основания и высота равнобедренной трапеции. Найти её периметр и площа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468360" y="4397400"/>
            <a:ext cx="82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сухой сосны составляет 500 кг/м.куб. Из неё изготовлен шар радиус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ая выталкивающая сила (Архимеда) будет действовать на этот шар при полном погружении его в в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468360" y="52959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Известны координаты двух точек на плоскос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(x1,y1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(x2,y2)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ти расстояние между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468360" y="60166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Даны две велич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программу обмена этих величин своим содержимым (1-й вар: с исп. 3-й перем.; 2-й вар: без исп. 3-й перем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6"/>
          <p:cNvSpPr/>
          <p:nvPr/>
        </p:nvSpPr>
        <p:spPr>
          <a:xfrm>
            <a:off x="3203640" y="4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апись усл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79280" y="549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якое утверждение, о котором можно точно говорить, что оно либо истинно, либо ложно называется</a:t>
            </a: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1515"/>
                </a:solidFill>
                <a:latin typeface="Arial"/>
              </a:rPr>
              <a:t>логическим выражением или условием</a:t>
            </a: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179280" y="126828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«В сутках 24 часа»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«Квадрат гипотенузы прямоугольного треугольника равен сум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квадратов его катетов»</a:t>
            </a: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 &gt; 5”</a:t>
            </a: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“7 = 10”</a:t>
            </a: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250920" y="37958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составлении сложных логических условий (выражений) используются «связки» (логические оп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250920" y="4508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Запись логических связок (операций) в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/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250920" y="4992840"/>
            <a:ext cx="8642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18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ставное усло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 u="sng">
                <a:solidFill>
                  <a:srgbClr val="0066ff"/>
                </a:solidFill>
                <a:uFillTx/>
                <a:latin typeface="Arial"/>
              </a:rPr>
              <a:t>Запись в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C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 &amp;&amp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||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!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5"/>
          <p:cNvSpPr/>
          <p:nvPr/>
        </p:nvSpPr>
        <p:spPr>
          <a:xfrm>
            <a:off x="250920" y="7920"/>
            <a:ext cx="48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Запись математически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50920" y="476280"/>
            <a:ext cx="86421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lvl="1" marL="8002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 u="sng">
                <a:solidFill>
                  <a:srgbClr val="0066ff"/>
                </a:solidFill>
                <a:uFillTx/>
                <a:latin typeface="Arial"/>
              </a:rPr>
              <a:t>Запись в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C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&gt;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 &gt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или рав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 &gt;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&lt;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 &lt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 &lt;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 =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рав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 !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250560" y="3403440"/>
            <a:ext cx="86349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апример: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a + b &gt; c &amp;&amp; a + c &gt; b &amp;&amp; b + c &gt; 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условие существования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угольника со сторонами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a, b,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qrt ( x * x + y * y) &lt;=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ловие, при котором точ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(x,y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жит внутр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уга радиус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центром в начале координ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m / V &lt; r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ловие всплывания тела массой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 объёмом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жидкости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отность которой равн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r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a == c || b == 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ловие, при котором ладья, стоящая на поле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a,b)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рожает полю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(c,d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a != 0  &amp;&amp; sqrt ( b * b – 4 * a *c ) &gt;= 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ловие существования корней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вадратного уравнения с коэффициентами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a, b,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250920" y="79200"/>
            <a:ext cx="48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Логические перемен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50920" y="692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ые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/C++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могут принимать только одно из дву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й: истина (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ложь (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ся логически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250920" y="1773360"/>
            <a:ext cx="8569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вление логических переменных и операции с ни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=1, b=2, c=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, v =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 =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( a != 0 ) &amp;&amp; ( sqrt ( b * b – 4 * a *c 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0 );   /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. наличия корней кв. урав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p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имеет корни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корней не имее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250920" y="545796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,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перем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, bool, true, false, if, else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езервированные служебные сло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Внешний вид интерпретатора коман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md"/>
          <p:cNvPicPr/>
          <p:nvPr/>
        </p:nvPicPr>
        <p:blipFill>
          <a:blip r:embed="rId1"/>
          <a:stretch/>
        </p:blipFill>
        <p:spPr>
          <a:xfrm>
            <a:off x="646200" y="692280"/>
            <a:ext cx="78865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324000" y="11592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Задачи для решения: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24000" y="2565360"/>
            <a:ext cx="8569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11 (ж). Вычислить значение логического выражения: (не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*y&lt;0)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x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2, y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не (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x * y &lt;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0 ) 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y &gt; x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2 * 1 &l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&lt; 0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(1 &gt; 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324000" y="69228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.М.Златопольский. Сборник задач по программированию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1 (а-ж) – вычислить истинность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3 – 13.14 – записать на я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3.28 – 3.2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записать на я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324000" y="574524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. Записать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огическое выражение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Решение: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X &amp;&amp; !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3"/>
          <p:cNvSpPr/>
          <p:nvPr/>
        </p:nvSpPr>
        <p:spPr>
          <a:xfrm>
            <a:off x="539640" y="189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ная форма условного опер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5364000" y="939960"/>
            <a:ext cx="360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if ( 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условие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gt;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ператор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-1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ператор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-1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5364000" y="4508640"/>
            <a:ext cx="360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if ( 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условие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gt;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лок операторов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-1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лок операторов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-1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1792440" y="1860480"/>
            <a:ext cx="2376360" cy="1428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«Услов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ыполняе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7560" y="1341360"/>
            <a:ext cx="182520" cy="507960"/>
          </a:xfrm>
          <a:prstGeom prst="downArrow">
            <a:avLst>
              <a:gd name="adj1" fmla="val 50000"/>
              <a:gd name="adj2" fmla="val 695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5400000">
            <a:off x="4294440" y="2426400"/>
            <a:ext cx="573120" cy="787320"/>
          </a:xfrm>
          <a:custGeom>
            <a:avLst/>
            <a:gdLst>
              <a:gd name="textAreaLeft" fmla="*/ 329760 w 573120"/>
              <a:gd name="textAreaRight" fmla="*/ 532080 w 573120"/>
              <a:gd name="textAreaTop" fmla="*/ 170280 h 787320"/>
              <a:gd name="textAreaBottom" fmla="*/ 272520 h 787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865" y="0"/>
                </a:lnTo>
                <a:lnTo>
                  <a:pt x="14865" y="4678"/>
                </a:lnTo>
                <a:lnTo>
                  <a:pt x="12427" y="4678"/>
                </a:lnTo>
                <a:cubicBezTo>
                  <a:pt x="5564" y="4678"/>
                  <a:pt x="0" y="8027"/>
                  <a:pt x="0" y="12158"/>
                </a:cubicBezTo>
                <a:lnTo>
                  <a:pt x="0" y="21600"/>
                </a:lnTo>
                <a:lnTo>
                  <a:pt x="2864" y="21600"/>
                </a:lnTo>
                <a:lnTo>
                  <a:pt x="2864" y="12158"/>
                </a:lnTo>
                <a:cubicBezTo>
                  <a:pt x="2864" y="9574"/>
                  <a:pt x="7146" y="7480"/>
                  <a:pt x="12427" y="7480"/>
                </a:cubicBezTo>
                <a:lnTo>
                  <a:pt x="14865" y="7480"/>
                </a:lnTo>
                <a:lnTo>
                  <a:pt x="14865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2887560" y="4513320"/>
            <a:ext cx="252360" cy="790560"/>
          </a:xfrm>
          <a:prstGeom prst="downArrow">
            <a:avLst>
              <a:gd name="adj1" fmla="val 50000"/>
              <a:gd name="adj2" fmla="val 783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139280" y="21240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1217520" y="2130480"/>
            <a:ext cx="5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0"/>
          <p:cNvSpPr/>
          <p:nvPr/>
        </p:nvSpPr>
        <p:spPr>
          <a:xfrm rot="10800000">
            <a:off x="3160800" y="3720600"/>
            <a:ext cx="1728720" cy="893880"/>
          </a:xfrm>
          <a:custGeom>
            <a:avLst/>
            <a:gdLst>
              <a:gd name="textAreaLeft" fmla="*/ 994680 w 1728720"/>
              <a:gd name="textAreaRight" fmla="*/ 1618200 w 1728720"/>
              <a:gd name="textAreaTop" fmla="*/ 198000 h 893880"/>
              <a:gd name="textAreaBottom" fmla="*/ 304920 h 893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74" y="0"/>
                </a:lnTo>
                <a:lnTo>
                  <a:pt x="15074" y="4790"/>
                </a:lnTo>
                <a:lnTo>
                  <a:pt x="12427" y="4790"/>
                </a:lnTo>
                <a:cubicBezTo>
                  <a:pt x="5564" y="4790"/>
                  <a:pt x="0" y="8089"/>
                  <a:pt x="0" y="12158"/>
                </a:cubicBezTo>
                <a:lnTo>
                  <a:pt x="0" y="21600"/>
                </a:lnTo>
                <a:lnTo>
                  <a:pt x="2635" y="21600"/>
                </a:lnTo>
                <a:lnTo>
                  <a:pt x="2635" y="12158"/>
                </a:lnTo>
                <a:cubicBezTo>
                  <a:pt x="2635" y="9513"/>
                  <a:pt x="7019" y="7368"/>
                  <a:pt x="12427" y="7368"/>
                </a:cubicBezTo>
                <a:lnTo>
                  <a:pt x="15074" y="7368"/>
                </a:lnTo>
                <a:lnTo>
                  <a:pt x="15074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4040280" y="3130560"/>
            <a:ext cx="1468440" cy="649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ействий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5"/>
          <p:cNvSpPr/>
          <p:nvPr/>
        </p:nvSpPr>
        <p:spPr>
          <a:xfrm flipH="1" rot="10800000">
            <a:off x="1072080" y="3720600"/>
            <a:ext cx="1800360" cy="893880"/>
          </a:xfrm>
          <a:custGeom>
            <a:avLst/>
            <a:gdLst>
              <a:gd name="textAreaLeft" fmla="*/ 1035360 w 1800360"/>
              <a:gd name="textAreaRight" fmla="*/ 1684800 w 1800360"/>
              <a:gd name="textAreaTop" fmla="*/ 198000 h 893880"/>
              <a:gd name="textAreaBottom" fmla="*/ 304920 h 893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74" y="0"/>
                </a:lnTo>
                <a:lnTo>
                  <a:pt x="15074" y="4790"/>
                </a:lnTo>
                <a:lnTo>
                  <a:pt x="12427" y="4790"/>
                </a:lnTo>
                <a:cubicBezTo>
                  <a:pt x="5564" y="4790"/>
                  <a:pt x="0" y="8089"/>
                  <a:pt x="0" y="12158"/>
                </a:cubicBezTo>
                <a:lnTo>
                  <a:pt x="0" y="21600"/>
                </a:lnTo>
                <a:lnTo>
                  <a:pt x="2635" y="21600"/>
                </a:lnTo>
                <a:lnTo>
                  <a:pt x="2635" y="12158"/>
                </a:lnTo>
                <a:cubicBezTo>
                  <a:pt x="2635" y="9513"/>
                  <a:pt x="7019" y="7368"/>
                  <a:pt x="12427" y="7368"/>
                </a:cubicBezTo>
                <a:lnTo>
                  <a:pt x="15074" y="7368"/>
                </a:lnTo>
                <a:lnTo>
                  <a:pt x="15074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6"/>
          <p:cNvSpPr/>
          <p:nvPr/>
        </p:nvSpPr>
        <p:spPr>
          <a:xfrm flipH="1" rot="16200000">
            <a:off x="1052640" y="2378160"/>
            <a:ext cx="573120" cy="868320"/>
          </a:xfrm>
          <a:custGeom>
            <a:avLst/>
            <a:gdLst>
              <a:gd name="textAreaLeft" fmla="*/ 329760 w 573120"/>
              <a:gd name="textAreaRight" fmla="*/ 532080 w 573120"/>
              <a:gd name="textAreaTop" fmla="*/ 187920 h 868320"/>
              <a:gd name="textAreaBottom" fmla="*/ 300600 h 868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865" y="0"/>
                </a:lnTo>
                <a:lnTo>
                  <a:pt x="14865" y="4678"/>
                </a:lnTo>
                <a:lnTo>
                  <a:pt x="12427" y="4678"/>
                </a:lnTo>
                <a:cubicBezTo>
                  <a:pt x="5564" y="4678"/>
                  <a:pt x="0" y="8027"/>
                  <a:pt x="0" y="12158"/>
                </a:cubicBezTo>
                <a:lnTo>
                  <a:pt x="0" y="21600"/>
                </a:lnTo>
                <a:lnTo>
                  <a:pt x="2864" y="21600"/>
                </a:lnTo>
                <a:lnTo>
                  <a:pt x="2864" y="12158"/>
                </a:lnTo>
                <a:cubicBezTo>
                  <a:pt x="2864" y="9574"/>
                  <a:pt x="7146" y="7480"/>
                  <a:pt x="12427" y="7480"/>
                </a:cubicBezTo>
                <a:lnTo>
                  <a:pt x="14865" y="7480"/>
                </a:lnTo>
                <a:lnTo>
                  <a:pt x="14865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449280" y="3116160"/>
            <a:ext cx="1401840" cy="649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ействий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8"/>
          <p:cNvSpPr/>
          <p:nvPr/>
        </p:nvSpPr>
        <p:spPr>
          <a:xfrm>
            <a:off x="2873520" y="4226040"/>
            <a:ext cx="287280" cy="2887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97164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твления в алгоритмах. Условный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39640" y="692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кращённа форма условного опер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859280" y="1197000"/>
            <a:ext cx="36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if ( 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условие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gt;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ператор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859280" y="2276640"/>
            <a:ext cx="36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if ( 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условие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gt;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лок операторов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4859280" y="3357720"/>
            <a:ext cx="40338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Где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лок операторов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ператор-1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ператор-1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оператор-1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255600" y="2576520"/>
            <a:ext cx="2435040" cy="1332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«Услов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ыполняе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7"/>
          <p:cNvSpPr/>
          <p:nvPr/>
        </p:nvSpPr>
        <p:spPr>
          <a:xfrm>
            <a:off x="1380960" y="2060640"/>
            <a:ext cx="182880" cy="507960"/>
          </a:xfrm>
          <a:prstGeom prst="downArrow">
            <a:avLst>
              <a:gd name="adj1" fmla="val 50000"/>
              <a:gd name="adj2" fmla="val 69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 rot="5400000">
            <a:off x="2921760" y="2961360"/>
            <a:ext cx="573120" cy="1035360"/>
          </a:xfrm>
          <a:custGeom>
            <a:avLst/>
            <a:gdLst>
              <a:gd name="textAreaLeft" fmla="*/ 329760 w 573120"/>
              <a:gd name="textAreaRight" fmla="*/ 532080 w 573120"/>
              <a:gd name="textAreaTop" fmla="*/ 224280 h 1035360"/>
              <a:gd name="textAreaBottom" fmla="*/ 358560 h 1035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865" y="0"/>
                </a:lnTo>
                <a:lnTo>
                  <a:pt x="14865" y="4678"/>
                </a:lnTo>
                <a:lnTo>
                  <a:pt x="12427" y="4678"/>
                </a:lnTo>
                <a:cubicBezTo>
                  <a:pt x="5564" y="4678"/>
                  <a:pt x="0" y="8027"/>
                  <a:pt x="0" y="12158"/>
                </a:cubicBezTo>
                <a:lnTo>
                  <a:pt x="0" y="21600"/>
                </a:lnTo>
                <a:lnTo>
                  <a:pt x="2864" y="21600"/>
                </a:lnTo>
                <a:lnTo>
                  <a:pt x="2864" y="12158"/>
                </a:lnTo>
                <a:cubicBezTo>
                  <a:pt x="2864" y="9574"/>
                  <a:pt x="7146" y="7480"/>
                  <a:pt x="12427" y="7480"/>
                </a:cubicBezTo>
                <a:lnTo>
                  <a:pt x="14865" y="7480"/>
                </a:lnTo>
                <a:lnTo>
                  <a:pt x="14865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1366920" y="3911760"/>
            <a:ext cx="244440" cy="2036520"/>
          </a:xfrm>
          <a:prstGeom prst="downArrow">
            <a:avLst>
              <a:gd name="adj1" fmla="val 50000"/>
              <a:gd name="adj2" fmla="val 2082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2723040" y="2840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819000" y="4091040"/>
            <a:ext cx="5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4"/>
          <p:cNvSpPr/>
          <p:nvPr/>
        </p:nvSpPr>
        <p:spPr>
          <a:xfrm rot="10800000">
            <a:off x="1539360" y="4436640"/>
            <a:ext cx="2095560" cy="893880"/>
          </a:xfrm>
          <a:custGeom>
            <a:avLst/>
            <a:gdLst>
              <a:gd name="textAreaLeft" fmla="*/ 1205640 w 2095560"/>
              <a:gd name="textAreaRight" fmla="*/ 1961280 w 2095560"/>
              <a:gd name="textAreaTop" fmla="*/ 198000 h 893880"/>
              <a:gd name="textAreaBottom" fmla="*/ 304920 h 893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74" y="0"/>
                </a:lnTo>
                <a:lnTo>
                  <a:pt x="15074" y="4790"/>
                </a:lnTo>
                <a:lnTo>
                  <a:pt x="12427" y="4790"/>
                </a:lnTo>
                <a:cubicBezTo>
                  <a:pt x="5564" y="4790"/>
                  <a:pt x="0" y="8089"/>
                  <a:pt x="0" y="12158"/>
                </a:cubicBezTo>
                <a:lnTo>
                  <a:pt x="0" y="21600"/>
                </a:lnTo>
                <a:lnTo>
                  <a:pt x="2635" y="21600"/>
                </a:lnTo>
                <a:lnTo>
                  <a:pt x="2635" y="12158"/>
                </a:lnTo>
                <a:cubicBezTo>
                  <a:pt x="2635" y="9513"/>
                  <a:pt x="7019" y="7368"/>
                  <a:pt x="12427" y="7368"/>
                </a:cubicBezTo>
                <a:lnTo>
                  <a:pt x="15074" y="7368"/>
                </a:lnTo>
                <a:lnTo>
                  <a:pt x="15074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1"/>
          <p:cNvSpPr/>
          <p:nvPr/>
        </p:nvSpPr>
        <p:spPr>
          <a:xfrm>
            <a:off x="2612880" y="3787920"/>
            <a:ext cx="1657440" cy="649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ие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324000" y="4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Написать пр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324000" y="54936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.М.Златопольский. Сборник задач по программированию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3.29 (а-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3.34 (а-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4.8 – 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250920" y="220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9 (е).  Даны три чис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 Y, Z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о ли, что хотя бы одно из ни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8"/>
          <p:cNvSpPr/>
          <p:nvPr/>
        </p:nvSpPr>
        <p:spPr>
          <a:xfrm>
            <a:off x="1058760" y="3286080"/>
            <a:ext cx="172728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0"/>
          <p:cNvSpPr/>
          <p:nvPr/>
        </p:nvSpPr>
        <p:spPr>
          <a:xfrm>
            <a:off x="841320" y="3933720"/>
            <a:ext cx="2087640" cy="647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 Y,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1"/>
          <p:cNvSpPr/>
          <p:nvPr/>
        </p:nvSpPr>
        <p:spPr>
          <a:xfrm>
            <a:off x="324000" y="4797360"/>
            <a:ext cx="3240000" cy="1224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&gt;1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&gt;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>
            <a:off x="3664080" y="5172120"/>
            <a:ext cx="2808000" cy="431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р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3"/>
          <p:cNvSpPr/>
          <p:nvPr/>
        </p:nvSpPr>
        <p:spPr>
          <a:xfrm>
            <a:off x="554040" y="6237360"/>
            <a:ext cx="2808360" cy="431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 вер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4"/>
          <p:cNvSpPr/>
          <p:nvPr/>
        </p:nvSpPr>
        <p:spPr>
          <a:xfrm>
            <a:off x="1922400" y="3718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5"/>
          <p:cNvSpPr/>
          <p:nvPr/>
        </p:nvSpPr>
        <p:spPr>
          <a:xfrm>
            <a:off x="1951200" y="458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6"/>
          <p:cNvSpPr/>
          <p:nvPr/>
        </p:nvSpPr>
        <p:spPr>
          <a:xfrm>
            <a:off x="1951200" y="602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7"/>
          <p:cNvSpPr/>
          <p:nvPr/>
        </p:nvSpPr>
        <p:spPr>
          <a:xfrm>
            <a:off x="3551400" y="541656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"/>
          <p:cNvSpPr/>
          <p:nvPr/>
        </p:nvSpPr>
        <p:spPr>
          <a:xfrm>
            <a:off x="3075120" y="6453360"/>
            <a:ext cx="36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9"/>
          <p:cNvSpPr/>
          <p:nvPr/>
        </p:nvSpPr>
        <p:spPr>
          <a:xfrm flipV="1">
            <a:off x="6746760" y="537336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0"/>
          <p:cNvSpPr/>
          <p:nvPr/>
        </p:nvSpPr>
        <p:spPr>
          <a:xfrm flipH="1">
            <a:off x="6242040" y="5373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1"/>
          <p:cNvSpPr/>
          <p:nvPr/>
        </p:nvSpPr>
        <p:spPr>
          <a:xfrm>
            <a:off x="7093080" y="5661000"/>
            <a:ext cx="172692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2"/>
          <p:cNvSpPr/>
          <p:nvPr/>
        </p:nvSpPr>
        <p:spPr>
          <a:xfrm>
            <a:off x="6732720" y="587844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5075280" y="2637000"/>
            <a:ext cx="360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Исходны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X, Y, Z –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дробные числа (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flo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«верно» или «не вер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Услов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X&gt;100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Y&gt;100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или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Z&gt;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843480" y="580536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3421080" y="49338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1"/>
          <p:cNvPicPr/>
          <p:nvPr/>
        </p:nvPicPr>
        <p:blipFill>
          <a:blip r:embed="rId1"/>
          <a:stretch/>
        </p:blipFill>
        <p:spPr>
          <a:xfrm>
            <a:off x="785880" y="228600"/>
            <a:ext cx="757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324000" y="11592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Результаты работы пр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5" descr="2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1876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3"/>
          <p:cNvPicPr/>
          <p:nvPr/>
        </p:nvPicPr>
        <p:blipFill>
          <a:blip r:embed="rId2"/>
          <a:stretch/>
        </p:blipFill>
        <p:spPr>
          <a:xfrm>
            <a:off x="324000" y="3940200"/>
            <a:ext cx="8351640" cy="236844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7"/>
          <p:cNvSpPr/>
          <p:nvPr/>
        </p:nvSpPr>
        <p:spPr>
          <a:xfrm>
            <a:off x="395280" y="69228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оложительный 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395280" y="350028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трицательный 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4"/>
          <p:cNvSpPr/>
          <p:nvPr/>
        </p:nvSpPr>
        <p:spPr>
          <a:xfrm>
            <a:off x="395280" y="115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ставление алгоритмы и программ, содержащих вы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468360" y="5824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15 Известны год и номер месяца рождения человека, а также год и номер месяца сегодняшнего дня (январь-1 и т.д.). Определить сколько человеку полных лет. В случае совпадения указанных номеров месяцев считать, что прошёл полн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"/>
          <p:cNvSpPr/>
          <p:nvPr/>
        </p:nvSpPr>
        <p:spPr>
          <a:xfrm>
            <a:off x="3995640" y="1916280"/>
            <a:ext cx="0" cy="47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395280" y="21258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ализ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324000" y="2597040"/>
            <a:ext cx="360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Исходны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gr, mr –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год и месяц 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gt, mt –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текущий год и мес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24000" y="4038480"/>
            <a:ext cx="36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et –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число полных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324000" y="5157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Услов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t&lt;mr,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тогда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let=gt-gr-1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t&gt;=mr,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тогда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let=gt-g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4859280" y="1628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хема алгори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2"/>
          <p:cNvSpPr/>
          <p:nvPr/>
        </p:nvSpPr>
        <p:spPr>
          <a:xfrm>
            <a:off x="5056200" y="2178000"/>
            <a:ext cx="180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4314960" y="2754360"/>
            <a:ext cx="3384360" cy="3603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, mr, gt, 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5"/>
          <p:cNvSpPr/>
          <p:nvPr/>
        </p:nvSpPr>
        <p:spPr>
          <a:xfrm>
            <a:off x="5218200" y="3259080"/>
            <a:ext cx="1512720" cy="719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&lt;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6"/>
          <p:cNvSpPr/>
          <p:nvPr/>
        </p:nvSpPr>
        <p:spPr>
          <a:xfrm>
            <a:off x="6730920" y="361800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7"/>
          <p:cNvSpPr/>
          <p:nvPr/>
        </p:nvSpPr>
        <p:spPr>
          <a:xfrm>
            <a:off x="7450200" y="3618000"/>
            <a:ext cx="0" cy="35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6862680" y="3251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0"/>
          <p:cNvSpPr/>
          <p:nvPr/>
        </p:nvSpPr>
        <p:spPr>
          <a:xfrm flipH="1">
            <a:off x="5972040" y="3978360"/>
            <a:ext cx="5040" cy="77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5436000" y="41162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5"/>
          <p:cNvSpPr/>
          <p:nvPr/>
        </p:nvSpPr>
        <p:spPr>
          <a:xfrm>
            <a:off x="7450200" y="4338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7"/>
          <p:cNvSpPr/>
          <p:nvPr/>
        </p:nvSpPr>
        <p:spPr>
          <a:xfrm flipH="1">
            <a:off x="5989320" y="454176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8"/>
          <p:cNvSpPr/>
          <p:nvPr/>
        </p:nvSpPr>
        <p:spPr>
          <a:xfrm>
            <a:off x="5959440" y="2538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9"/>
          <p:cNvSpPr/>
          <p:nvPr/>
        </p:nvSpPr>
        <p:spPr>
          <a:xfrm>
            <a:off x="5972040" y="313056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0"/>
          <p:cNvSpPr/>
          <p:nvPr/>
        </p:nvSpPr>
        <p:spPr>
          <a:xfrm>
            <a:off x="5205240" y="4745160"/>
            <a:ext cx="1513080" cy="7189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&gt;=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1"/>
          <p:cNvSpPr/>
          <p:nvPr/>
        </p:nvSpPr>
        <p:spPr>
          <a:xfrm>
            <a:off x="6718320" y="510372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2"/>
          <p:cNvSpPr/>
          <p:nvPr/>
        </p:nvSpPr>
        <p:spPr>
          <a:xfrm>
            <a:off x="7437600" y="5103720"/>
            <a:ext cx="0" cy="35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3"/>
          <p:cNvSpPr/>
          <p:nvPr/>
        </p:nvSpPr>
        <p:spPr>
          <a:xfrm>
            <a:off x="6850080" y="47372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5"/>
          <p:cNvSpPr/>
          <p:nvPr/>
        </p:nvSpPr>
        <p:spPr>
          <a:xfrm flipH="1">
            <a:off x="5959080" y="5464080"/>
            <a:ext cx="4680" cy="77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6"/>
          <p:cNvSpPr/>
          <p:nvPr/>
        </p:nvSpPr>
        <p:spPr>
          <a:xfrm>
            <a:off x="5423040" y="56023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7"/>
          <p:cNvSpPr/>
          <p:nvPr/>
        </p:nvSpPr>
        <p:spPr>
          <a:xfrm>
            <a:off x="7437600" y="5824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8"/>
          <p:cNvSpPr/>
          <p:nvPr/>
        </p:nvSpPr>
        <p:spPr>
          <a:xfrm flipH="1">
            <a:off x="5976720" y="604044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9"/>
          <p:cNvSpPr/>
          <p:nvPr/>
        </p:nvSpPr>
        <p:spPr>
          <a:xfrm>
            <a:off x="6732720" y="3983040"/>
            <a:ext cx="1439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=gt-gr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0"/>
          <p:cNvSpPr/>
          <p:nvPr/>
        </p:nvSpPr>
        <p:spPr>
          <a:xfrm>
            <a:off x="6732720" y="5457960"/>
            <a:ext cx="1439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=gt-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1"/>
          <p:cNvSpPr/>
          <p:nvPr/>
        </p:nvSpPr>
        <p:spPr>
          <a:xfrm>
            <a:off x="5121360" y="6237360"/>
            <a:ext cx="1657440" cy="3603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42"/>
          <p:cNvSpPr/>
          <p:nvPr/>
        </p:nvSpPr>
        <p:spPr>
          <a:xfrm>
            <a:off x="7126200" y="6237360"/>
            <a:ext cx="180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3"/>
          <p:cNvSpPr/>
          <p:nvPr/>
        </p:nvSpPr>
        <p:spPr>
          <a:xfrm>
            <a:off x="6613560" y="641520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4"/>
          <p:cNvSpPr/>
          <p:nvPr/>
        </p:nvSpPr>
        <p:spPr>
          <a:xfrm>
            <a:off x="1692360" y="19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Множественный выбор (вариан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50920" y="476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жественный выбор в алгоритмах и программах необходим в тех случаях, когда необходимо в зависимости от выполнения или не выполнения ряда условий сделать один единственный выбор из нескольких взаимоисключающих вари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4572000" y="1628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хема алгорит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24000" y="16351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граммная зап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24000" y="2211480"/>
            <a:ext cx="34560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wi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операто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операто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   ***   ***   ***  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операто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операто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1"/>
          <p:cNvSpPr/>
          <p:nvPr/>
        </p:nvSpPr>
        <p:spPr>
          <a:xfrm>
            <a:off x="4716360" y="2714760"/>
            <a:ext cx="1152720" cy="4330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2"/>
          <p:cNvSpPr/>
          <p:nvPr/>
        </p:nvSpPr>
        <p:spPr>
          <a:xfrm>
            <a:off x="4716360" y="3433680"/>
            <a:ext cx="1152720" cy="4334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4716360" y="4873680"/>
            <a:ext cx="1152720" cy="4334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4"/>
          <p:cNvSpPr/>
          <p:nvPr/>
        </p:nvSpPr>
        <p:spPr>
          <a:xfrm>
            <a:off x="5867280" y="293220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6156360" y="2787480"/>
            <a:ext cx="23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операторов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5292720" y="31478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0"/>
          <p:cNvSpPr/>
          <p:nvPr/>
        </p:nvSpPr>
        <p:spPr>
          <a:xfrm>
            <a:off x="8459640" y="2932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1"/>
          <p:cNvSpPr/>
          <p:nvPr/>
        </p:nvSpPr>
        <p:spPr>
          <a:xfrm>
            <a:off x="5867280" y="363996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6156360" y="3495600"/>
            <a:ext cx="23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операторов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3"/>
          <p:cNvSpPr/>
          <p:nvPr/>
        </p:nvSpPr>
        <p:spPr>
          <a:xfrm>
            <a:off x="8459640" y="36399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4"/>
          <p:cNvSpPr/>
          <p:nvPr/>
        </p:nvSpPr>
        <p:spPr>
          <a:xfrm>
            <a:off x="5292720" y="386856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5"/>
          <p:cNvSpPr/>
          <p:nvPr/>
        </p:nvSpPr>
        <p:spPr>
          <a:xfrm>
            <a:off x="5292720" y="242712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6"/>
          <p:cNvSpPr/>
          <p:nvPr/>
        </p:nvSpPr>
        <p:spPr>
          <a:xfrm>
            <a:off x="5867280" y="50911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7"/>
          <p:cNvSpPr/>
          <p:nvPr/>
        </p:nvSpPr>
        <p:spPr>
          <a:xfrm>
            <a:off x="6156360" y="4946760"/>
            <a:ext cx="23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операторов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8"/>
          <p:cNvSpPr/>
          <p:nvPr/>
        </p:nvSpPr>
        <p:spPr>
          <a:xfrm>
            <a:off x="8459640" y="5091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9"/>
          <p:cNvSpPr/>
          <p:nvPr/>
        </p:nvSpPr>
        <p:spPr>
          <a:xfrm>
            <a:off x="5292720" y="45864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0"/>
          <p:cNvSpPr/>
          <p:nvPr/>
        </p:nvSpPr>
        <p:spPr>
          <a:xfrm>
            <a:off x="4610160" y="427680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   ***  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1"/>
          <p:cNvSpPr/>
          <p:nvPr/>
        </p:nvSpPr>
        <p:spPr>
          <a:xfrm>
            <a:off x="5292720" y="53071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32"/>
          <p:cNvSpPr/>
          <p:nvPr/>
        </p:nvSpPr>
        <p:spPr>
          <a:xfrm>
            <a:off x="4140360" y="5594400"/>
            <a:ext cx="23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опер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4"/>
          <p:cNvSpPr/>
          <p:nvPr/>
        </p:nvSpPr>
        <p:spPr>
          <a:xfrm>
            <a:off x="8672400" y="2930400"/>
            <a:ext cx="0" cy="282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6"/>
          <p:cNvSpPr/>
          <p:nvPr/>
        </p:nvSpPr>
        <p:spPr>
          <a:xfrm flipH="1">
            <a:off x="6443640" y="573876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7"/>
          <p:cNvSpPr/>
          <p:nvPr/>
        </p:nvSpPr>
        <p:spPr>
          <a:xfrm>
            <a:off x="5283360" y="588312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8"/>
          <p:cNvSpPr/>
          <p:nvPr/>
        </p:nvSpPr>
        <p:spPr>
          <a:xfrm>
            <a:off x="5725800" y="2563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738760" y="3284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0"/>
          <p:cNvSpPr/>
          <p:nvPr/>
        </p:nvSpPr>
        <p:spPr>
          <a:xfrm>
            <a:off x="5763960" y="47260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1"/>
          <p:cNvSpPr/>
          <p:nvPr/>
        </p:nvSpPr>
        <p:spPr>
          <a:xfrm>
            <a:off x="4729320" y="3062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2"/>
          <p:cNvSpPr/>
          <p:nvPr/>
        </p:nvSpPr>
        <p:spPr>
          <a:xfrm>
            <a:off x="4721400" y="37908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4746960" y="52135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250920" y="6262560"/>
            <a:ext cx="85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1515"/>
                </a:solidFill>
                <a:latin typeface="Arial"/>
              </a:rPr>
              <a:t>Здесь </a:t>
            </a:r>
            <a:r>
              <a:rPr b="0" lang="en-US" sz="1800" spc="-1" strike="noStrike">
                <a:solidFill>
                  <a:srgbClr val="ff1515"/>
                </a:solidFill>
                <a:latin typeface="Arial"/>
              </a:rPr>
              <a:t>k, k</a:t>
            </a:r>
            <a:r>
              <a:rPr b="0" lang="en-US" sz="1800" spc="-1" strike="noStrike" baseline="-25000">
                <a:solidFill>
                  <a:srgbClr val="ff1515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1515"/>
                </a:solidFill>
                <a:latin typeface="Arial"/>
              </a:rPr>
              <a:t>, k</a:t>
            </a:r>
            <a:r>
              <a:rPr b="0" lang="en-US" sz="1800" spc="-1" strike="noStrike" baseline="-25000">
                <a:solidFill>
                  <a:srgbClr val="ff1515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1515"/>
                </a:solidFill>
                <a:latin typeface="Arial"/>
              </a:rPr>
              <a:t>, …, k</a:t>
            </a:r>
            <a:r>
              <a:rPr b="0" lang="en-US" sz="1800" spc="-1" strike="noStrike" baseline="-25000">
                <a:solidFill>
                  <a:srgbClr val="ff1515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1515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1515"/>
                </a:solidFill>
                <a:latin typeface="Arial"/>
              </a:rPr>
              <a:t>целочисленные переменные или конста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, 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108000" y="792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имер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250920" y="4698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сать программу, определяющую по номеру дня недели его наз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250920" y="8431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ходные данны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ер дня недели от 1 до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: название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1042920" y="1557360"/>
            <a:ext cx="73454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#include &lt;stdli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()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&lt;&lt;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ведите номер дня недели (1-7) -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&gt;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n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&gt;&gt;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wi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s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онедельник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end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rea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торник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end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rea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среда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end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четверг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end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ятница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end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суббота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end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воскресенье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end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efaul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Ошибка!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\n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Такого дня недели не существует.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end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“pause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252360" y="2952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Задачи для самостоятельного ре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466560" y="108576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М.Златопольский. Сборник задач по программ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4.96 – 4.100 на закре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повышенной сложности (по желанию): 4.105, 4.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Задания для работы с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омандным интерпрета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ерейти на диск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: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здать там каталог (папку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ourc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ли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pp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йти в этот ката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здать там подкаталог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йти в подкаталог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омандой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opy con file.tx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абрать в телетайпном режиме любой текст (например, текст этого задания)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вершение набора и выход в командную строку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trl+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смотреть содержимое набранного файла командой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ype file.tx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ерейти вышестоящий ката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здать там подкаталог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йти в подкаталог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копировать фай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“filet”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из подкаталога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текущий подкаталог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смотреть фай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ile.tx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командой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ype file.tx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смотреть содержимое подкаталога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далить в нём файл, выйти в вышестоящий каталог и удалить подкаталог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йти в подкаталог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смотреть содержимое подкаталога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далить в нём файл, выйти в вышестоящий каталог и удалить подкаталог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st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4"/>
          <p:cNvSpPr/>
          <p:nvPr/>
        </p:nvSpPr>
        <p:spPr>
          <a:xfrm>
            <a:off x="971640" y="1908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овторы в алгоритмах. Операторы цик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2197080" y="549360"/>
            <a:ext cx="51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Цикл с предварительным услов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187280" y="1862280"/>
            <a:ext cx="2808360" cy="86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услов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яется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7"/>
          <p:cNvSpPr/>
          <p:nvPr/>
        </p:nvSpPr>
        <p:spPr>
          <a:xfrm flipH="1">
            <a:off x="2584440" y="1197000"/>
            <a:ext cx="9360" cy="66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"/>
          <p:cNvSpPr/>
          <p:nvPr/>
        </p:nvSpPr>
        <p:spPr>
          <a:xfrm>
            <a:off x="2584440" y="27273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1330200" y="3086280"/>
            <a:ext cx="2521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1"/>
          <p:cNvSpPr/>
          <p:nvPr/>
        </p:nvSpPr>
        <p:spPr>
          <a:xfrm>
            <a:off x="2597040" y="3807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2"/>
          <p:cNvSpPr/>
          <p:nvPr/>
        </p:nvSpPr>
        <p:spPr>
          <a:xfrm flipH="1">
            <a:off x="857160" y="4238640"/>
            <a:ext cx="17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3"/>
          <p:cNvSpPr/>
          <p:nvPr/>
        </p:nvSpPr>
        <p:spPr>
          <a:xfrm flipV="1">
            <a:off x="857160" y="1574640"/>
            <a:ext cx="0" cy="26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4"/>
          <p:cNvSpPr/>
          <p:nvPr/>
        </p:nvSpPr>
        <p:spPr>
          <a:xfrm>
            <a:off x="857160" y="1574640"/>
            <a:ext cx="17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5"/>
          <p:cNvSpPr/>
          <p:nvPr/>
        </p:nvSpPr>
        <p:spPr>
          <a:xfrm>
            <a:off x="3995640" y="2293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6"/>
          <p:cNvSpPr/>
          <p:nvPr/>
        </p:nvSpPr>
        <p:spPr>
          <a:xfrm>
            <a:off x="4211640" y="2293920"/>
            <a:ext cx="0" cy="23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7"/>
          <p:cNvSpPr/>
          <p:nvPr/>
        </p:nvSpPr>
        <p:spPr>
          <a:xfrm flipH="1">
            <a:off x="2626920" y="459756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8"/>
          <p:cNvSpPr/>
          <p:nvPr/>
        </p:nvSpPr>
        <p:spPr>
          <a:xfrm>
            <a:off x="2627280" y="4599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1800" y="26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3781800" y="19098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 rot="16200000">
            <a:off x="143280" y="26190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2"/>
          <p:cNvSpPr/>
          <p:nvPr/>
        </p:nvSpPr>
        <p:spPr>
          <a:xfrm rot="5400000">
            <a:off x="3972960" y="31820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5487840" y="1449360"/>
            <a:ext cx="333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**   ***  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4"/>
          <p:cNvSpPr/>
          <p:nvPr/>
        </p:nvSpPr>
        <p:spPr>
          <a:xfrm>
            <a:off x="250920" y="5157720"/>
            <a:ext cx="86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Циклы с предусловием используются в алгоритмах и программах в тех случаях, когда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urier New"/>
              </a:rPr>
              <a:t>число повторов заранее не известно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. Повторы выполняются до нарушения «условия». Предусмотренная в теле цикла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urier New"/>
              </a:rPr>
              <a:t>«последовательность действий»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 для цикла с предусловием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urier New"/>
              </a:rPr>
              <a:t>может ни одного раза не выполнится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5"/>
          <p:cNvSpPr/>
          <p:nvPr/>
        </p:nvSpPr>
        <p:spPr>
          <a:xfrm>
            <a:off x="6084720" y="2206800"/>
            <a:ext cx="71640" cy="1511280"/>
          </a:xfrm>
          <a:custGeom>
            <a:avLst/>
            <a:gdLst>
              <a:gd name="textAreaLeft" fmla="*/ 45720 w 71640"/>
              <a:gd name="textAreaRight" fmla="*/ 72000 w 71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6"/>
          <p:cNvSpPr/>
          <p:nvPr/>
        </p:nvSpPr>
        <p:spPr>
          <a:xfrm rot="16200000">
            <a:off x="4884480" y="280404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4"/>
          <p:cNvSpPr/>
          <p:nvPr/>
        </p:nvSpPr>
        <p:spPr>
          <a:xfrm>
            <a:off x="1763640" y="44280"/>
            <a:ext cx="56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ер задачи на цикл с предуслов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79280" y="54936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ьшим общим делител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Д) двух натуральных чисе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 наибольшее натуральное чис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торое делит нацело оба числ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уществует известный алгоритм нахождения НОД двух чисел: надо вычитать из большего числа меньшее до тех пор пока числа не сравняются. После этого они станут равны Н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6"/>
          <p:cNvSpPr/>
          <p:nvPr/>
        </p:nvSpPr>
        <p:spPr>
          <a:xfrm>
            <a:off x="1187280" y="1773360"/>
            <a:ext cx="1440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7"/>
          <p:cNvSpPr/>
          <p:nvPr/>
        </p:nvSpPr>
        <p:spPr>
          <a:xfrm>
            <a:off x="900000" y="2421000"/>
            <a:ext cx="2016360" cy="431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8"/>
          <p:cNvSpPr/>
          <p:nvPr/>
        </p:nvSpPr>
        <p:spPr>
          <a:xfrm>
            <a:off x="1116000" y="3141720"/>
            <a:ext cx="158436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!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1116000" y="3919680"/>
            <a:ext cx="1584360" cy="5029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gt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1403280" y="472608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3276720" y="472608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B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3"/>
          <p:cNvSpPr/>
          <p:nvPr/>
        </p:nvSpPr>
        <p:spPr>
          <a:xfrm>
            <a:off x="1187280" y="6308640"/>
            <a:ext cx="1440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900000" y="5575320"/>
            <a:ext cx="2016360" cy="431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190800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190800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>
            <a:off x="1908000" y="36450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1908000" y="4437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9"/>
          <p:cNvSpPr/>
          <p:nvPr/>
        </p:nvSpPr>
        <p:spPr>
          <a:xfrm>
            <a:off x="2987640" y="3919680"/>
            <a:ext cx="1584360" cy="5029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lt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0"/>
          <p:cNvSpPr/>
          <p:nvPr/>
        </p:nvSpPr>
        <p:spPr>
          <a:xfrm>
            <a:off x="2714760" y="41781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1"/>
          <p:cNvSpPr/>
          <p:nvPr/>
        </p:nvSpPr>
        <p:spPr>
          <a:xfrm>
            <a:off x="3780000" y="4437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2"/>
          <p:cNvSpPr/>
          <p:nvPr/>
        </p:nvSpPr>
        <p:spPr>
          <a:xfrm>
            <a:off x="1908000" y="50864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3"/>
          <p:cNvSpPr/>
          <p:nvPr/>
        </p:nvSpPr>
        <p:spPr>
          <a:xfrm>
            <a:off x="3780000" y="50864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4"/>
          <p:cNvSpPr/>
          <p:nvPr/>
        </p:nvSpPr>
        <p:spPr>
          <a:xfrm flipH="1">
            <a:off x="755280" y="530208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5"/>
          <p:cNvSpPr/>
          <p:nvPr/>
        </p:nvSpPr>
        <p:spPr>
          <a:xfrm flipV="1">
            <a:off x="755640" y="2997360"/>
            <a:ext cx="0" cy="23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7"/>
          <p:cNvSpPr/>
          <p:nvPr/>
        </p:nvSpPr>
        <p:spPr>
          <a:xfrm>
            <a:off x="755640" y="299736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0"/>
          <p:cNvSpPr/>
          <p:nvPr/>
        </p:nvSpPr>
        <p:spPr>
          <a:xfrm>
            <a:off x="4716360" y="3386160"/>
            <a:ext cx="0" cy="23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31"/>
          <p:cNvSpPr/>
          <p:nvPr/>
        </p:nvSpPr>
        <p:spPr>
          <a:xfrm flipH="1">
            <a:off x="2771640" y="5734080"/>
            <a:ext cx="194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2"/>
          <p:cNvSpPr/>
          <p:nvPr/>
        </p:nvSpPr>
        <p:spPr>
          <a:xfrm>
            <a:off x="1908000" y="602136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2700360" y="3386160"/>
            <a:ext cx="2023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13287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3273120" y="43228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6"/>
          <p:cNvSpPr/>
          <p:nvPr/>
        </p:nvSpPr>
        <p:spPr>
          <a:xfrm>
            <a:off x="1400040" y="4336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7"/>
          <p:cNvSpPr/>
          <p:nvPr/>
        </p:nvSpPr>
        <p:spPr>
          <a:xfrm>
            <a:off x="2603880" y="2997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8"/>
          <p:cNvSpPr/>
          <p:nvPr/>
        </p:nvSpPr>
        <p:spPr>
          <a:xfrm>
            <a:off x="2527560" y="37828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1"/>
          <p:cNvSpPr/>
          <p:nvPr/>
        </p:nvSpPr>
        <p:spPr>
          <a:xfrm>
            <a:off x="5219640" y="1758960"/>
            <a:ext cx="360036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,B,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ut&lt;&lt;“A=“; cin&gt;&gt;A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ut&lt;&lt;“B=“; cin&gt;&gt;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!=B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&gt;B) A-=B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&gt;A) B-=A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ut&lt;&lt;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Д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&lt;&lt;A&lt;&lt;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1800" spc="-1" strike="noStrike">
                <a:solidFill>
                  <a:srgbClr val="a22b06"/>
                </a:solidFill>
                <a:latin typeface="Arial"/>
              </a:rPr>
              <a:t>“pause”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1908000" y="11592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Цикл с последующим (пост-) услов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187280" y="2779560"/>
            <a:ext cx="2808360" cy="863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услов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яется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5"/>
          <p:cNvSpPr/>
          <p:nvPr/>
        </p:nvSpPr>
        <p:spPr>
          <a:xfrm flipH="1">
            <a:off x="2584440" y="1052640"/>
            <a:ext cx="9360" cy="66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6"/>
          <p:cNvSpPr/>
          <p:nvPr/>
        </p:nvSpPr>
        <p:spPr>
          <a:xfrm>
            <a:off x="258444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1316160" y="1714680"/>
            <a:ext cx="25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2597040" y="36622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9"/>
          <p:cNvSpPr/>
          <p:nvPr/>
        </p:nvSpPr>
        <p:spPr>
          <a:xfrm flipH="1">
            <a:off x="857160" y="4094280"/>
            <a:ext cx="17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0"/>
          <p:cNvSpPr/>
          <p:nvPr/>
        </p:nvSpPr>
        <p:spPr>
          <a:xfrm flipV="1">
            <a:off x="857160" y="1430280"/>
            <a:ext cx="0" cy="26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857160" y="1430280"/>
            <a:ext cx="17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95640" y="3213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"/>
          <p:cNvSpPr/>
          <p:nvPr/>
        </p:nvSpPr>
        <p:spPr>
          <a:xfrm>
            <a:off x="4218120" y="3213000"/>
            <a:ext cx="144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4"/>
          <p:cNvSpPr/>
          <p:nvPr/>
        </p:nvSpPr>
        <p:spPr>
          <a:xfrm flipH="1">
            <a:off x="2634840" y="436392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5"/>
          <p:cNvSpPr/>
          <p:nvPr/>
        </p:nvSpPr>
        <p:spPr>
          <a:xfrm>
            <a:off x="2635200" y="4365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2701800" y="36385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3886560" y="28526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8"/>
          <p:cNvSpPr/>
          <p:nvPr/>
        </p:nvSpPr>
        <p:spPr>
          <a:xfrm rot="16200000">
            <a:off x="143280" y="247464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9"/>
          <p:cNvSpPr/>
          <p:nvPr/>
        </p:nvSpPr>
        <p:spPr>
          <a:xfrm rot="5400000">
            <a:off x="3972960" y="35949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0"/>
          <p:cNvSpPr/>
          <p:nvPr/>
        </p:nvSpPr>
        <p:spPr>
          <a:xfrm>
            <a:off x="5487840" y="1305000"/>
            <a:ext cx="333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**   ***  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1"/>
          <p:cNvSpPr/>
          <p:nvPr/>
        </p:nvSpPr>
        <p:spPr>
          <a:xfrm>
            <a:off x="250920" y="5084640"/>
            <a:ext cx="86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Циклы с постусловием используются в алгоритмах и программах в тех случаях, когда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urier New"/>
              </a:rPr>
              <a:t>число повторов заранее не известно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. Повторы выполняются до нарушения «условия». Предусмотренная в теле цикла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urier New"/>
              </a:rPr>
              <a:t>«последовательность действий»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 для цикла с постусловием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urier New"/>
              </a:rPr>
              <a:t>выполнится не менее одного раза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22"/>
          <p:cNvSpPr/>
          <p:nvPr/>
        </p:nvSpPr>
        <p:spPr>
          <a:xfrm>
            <a:off x="6084720" y="2062080"/>
            <a:ext cx="71640" cy="1511280"/>
          </a:xfrm>
          <a:custGeom>
            <a:avLst/>
            <a:gdLst>
              <a:gd name="textAreaLeft" fmla="*/ 45720 w 71640"/>
              <a:gd name="textAreaRight" fmla="*/ 72000 w 71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3"/>
          <p:cNvSpPr/>
          <p:nvPr/>
        </p:nvSpPr>
        <p:spPr>
          <a:xfrm rot="16200000">
            <a:off x="4884480" y="265896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763640" y="44280"/>
            <a:ext cx="56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ер задачи на цикл с постуслов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179280" y="404640"/>
            <a:ext cx="8785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лавиатуры вводится последовательность произвольных чисел, заканчивающаяся нулём. Других нулевых чисел в последовательности нет. Найти сумму и произведение всех членов последова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оме нулевого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4"/>
          <p:cNvSpPr/>
          <p:nvPr/>
        </p:nvSpPr>
        <p:spPr>
          <a:xfrm>
            <a:off x="987480" y="1413000"/>
            <a:ext cx="1439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728640" y="3355920"/>
            <a:ext cx="201600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958680" y="5300640"/>
            <a:ext cx="158436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!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1203480" y="20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1203480" y="270828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0"/>
          <p:cNvSpPr/>
          <p:nvPr/>
        </p:nvSpPr>
        <p:spPr>
          <a:xfrm>
            <a:off x="2844720" y="6121440"/>
            <a:ext cx="1440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1"/>
          <p:cNvSpPr/>
          <p:nvPr/>
        </p:nvSpPr>
        <p:spPr>
          <a:xfrm>
            <a:off x="728640" y="6107040"/>
            <a:ext cx="201600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2"/>
          <p:cNvSpPr/>
          <p:nvPr/>
        </p:nvSpPr>
        <p:spPr>
          <a:xfrm>
            <a:off x="1708200" y="1773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2557440" y="6307200"/>
            <a:ext cx="2872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9"/>
          <p:cNvSpPr/>
          <p:nvPr/>
        </p:nvSpPr>
        <p:spPr>
          <a:xfrm>
            <a:off x="556920" y="51498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1"/>
          <p:cNvSpPr/>
          <p:nvPr/>
        </p:nvSpPr>
        <p:spPr>
          <a:xfrm>
            <a:off x="1837080" y="57340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3"/>
          <p:cNvSpPr/>
          <p:nvPr/>
        </p:nvSpPr>
        <p:spPr>
          <a:xfrm>
            <a:off x="4610160" y="1413000"/>
            <a:ext cx="42829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,p,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cin&gt;&gt;a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!=0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s+=a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p*=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}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!=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ut&lt;&lt;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&lt;&lt;s&lt;&lt;end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ut&lt;&lt;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е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&lt;&lt;p&lt;&lt;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1800" spc="-1" strike="noStrike">
                <a:solidFill>
                  <a:srgbClr val="a22b06"/>
                </a:solidFill>
                <a:latin typeface="Arial"/>
              </a:rPr>
              <a:t>“pau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1722600" y="24210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1736640" y="3068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6"/>
          <p:cNvSpPr/>
          <p:nvPr/>
        </p:nvSpPr>
        <p:spPr>
          <a:xfrm>
            <a:off x="958680" y="4076640"/>
            <a:ext cx="158436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!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7"/>
          <p:cNvSpPr/>
          <p:nvPr/>
        </p:nvSpPr>
        <p:spPr>
          <a:xfrm>
            <a:off x="1751040" y="37879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2844720" y="413388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s+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1"/>
          <p:cNvSpPr/>
          <p:nvPr/>
        </p:nvSpPr>
        <p:spPr>
          <a:xfrm>
            <a:off x="2859120" y="479592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p*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2"/>
          <p:cNvSpPr/>
          <p:nvPr/>
        </p:nvSpPr>
        <p:spPr>
          <a:xfrm>
            <a:off x="2543040" y="4319640"/>
            <a:ext cx="287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3"/>
          <p:cNvSpPr/>
          <p:nvPr/>
        </p:nvSpPr>
        <p:spPr>
          <a:xfrm>
            <a:off x="3363840" y="4508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4"/>
          <p:cNvSpPr/>
          <p:nvPr/>
        </p:nvSpPr>
        <p:spPr>
          <a:xfrm>
            <a:off x="1751040" y="457992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5"/>
          <p:cNvSpPr/>
          <p:nvPr/>
        </p:nvSpPr>
        <p:spPr>
          <a:xfrm flipH="1" flipV="1">
            <a:off x="480600" y="5543640"/>
            <a:ext cx="477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8"/>
          <p:cNvSpPr/>
          <p:nvPr/>
        </p:nvSpPr>
        <p:spPr>
          <a:xfrm flipV="1">
            <a:off x="484200" y="3225960"/>
            <a:ext cx="0" cy="23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9"/>
          <p:cNvSpPr/>
          <p:nvPr/>
        </p:nvSpPr>
        <p:spPr>
          <a:xfrm>
            <a:off x="498600" y="322596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0"/>
          <p:cNvSpPr/>
          <p:nvPr/>
        </p:nvSpPr>
        <p:spPr>
          <a:xfrm>
            <a:off x="2357280" y="3860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1"/>
          <p:cNvSpPr/>
          <p:nvPr/>
        </p:nvSpPr>
        <p:spPr>
          <a:xfrm flipH="1">
            <a:off x="1765440" y="501156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2"/>
          <p:cNvSpPr/>
          <p:nvPr/>
        </p:nvSpPr>
        <p:spPr>
          <a:xfrm>
            <a:off x="1060560" y="45799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53"/>
          <p:cNvSpPr/>
          <p:nvPr/>
        </p:nvSpPr>
        <p:spPr>
          <a:xfrm>
            <a:off x="1751040" y="58183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771640" y="1159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Цикл с пара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"/>
          <p:cNvSpPr/>
          <p:nvPr/>
        </p:nvSpPr>
        <p:spPr>
          <a:xfrm>
            <a:off x="1692360" y="1917720"/>
            <a:ext cx="15127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&lt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"/>
          <p:cNvSpPr/>
          <p:nvPr/>
        </p:nvSpPr>
        <p:spPr>
          <a:xfrm>
            <a:off x="2455920" y="765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1173240" y="2852640"/>
            <a:ext cx="25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2476440" y="458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1909440" y="24210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7"/>
          <p:cNvSpPr/>
          <p:nvPr/>
        </p:nvSpPr>
        <p:spPr>
          <a:xfrm rot="16200000">
            <a:off x="281520" y="266364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8"/>
          <p:cNvSpPr/>
          <p:nvPr/>
        </p:nvSpPr>
        <p:spPr>
          <a:xfrm rot="5400000">
            <a:off x="3750840" y="30916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5081760" y="1305000"/>
            <a:ext cx="333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=a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&lt;b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+k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**   ***  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&gt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0"/>
          <p:cNvSpPr/>
          <p:nvPr/>
        </p:nvSpPr>
        <p:spPr>
          <a:xfrm>
            <a:off x="250920" y="5084640"/>
            <a:ext cx="86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Циклы с параметром используются в алгоритмах и программах в тех случаях, когда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urier New"/>
              </a:rPr>
              <a:t>число точно известно заранее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. Повторы выполнятся точно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b-a 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раз. Предусмотренная в теле цикла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urier New"/>
              </a:rPr>
              <a:t>«последовательность действий»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 для цикла с параметром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urier New"/>
              </a:rPr>
              <a:t>может не выполнится ни одного раза</a:t>
            </a:r>
            <a:r>
              <a:rPr b="0" lang="ru-RU" sz="1800" spc="-1" strike="noStrike">
                <a:solidFill>
                  <a:srgbClr val="cc33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21"/>
          <p:cNvSpPr/>
          <p:nvPr/>
        </p:nvSpPr>
        <p:spPr>
          <a:xfrm>
            <a:off x="5678640" y="2062080"/>
            <a:ext cx="71280" cy="151128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2"/>
          <p:cNvSpPr/>
          <p:nvPr/>
        </p:nvSpPr>
        <p:spPr>
          <a:xfrm rot="16200000">
            <a:off x="4478040" y="265896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3"/>
          <p:cNvSpPr/>
          <p:nvPr/>
        </p:nvSpPr>
        <p:spPr>
          <a:xfrm>
            <a:off x="1909800" y="1125360"/>
            <a:ext cx="1081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4"/>
          <p:cNvSpPr/>
          <p:nvPr/>
        </p:nvSpPr>
        <p:spPr>
          <a:xfrm>
            <a:off x="1922400" y="3933720"/>
            <a:ext cx="1081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5"/>
          <p:cNvSpPr/>
          <p:nvPr/>
        </p:nvSpPr>
        <p:spPr>
          <a:xfrm>
            <a:off x="2443320" y="15717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6"/>
          <p:cNvSpPr/>
          <p:nvPr/>
        </p:nvSpPr>
        <p:spPr>
          <a:xfrm>
            <a:off x="2441520" y="24922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7"/>
          <p:cNvSpPr/>
          <p:nvPr/>
        </p:nvSpPr>
        <p:spPr>
          <a:xfrm>
            <a:off x="2470320" y="35733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8"/>
          <p:cNvSpPr/>
          <p:nvPr/>
        </p:nvSpPr>
        <p:spPr>
          <a:xfrm flipH="1">
            <a:off x="971280" y="407664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9"/>
          <p:cNvSpPr/>
          <p:nvPr/>
        </p:nvSpPr>
        <p:spPr>
          <a:xfrm flipV="1">
            <a:off x="971640" y="1773360"/>
            <a:ext cx="0" cy="23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2"/>
          <p:cNvSpPr/>
          <p:nvPr/>
        </p:nvSpPr>
        <p:spPr>
          <a:xfrm>
            <a:off x="971640" y="177336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3"/>
          <p:cNvSpPr/>
          <p:nvPr/>
        </p:nvSpPr>
        <p:spPr>
          <a:xfrm>
            <a:off x="3197160" y="220500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4"/>
          <p:cNvSpPr/>
          <p:nvPr/>
        </p:nvSpPr>
        <p:spPr>
          <a:xfrm>
            <a:off x="3917880" y="2205000"/>
            <a:ext cx="0" cy="23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6"/>
          <p:cNvSpPr/>
          <p:nvPr/>
        </p:nvSpPr>
        <p:spPr>
          <a:xfrm flipH="1">
            <a:off x="2476440" y="458136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232440" y="1838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763640" y="44280"/>
            <a:ext cx="56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ер задачи на цикл с пара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324000" y="5000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13   Напечатать таблицу умножения на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5"/>
          <p:cNvSpPr/>
          <p:nvPr/>
        </p:nvSpPr>
        <p:spPr>
          <a:xfrm>
            <a:off x="4284720" y="1557360"/>
            <a:ext cx="42829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=1; k&lt;=7; k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cout&lt;&lt;k&lt;&lt;“*7 = “&lt;&lt;k*7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2000" spc="-1" strike="noStrike">
                <a:solidFill>
                  <a:srgbClr val="a22b06"/>
                </a:solidFill>
                <a:latin typeface="Arial"/>
              </a:rPr>
              <a:t>“paus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2"/>
          <p:cNvSpPr/>
          <p:nvPr/>
        </p:nvSpPr>
        <p:spPr>
          <a:xfrm>
            <a:off x="1332000" y="2637000"/>
            <a:ext cx="1512720" cy="576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33"/>
          <p:cNvSpPr/>
          <p:nvPr/>
        </p:nvSpPr>
        <p:spPr>
          <a:xfrm>
            <a:off x="2095560" y="14842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5"/>
          <p:cNvSpPr/>
          <p:nvPr/>
        </p:nvSpPr>
        <p:spPr>
          <a:xfrm>
            <a:off x="2116080" y="5300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6"/>
          <p:cNvSpPr/>
          <p:nvPr/>
        </p:nvSpPr>
        <p:spPr>
          <a:xfrm>
            <a:off x="1549080" y="3139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9"/>
          <p:cNvSpPr/>
          <p:nvPr/>
        </p:nvSpPr>
        <p:spPr>
          <a:xfrm>
            <a:off x="1549440" y="1844640"/>
            <a:ext cx="1081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0"/>
          <p:cNvSpPr/>
          <p:nvPr/>
        </p:nvSpPr>
        <p:spPr>
          <a:xfrm>
            <a:off x="1562040" y="4653000"/>
            <a:ext cx="1081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1"/>
          <p:cNvSpPr/>
          <p:nvPr/>
        </p:nvSpPr>
        <p:spPr>
          <a:xfrm>
            <a:off x="2082960" y="22906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2"/>
          <p:cNvSpPr/>
          <p:nvPr/>
        </p:nvSpPr>
        <p:spPr>
          <a:xfrm>
            <a:off x="2081160" y="32115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43"/>
          <p:cNvSpPr/>
          <p:nvPr/>
        </p:nvSpPr>
        <p:spPr>
          <a:xfrm>
            <a:off x="2109960" y="4292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44"/>
          <p:cNvSpPr/>
          <p:nvPr/>
        </p:nvSpPr>
        <p:spPr>
          <a:xfrm flipH="1">
            <a:off x="610920" y="479592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5"/>
          <p:cNvSpPr/>
          <p:nvPr/>
        </p:nvSpPr>
        <p:spPr>
          <a:xfrm flipV="1">
            <a:off x="611280" y="2491920"/>
            <a:ext cx="0" cy="230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46"/>
          <p:cNvSpPr/>
          <p:nvPr/>
        </p:nvSpPr>
        <p:spPr>
          <a:xfrm>
            <a:off x="611280" y="249228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47"/>
          <p:cNvSpPr/>
          <p:nvPr/>
        </p:nvSpPr>
        <p:spPr>
          <a:xfrm>
            <a:off x="2836800" y="2924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48"/>
          <p:cNvSpPr/>
          <p:nvPr/>
        </p:nvSpPr>
        <p:spPr>
          <a:xfrm>
            <a:off x="3557520" y="2924280"/>
            <a:ext cx="0" cy="23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49"/>
          <p:cNvSpPr/>
          <p:nvPr/>
        </p:nvSpPr>
        <p:spPr>
          <a:xfrm flipH="1">
            <a:off x="2116080" y="530064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0"/>
          <p:cNvSpPr/>
          <p:nvPr/>
        </p:nvSpPr>
        <p:spPr>
          <a:xfrm>
            <a:off x="2872080" y="25574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1"/>
          <p:cNvSpPr/>
          <p:nvPr/>
        </p:nvSpPr>
        <p:spPr>
          <a:xfrm>
            <a:off x="885960" y="3573360"/>
            <a:ext cx="2376360" cy="71928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,”*7=”,k*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52"/>
          <p:cNvSpPr/>
          <p:nvPr/>
        </p:nvSpPr>
        <p:spPr>
          <a:xfrm>
            <a:off x="1374840" y="1123920"/>
            <a:ext cx="1439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53"/>
          <p:cNvSpPr/>
          <p:nvPr/>
        </p:nvSpPr>
        <p:spPr>
          <a:xfrm>
            <a:off x="1389240" y="5734080"/>
            <a:ext cx="1439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1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252360" y="2952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Задачи для самостоятельного ре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466560" y="1085760"/>
            <a:ext cx="828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М.Златопольский. Сборник задач по программ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 закрепл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3, 6.4, 6.10, 6.21 – на цикл с предуслов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23(а), 6.91(а, б, в) – на цикл с постуслов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5, 5.27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, 5.29, 5.81, 5.85 – на цикл с параме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4"/>
          <p:cNvSpPr/>
          <p:nvPr/>
        </p:nvSpPr>
        <p:spPr>
          <a:xfrm>
            <a:off x="971640" y="11592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овторы в алгоритмах. Операторы циклов.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оставление алгоритмов и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755640" y="1630440"/>
            <a:ext cx="77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.М.Златопольский. Сборник задач по программ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 закрепл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5.17, 5.52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5.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цикл с параме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.22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6(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б), 6.66, 6.71, 6.83, 6.94, 6.9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цикл с услов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4"/>
          <p:cNvSpPr/>
          <p:nvPr/>
        </p:nvSpPr>
        <p:spPr>
          <a:xfrm>
            <a:off x="395280" y="266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9 Напечатать таблицу перевода расстояний в дюймах в сантиметры для значений от a=10 до b=22 дюйма (1 дюйм=25,4 м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5"/>
          <p:cNvSpPr/>
          <p:nvPr/>
        </p:nvSpPr>
        <p:spPr>
          <a:xfrm>
            <a:off x="1108080" y="1398600"/>
            <a:ext cx="1440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585720" y="4135320"/>
            <a:ext cx="248760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.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1324080" y="20462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1320840" y="269388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1116000" y="5661000"/>
            <a:ext cx="1440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2"/>
          <p:cNvSpPr/>
          <p:nvPr/>
        </p:nvSpPr>
        <p:spPr>
          <a:xfrm>
            <a:off x="1828800" y="17589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6"/>
          <p:cNvSpPr/>
          <p:nvPr/>
        </p:nvSpPr>
        <p:spPr>
          <a:xfrm>
            <a:off x="1843200" y="24066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7"/>
          <p:cNvSpPr/>
          <p:nvPr/>
        </p:nvSpPr>
        <p:spPr>
          <a:xfrm>
            <a:off x="1857240" y="30542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18"/>
          <p:cNvSpPr/>
          <p:nvPr/>
        </p:nvSpPr>
        <p:spPr>
          <a:xfrm>
            <a:off x="1047600" y="3343320"/>
            <a:ext cx="158436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lt;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9"/>
          <p:cNvSpPr/>
          <p:nvPr/>
        </p:nvSpPr>
        <p:spPr>
          <a:xfrm>
            <a:off x="1839960" y="38466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0"/>
          <p:cNvSpPr/>
          <p:nvPr/>
        </p:nvSpPr>
        <p:spPr>
          <a:xfrm>
            <a:off x="1320840" y="485460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a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3"/>
          <p:cNvSpPr/>
          <p:nvPr/>
        </p:nvSpPr>
        <p:spPr>
          <a:xfrm>
            <a:off x="1854360" y="4567320"/>
            <a:ext cx="0" cy="30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8"/>
          <p:cNvSpPr/>
          <p:nvPr/>
        </p:nvSpPr>
        <p:spPr>
          <a:xfrm>
            <a:off x="1274760" y="37749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0"/>
          <p:cNvSpPr/>
          <p:nvPr/>
        </p:nvSpPr>
        <p:spPr>
          <a:xfrm>
            <a:off x="2571840" y="32702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3"/>
          <p:cNvSpPr/>
          <p:nvPr/>
        </p:nvSpPr>
        <p:spPr>
          <a:xfrm flipV="1">
            <a:off x="395280" y="319896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5"/>
          <p:cNvSpPr/>
          <p:nvPr/>
        </p:nvSpPr>
        <p:spPr>
          <a:xfrm>
            <a:off x="395280" y="499896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36"/>
          <p:cNvSpPr/>
          <p:nvPr/>
        </p:nvSpPr>
        <p:spPr>
          <a:xfrm>
            <a:off x="409680" y="31989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37"/>
          <p:cNvSpPr/>
          <p:nvPr/>
        </p:nvSpPr>
        <p:spPr>
          <a:xfrm>
            <a:off x="2627280" y="358776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8"/>
          <p:cNvSpPr/>
          <p:nvPr/>
        </p:nvSpPr>
        <p:spPr>
          <a:xfrm>
            <a:off x="3348000" y="3587760"/>
            <a:ext cx="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0"/>
          <p:cNvSpPr/>
          <p:nvPr/>
        </p:nvSpPr>
        <p:spPr>
          <a:xfrm flipH="1">
            <a:off x="1848960" y="5388120"/>
            <a:ext cx="149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41"/>
          <p:cNvSpPr/>
          <p:nvPr/>
        </p:nvSpPr>
        <p:spPr>
          <a:xfrm>
            <a:off x="1849320" y="53881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2"/>
          <p:cNvSpPr/>
          <p:nvPr/>
        </p:nvSpPr>
        <p:spPr>
          <a:xfrm>
            <a:off x="3851280" y="1125360"/>
            <a:ext cx="504036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 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st 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h=2.5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, b=2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&lt;&lt;“inch\t\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&lt;&lt;end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ut&lt;&lt;“================“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=10; a&lt;=b; a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cout&lt;&lt;a&lt;&lt;“\t\t“&lt;&lt;a\inch&lt;&lt;end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ut&lt;&lt;“================“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2000" spc="-1" strike="noStrike">
                <a:solidFill>
                  <a:srgbClr val="a22b06"/>
                </a:solidFill>
                <a:latin typeface="Arial"/>
              </a:rPr>
              <a:t>“paus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8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4"/>
          <p:cNvSpPr/>
          <p:nvPr/>
        </p:nvSpPr>
        <p:spPr>
          <a:xfrm>
            <a:off x="395280" y="115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57 Известны результаты двух спортсменов-пятиборцев в каждом из пяти видов спорта в баллах. Определить сумму баллов полученных каждым спортсме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1755720" y="1197000"/>
            <a:ext cx="1440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"/>
          <p:cNvSpPr/>
          <p:nvPr/>
        </p:nvSpPr>
        <p:spPr>
          <a:xfrm>
            <a:off x="1233360" y="4613400"/>
            <a:ext cx="2487600" cy="431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, 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1971720" y="1844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"/>
          <p:cNvSpPr/>
          <p:nvPr/>
        </p:nvSpPr>
        <p:spPr>
          <a:xfrm>
            <a:off x="1968480" y="249228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1763640" y="6310440"/>
            <a:ext cx="1440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0"/>
          <p:cNvSpPr/>
          <p:nvPr/>
        </p:nvSpPr>
        <p:spPr>
          <a:xfrm>
            <a:off x="2476440" y="1557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1"/>
          <p:cNvSpPr/>
          <p:nvPr/>
        </p:nvSpPr>
        <p:spPr>
          <a:xfrm>
            <a:off x="249084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2505240" y="35323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13"/>
          <p:cNvSpPr/>
          <p:nvPr/>
        </p:nvSpPr>
        <p:spPr>
          <a:xfrm>
            <a:off x="1695600" y="3821040"/>
            <a:ext cx="158400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&lt;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>
            <a:off x="2487600" y="432432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5"/>
          <p:cNvSpPr/>
          <p:nvPr/>
        </p:nvSpPr>
        <p:spPr>
          <a:xfrm>
            <a:off x="179280" y="5157720"/>
            <a:ext cx="11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=s1+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2482920" y="50418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7"/>
          <p:cNvSpPr/>
          <p:nvPr/>
        </p:nvSpPr>
        <p:spPr>
          <a:xfrm>
            <a:off x="1922400" y="42530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8"/>
          <p:cNvSpPr/>
          <p:nvPr/>
        </p:nvSpPr>
        <p:spPr>
          <a:xfrm>
            <a:off x="3219840" y="37479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1"/>
          <p:cNvSpPr/>
          <p:nvPr/>
        </p:nvSpPr>
        <p:spPr>
          <a:xfrm>
            <a:off x="1332000" y="367668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3274920" y="40654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3"/>
          <p:cNvSpPr/>
          <p:nvPr/>
        </p:nvSpPr>
        <p:spPr>
          <a:xfrm>
            <a:off x="3851280" y="4065480"/>
            <a:ext cx="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6"/>
          <p:cNvSpPr/>
          <p:nvPr/>
        </p:nvSpPr>
        <p:spPr>
          <a:xfrm>
            <a:off x="2482920" y="28670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7"/>
          <p:cNvSpPr/>
          <p:nvPr/>
        </p:nvSpPr>
        <p:spPr>
          <a:xfrm>
            <a:off x="1979640" y="315612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8"/>
          <p:cNvSpPr/>
          <p:nvPr/>
        </p:nvSpPr>
        <p:spPr>
          <a:xfrm>
            <a:off x="179280" y="4322880"/>
            <a:ext cx="11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=s2+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9"/>
          <p:cNvSpPr/>
          <p:nvPr/>
        </p:nvSpPr>
        <p:spPr>
          <a:xfrm>
            <a:off x="179280" y="3502080"/>
            <a:ext cx="11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30"/>
          <p:cNvSpPr/>
          <p:nvPr/>
        </p:nvSpPr>
        <p:spPr>
          <a:xfrm flipH="1">
            <a:off x="1331640" y="534528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1"/>
          <p:cNvSpPr/>
          <p:nvPr/>
        </p:nvSpPr>
        <p:spPr>
          <a:xfrm flipV="1">
            <a:off x="755640" y="465300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32"/>
          <p:cNvSpPr/>
          <p:nvPr/>
        </p:nvSpPr>
        <p:spPr>
          <a:xfrm flipV="1">
            <a:off x="755640" y="386208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3"/>
          <p:cNvSpPr/>
          <p:nvPr/>
        </p:nvSpPr>
        <p:spPr>
          <a:xfrm>
            <a:off x="3995640" y="836640"/>
            <a:ext cx="507708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1=0, s2=0, n1, n2,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=1; k&lt;=5; k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cout&lt;&lt;“1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 сп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&lt;&lt;k&lt;&lt;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.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&lt;&lt;endl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&gt;&gt;n1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&lt;&lt;“2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 сп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&lt;&lt;k&lt;&lt;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.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&lt;&lt;endl;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cin&gt;&gt;n2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1+=n1;  s2+=n2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ut&lt;&lt;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.1-г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&lt;&lt;n1&lt;&lt;“, 2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&lt;&lt;n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2000" spc="-1" strike="noStrike">
                <a:solidFill>
                  <a:srgbClr val="a22b06"/>
                </a:solidFill>
                <a:latin typeface="Arial"/>
              </a:rPr>
              <a:t>“paus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34"/>
          <p:cNvSpPr/>
          <p:nvPr/>
        </p:nvSpPr>
        <p:spPr>
          <a:xfrm>
            <a:off x="1219320" y="5591160"/>
            <a:ext cx="2487600" cy="431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,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2482920" y="602136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>
            <a:off x="3348000" y="58784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290520" y="254160"/>
            <a:ext cx="8458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здать в рабочем каталоге подкаталог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“hell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абрать «с нуля» (без генерации по шаблону), отладить, откомпилировать и запустить следующую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hello"/>
          <p:cNvPicPr/>
          <p:nvPr/>
        </p:nvPicPr>
        <p:blipFill>
          <a:blip r:embed="rId1"/>
          <a:stretch/>
        </p:blipFill>
        <p:spPr>
          <a:xfrm>
            <a:off x="1690560" y="1341360"/>
            <a:ext cx="5977080" cy="4602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395280" y="623736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3.  Удалить результаты компиляции и вернуться в вышестоящий ката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4"/>
          <p:cNvSpPr/>
          <p:nvPr/>
        </p:nvSpPr>
        <p:spPr>
          <a:xfrm>
            <a:off x="539640" y="12384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26 Дано натуральное число. Определить его максимальную циф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5"/>
          <p:cNvSpPr/>
          <p:nvPr/>
        </p:nvSpPr>
        <p:spPr>
          <a:xfrm>
            <a:off x="1827360" y="692280"/>
            <a:ext cx="1439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6"/>
          <p:cNvSpPr/>
          <p:nvPr/>
        </p:nvSpPr>
        <p:spPr>
          <a:xfrm>
            <a:off x="1868400" y="6093000"/>
            <a:ext cx="2487600" cy="431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2050920" y="2708280"/>
            <a:ext cx="100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=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8"/>
          <p:cNvSpPr/>
          <p:nvPr/>
        </p:nvSpPr>
        <p:spPr>
          <a:xfrm>
            <a:off x="2050920" y="4005360"/>
            <a:ext cx="100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9"/>
          <p:cNvSpPr/>
          <p:nvPr/>
        </p:nvSpPr>
        <p:spPr>
          <a:xfrm>
            <a:off x="324000" y="6164280"/>
            <a:ext cx="1439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0"/>
          <p:cNvSpPr/>
          <p:nvPr/>
        </p:nvSpPr>
        <p:spPr>
          <a:xfrm flipH="1">
            <a:off x="1476360" y="48974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1"/>
          <p:cNvSpPr/>
          <p:nvPr/>
        </p:nvSpPr>
        <p:spPr>
          <a:xfrm>
            <a:off x="2556000" y="1052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2"/>
          <p:cNvSpPr/>
          <p:nvPr/>
        </p:nvSpPr>
        <p:spPr>
          <a:xfrm flipH="1">
            <a:off x="323640" y="5689440"/>
            <a:ext cx="1438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3"/>
          <p:cNvSpPr/>
          <p:nvPr/>
        </p:nvSpPr>
        <p:spPr>
          <a:xfrm>
            <a:off x="1763640" y="4653000"/>
            <a:ext cx="158436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&gt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4"/>
          <p:cNvSpPr/>
          <p:nvPr/>
        </p:nvSpPr>
        <p:spPr>
          <a:xfrm>
            <a:off x="971640" y="5084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9"/>
          <p:cNvSpPr/>
          <p:nvPr/>
        </p:nvSpPr>
        <p:spPr>
          <a:xfrm>
            <a:off x="324000" y="314172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1"/>
          <p:cNvSpPr/>
          <p:nvPr/>
        </p:nvSpPr>
        <p:spPr>
          <a:xfrm>
            <a:off x="324000" y="3141720"/>
            <a:ext cx="0" cy="25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2"/>
          <p:cNvSpPr/>
          <p:nvPr/>
        </p:nvSpPr>
        <p:spPr>
          <a:xfrm>
            <a:off x="2556000" y="51562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3"/>
          <p:cNvSpPr/>
          <p:nvPr/>
        </p:nvSpPr>
        <p:spPr>
          <a:xfrm>
            <a:off x="2022480" y="2060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n%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6"/>
          <p:cNvSpPr/>
          <p:nvPr/>
        </p:nvSpPr>
        <p:spPr>
          <a:xfrm flipH="1">
            <a:off x="1763640" y="6353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7"/>
          <p:cNvSpPr/>
          <p:nvPr/>
        </p:nvSpPr>
        <p:spPr>
          <a:xfrm flipV="1">
            <a:off x="971640" y="5300640"/>
            <a:ext cx="15843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0"/>
          <p:cNvSpPr/>
          <p:nvPr/>
        </p:nvSpPr>
        <p:spPr>
          <a:xfrm>
            <a:off x="3564000" y="5689440"/>
            <a:ext cx="0" cy="4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1"/>
          <p:cNvSpPr/>
          <p:nvPr/>
        </p:nvSpPr>
        <p:spPr>
          <a:xfrm flipH="1">
            <a:off x="3346560" y="5703840"/>
            <a:ext cx="21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2"/>
          <p:cNvSpPr/>
          <p:nvPr/>
        </p:nvSpPr>
        <p:spPr>
          <a:xfrm>
            <a:off x="1547640" y="1339920"/>
            <a:ext cx="1944720" cy="431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3"/>
          <p:cNvSpPr/>
          <p:nvPr/>
        </p:nvSpPr>
        <p:spPr>
          <a:xfrm>
            <a:off x="1763640" y="5445000"/>
            <a:ext cx="158436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2050920" y="3355920"/>
            <a:ext cx="100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n%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5"/>
          <p:cNvSpPr/>
          <p:nvPr/>
        </p:nvSpPr>
        <p:spPr>
          <a:xfrm>
            <a:off x="466560" y="4724280"/>
            <a:ext cx="100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=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6"/>
          <p:cNvSpPr/>
          <p:nvPr/>
        </p:nvSpPr>
        <p:spPr>
          <a:xfrm>
            <a:off x="2556000" y="177336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7"/>
          <p:cNvSpPr/>
          <p:nvPr/>
        </p:nvSpPr>
        <p:spPr>
          <a:xfrm>
            <a:off x="2556000" y="24210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8"/>
          <p:cNvSpPr/>
          <p:nvPr/>
        </p:nvSpPr>
        <p:spPr>
          <a:xfrm>
            <a:off x="2556000" y="3068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9"/>
          <p:cNvSpPr/>
          <p:nvPr/>
        </p:nvSpPr>
        <p:spPr>
          <a:xfrm>
            <a:off x="2556000" y="371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0"/>
          <p:cNvSpPr/>
          <p:nvPr/>
        </p:nvSpPr>
        <p:spPr>
          <a:xfrm>
            <a:off x="2556000" y="43657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1"/>
          <p:cNvSpPr/>
          <p:nvPr/>
        </p:nvSpPr>
        <p:spPr>
          <a:xfrm>
            <a:off x="1476360" y="4502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2629080" y="50846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43"/>
          <p:cNvSpPr/>
          <p:nvPr/>
        </p:nvSpPr>
        <p:spPr>
          <a:xfrm>
            <a:off x="1404720" y="5300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4"/>
          <p:cNvSpPr/>
          <p:nvPr/>
        </p:nvSpPr>
        <p:spPr>
          <a:xfrm>
            <a:off x="3205440" y="53006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6"/>
          <p:cNvSpPr/>
          <p:nvPr/>
        </p:nvSpPr>
        <p:spPr>
          <a:xfrm>
            <a:off x="4645080" y="549360"/>
            <a:ext cx="431964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, k, 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ut&lt;&lt;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ите нат. Числ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in&gt;&gt;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k=n%10; m=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k=n%10; n/=1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&gt;m) m=k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}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&gt;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&lt;&lt;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.цифра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&lt;&lt;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2000" spc="-1" strike="noStrike">
                <a:solidFill>
                  <a:srgbClr val="a22b06"/>
                </a:solidFill>
                <a:latin typeface="Arial"/>
              </a:rPr>
              <a:t>“paus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5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8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nodeType="clickEffect" fill="hold">
                      <p:stCondLst>
                        <p:cond delay="indefinite"/>
                      </p:stCondLst>
                      <p:childTnLst>
                        <p:par>
                          <p:cTn id="2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5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4"/>
          <p:cNvSpPr/>
          <p:nvPr/>
        </p:nvSpPr>
        <p:spPr>
          <a:xfrm>
            <a:off x="971640" y="15732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сновные типы данных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826920" y="733320"/>
          <a:ext cx="7632720" cy="4700520"/>
        </p:xfrm>
        <a:graphic>
          <a:graphicData uri="http://schemas.openxmlformats.org/drawingml/2006/table">
            <a:tbl>
              <a:tblPr/>
              <a:tblGrid>
                <a:gridCol w="1603440"/>
                <a:gridCol w="2254320"/>
                <a:gridCol w="757440"/>
                <a:gridCol w="757080"/>
                <a:gridCol w="2260440"/>
              </a:tblGrid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мер, б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ер, бай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мальный диапаз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мвол (со знако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8 … 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signed ch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знаковый симв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… 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ed ch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 же, что и ch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8 … 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e, 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л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2768 … 32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signed 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знаковое цел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… 65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ed 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лое со знак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2768 … 32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 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откое цел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2768 … 32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signed short 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знаковое короткое цел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… 65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ed short 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откое целое со знак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2768 … 32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 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инное цел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147483648 … 2147483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signed long 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знаковое длинное цел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… 4294967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ed long 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инное целое со знак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147483648 … 2147483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бное с плавающей точ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значащих циф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бное с плавающей точкой двойной точ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значащих циф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 lou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инное дробное с плавающей точкой двойной точ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значащих циф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Text Box 1126"/>
          <p:cNvSpPr/>
          <p:nvPr/>
        </p:nvSpPr>
        <p:spPr>
          <a:xfrm>
            <a:off x="682560" y="5721480"/>
            <a:ext cx="81374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ч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старым стандартам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ешается в «двойных» и «тройных» описания целых типов опускать сло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int”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ed, short, long, unsigned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4"/>
          <p:cNvSpPr/>
          <p:nvPr/>
        </p:nvSpPr>
        <p:spPr>
          <a:xfrm>
            <a:off x="971640" y="11592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Указатели на переменные, адреса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755640" y="765000"/>
          <a:ext cx="7777080" cy="5780160"/>
        </p:xfrm>
        <a:graphic>
          <a:graphicData uri="http://schemas.openxmlformats.org/drawingml/2006/table">
            <a:tbl>
              <a:tblPr/>
              <a:tblGrid>
                <a:gridCol w="2986200"/>
                <a:gridCol w="4790880"/>
              </a:tblGrid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, b, 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лые переменные a, b,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a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x, y, z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бные переменные x,y,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*pi1, *pi2, *pi3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затели на целые (int) переменные pi1, pi2, 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a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*pf1, pf2, pf3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затели на дробные (float) переменные pf1, pf2, pf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1, c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мвольные переменные (char) c1, 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*pc1, *pc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затели на символьные (char) переменные pc1, p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=3; b=5; c=7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, b и c присвоены значения 3, 5 и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1 = &amp;a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зателю pi1 присвоен адрес переменной a с использованием операции взятия адреса: &am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"pi1="&lt;&lt;pi1&lt;&lt;end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ре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еременной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"a="&lt;&lt;*pi1&lt;&lt;end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самой переменной a через операцию разыменования: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1 = &amp;b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зателю pi1 присвоен адрес переменной b с использованием операции взятия адреса: &am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2 = &amp;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зателю pi2 присвоен адрес переменной c с использованием операции взятия адреса: &am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3 = &amp;a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зателю pi3 присвоен адрес переменной a с использованием операции взятия адреса: &am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pi3 = *pi1 + *pi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сваивание: a = b+c, выполненное через разыменованные у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4"/>
          <p:cNvSpPr/>
          <p:nvPr/>
        </p:nvSpPr>
        <p:spPr>
          <a:xfrm>
            <a:off x="250920" y="792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перации, применяемые для работы с указателями и адре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324000" y="620640"/>
          <a:ext cx="8496000" cy="5943600"/>
        </p:xfrm>
        <a:graphic>
          <a:graphicData uri="http://schemas.openxmlformats.org/drawingml/2006/table">
            <a:tbl>
              <a:tblPr/>
              <a:tblGrid>
                <a:gridCol w="2604960"/>
                <a:gridCol w="5891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*i1, *i2, *i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явление трёх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зате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на целые переменные i1, i2, i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1 =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7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амическое создание целой (безимянной) переменной, присваивание её адреса указателю i1 и одновременная инициализация переменной значением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2 =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амическое создание целой (безимянной) переменной, присваивание её адреса указателю i1 и одновременная инициализация переменной значением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3 =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7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амическое создание целой (безимянной) переменной, присваивание её адреса указателю i1 и одновременная инициализация переменной значением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a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*dlina =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floa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амическое создание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зател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dlina на дробную переменную, создание самой дробной (безымянной) неинициализированной переменной и инициализация указателя dlina адресом созданной перем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dlina = 574.2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сваивание переменной, на которую ссылается указатель dlina, значения 574.25 с использованием операции разименования указателя: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1 = i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устимая, но крайне не желательная операция! Т.к. старое значение i1 (указатель на созданную безымянную переменную) теряется и продолжает занимать память (т.н. "мусор"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et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1, i2, i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язательная операция при работе с указателями и адресами - уничтожение динамически созданных переменных, на которые ссылаются указатьели i1, i2, i3, dlin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et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dlin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d1=3.1415, d2=2.718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обные переменные двойной точности, инициализированные жробными десятичными числ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"d1="&lt;&lt;d1&lt;&lt;end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"d2="&lt;&lt;d2&lt;&lt;end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"Размер d1: "&lt;&lt;sizeof(d1)&lt;&lt;end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е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еременной d1 (8 бай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"Размер d2: "&lt;&lt;sizeof(d2)&lt;&lt;end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ер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еременной d2 (8 бай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539640" y="492120"/>
          <a:ext cx="8136000" cy="4541760"/>
        </p:xfrm>
        <a:graphic>
          <a:graphicData uri="http://schemas.openxmlformats.org/drawingml/2006/table">
            <a:tbl>
              <a:tblPr/>
              <a:tblGrid>
                <a:gridCol w="2160720"/>
                <a:gridCol w="5975280"/>
              </a:tblGrid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п1 *имя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явление указателя с именем "имя1" типа "Тип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п1 имя2 = знач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исание переменной "имя2" типа "Тип1", инициализированной значением "значени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мя1 = &amp; имя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сваивание указателю "имя1" адреса переменной "имя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п2 *имя3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явление указателя с именем "имя3" типа "Тип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мя3 = new Тип2(Значение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намическое создание безымянной переменной типа "Тип2" и инициализация её значением "Значени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*имя3&lt;&lt;end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че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еременной, на которую ссылается указатель "имя3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sizeof *имя3&lt;&lt;end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 размера переменной, на которую ссылается указатель "имя3", с помощью операции вычисления размера size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ete имя3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даление динамически созданной переменной, на которую ссылается указатель "имя3" и освобождение памя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sizeof(Тип1)&lt;&lt;end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размера переменных типа "Тип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t&lt;&lt;sizeof(Тип2)&lt;&lt;end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 размера переменных типа "Тип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250920" y="792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Задачи на указатели, адреса и динамически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755640" y="1135080"/>
            <a:ext cx="77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.М.Златопольский. Сборник задач по программ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 закрепл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ы решения задач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7 – 1.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я исключительно указатели, динамические созданные переменные и оператор их удаления. В каждой задаче дополнительно вывести размер используемого указателя и переменной, на которую он указ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4"/>
          <p:cNvSpPr/>
          <p:nvPr/>
        </p:nvSpPr>
        <p:spPr>
          <a:xfrm>
            <a:off x="395280" y="115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7 Считая, что Земля - идеальная сфера с радиусом R = 6350 км, определить расстоя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линии горизонта от точки с заданной высот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д земл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5"/>
          <p:cNvSpPr/>
          <p:nvPr/>
        </p:nvSpPr>
        <p:spPr>
          <a:xfrm>
            <a:off x="755640" y="1557360"/>
            <a:ext cx="2879640" cy="25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6"/>
          <p:cNvSpPr/>
          <p:nvPr/>
        </p:nvSpPr>
        <p:spPr>
          <a:xfrm>
            <a:off x="2195640" y="1125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7"/>
          <p:cNvSpPr/>
          <p:nvPr/>
        </p:nvSpPr>
        <p:spPr>
          <a:xfrm flipH="1">
            <a:off x="394920" y="1125360"/>
            <a:ext cx="1800360" cy="13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 flipV="1">
            <a:off x="2195640" y="155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"/>
          <p:cNvSpPr/>
          <p:nvPr/>
        </p:nvSpPr>
        <p:spPr>
          <a:xfrm flipH="1" flipV="1">
            <a:off x="1260360" y="1846080"/>
            <a:ext cx="935280" cy="93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2197440" y="1982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1"/>
          <p:cNvSpPr/>
          <p:nvPr/>
        </p:nvSpPr>
        <p:spPr>
          <a:xfrm>
            <a:off x="2268360" y="119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2"/>
          <p:cNvSpPr/>
          <p:nvPr/>
        </p:nvSpPr>
        <p:spPr>
          <a:xfrm>
            <a:off x="1403280" y="170172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3"/>
          <p:cNvSpPr/>
          <p:nvPr/>
        </p:nvSpPr>
        <p:spPr>
          <a:xfrm flipH="1">
            <a:off x="1402920" y="18464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4"/>
          <p:cNvSpPr/>
          <p:nvPr/>
        </p:nvSpPr>
        <p:spPr>
          <a:xfrm rot="18668400">
            <a:off x="1487520" y="2279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5"/>
          <p:cNvSpPr/>
          <p:nvPr/>
        </p:nvSpPr>
        <p:spPr>
          <a:xfrm rot="19047600">
            <a:off x="1354320" y="1188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16"/>
          <p:cNvSpPr/>
          <p:nvPr/>
        </p:nvSpPr>
        <p:spPr>
          <a:xfrm>
            <a:off x="1231920" y="18018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538200" y="422100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Исходные данные: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радиус Земли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(6350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км.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высота над землё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8"/>
          <p:cNvSpPr/>
          <p:nvPr/>
        </p:nvSpPr>
        <p:spPr>
          <a:xfrm>
            <a:off x="538200" y="5229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9e00"/>
                </a:solidFill>
                <a:latin typeface="Arial"/>
              </a:rPr>
              <a:t>Результат:</a:t>
            </a:r>
            <a:br>
              <a:rPr sz="1800"/>
            </a:br>
            <a:r>
              <a:rPr b="1" lang="en-US" sz="1800" spc="-1" strike="noStrike">
                <a:solidFill>
                  <a:srgbClr val="759e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759e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759e00"/>
                </a:solidFill>
                <a:latin typeface="Arial"/>
              </a:rPr>
              <a:t>расстояние до линии гориз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538200" y="62308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0000"/>
                </a:solidFill>
                <a:latin typeface="Arial"/>
              </a:rPr>
              <a:t>L = </a:t>
            </a:r>
            <a:r>
              <a:rPr b="1" lang="en-US" sz="1800" spc="-1" strike="noStrike">
                <a:solidFill>
                  <a:srgbClr val="f20000"/>
                </a:solidFill>
                <a:latin typeface="Symbol"/>
                <a:ea typeface="Symbol"/>
              </a:rPr>
              <a:t></a:t>
            </a:r>
            <a:r>
              <a:rPr b="1" lang="en-US" sz="1800" spc="-1" strike="noStrike">
                <a:solidFill>
                  <a:srgbClr val="f20000"/>
                </a:solidFill>
                <a:latin typeface="Arial"/>
              </a:rPr>
              <a:t>(R+h)</a:t>
            </a:r>
            <a:r>
              <a:rPr b="1" lang="en-US" sz="1800" spc="-1" strike="noStrike" baseline="30000">
                <a:solidFill>
                  <a:srgbClr val="f2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20000"/>
                </a:solidFill>
                <a:latin typeface="Arial"/>
              </a:rPr>
              <a:t>- R</a:t>
            </a:r>
            <a:r>
              <a:rPr b="1" lang="en-US" sz="1800" spc="-1" strike="noStrike" baseline="30000">
                <a:solidFill>
                  <a:srgbClr val="f2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2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0"/>
          <p:cNvSpPr/>
          <p:nvPr/>
        </p:nvSpPr>
        <p:spPr>
          <a:xfrm>
            <a:off x="1171440" y="6280200"/>
            <a:ext cx="1225800" cy="0"/>
          </a:xfrm>
          <a:prstGeom prst="line">
            <a:avLst/>
          </a:prstGeom>
          <a:ln w="19080">
            <a:solidFill>
              <a:srgbClr val="f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3997440" y="871560"/>
            <a:ext cx="496728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br>
              <a:rPr sz="1800"/>
            </a:b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#include &lt;cmath&gt;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L =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w flo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*R =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w flo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350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*h =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w flo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ut&lt;&lt;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над землёй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in&gt;&gt;*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L=sqrt(pow(*R+*h,2) – pow(*R,2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ut&lt;&lt;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ояни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&lt;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&lt;&lt;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“sizeof L = “&lt;&lt;(sizeof L)&lt;&lt;end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out&lt;&lt;“sizeof *L = “&lt;&lt;(sizeof *L)&lt;&lt;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, R, h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ystem(</a:t>
            </a:r>
            <a:r>
              <a:rPr b="0" lang="en-US" sz="1800" spc="-1" strike="noStrike">
                <a:solidFill>
                  <a:srgbClr val="a22b06"/>
                </a:solidFill>
                <a:latin typeface="Arial"/>
              </a:rPr>
              <a:t>“pau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9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nodeType="clickEffect" fill="hold">
                      <p:stCondLst>
                        <p:cond delay="indefinite"/>
                      </p:stCondLst>
                      <p:childTnLst>
                        <p:par>
                          <p:cTn id="2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2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nodeType="clickEffect" fill="hold">
                      <p:stCondLst>
                        <p:cond delay="indefinite"/>
                      </p:stCondLst>
                      <p:childTnLst>
                        <p:par>
                          <p:cTn id="2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1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delay="indefinite"/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250920" y="442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Наглядная модель переменных, адресов и у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84"/>
          <p:cNvGrpSpPr/>
          <p:nvPr/>
        </p:nvGrpSpPr>
        <p:grpSpPr>
          <a:xfrm>
            <a:off x="468360" y="1154880"/>
            <a:ext cx="8278920" cy="1410120"/>
            <a:chOff x="468360" y="1154880"/>
            <a:chExt cx="8278920" cy="1410120"/>
          </a:xfrm>
        </p:grpSpPr>
        <p:grpSp>
          <p:nvGrpSpPr>
            <p:cNvPr id="789" name="Group 60"/>
            <p:cNvGrpSpPr/>
            <p:nvPr/>
          </p:nvGrpSpPr>
          <p:grpSpPr>
            <a:xfrm>
              <a:off x="468360" y="1917720"/>
              <a:ext cx="8278920" cy="647280"/>
              <a:chOff x="468360" y="1917720"/>
              <a:chExt cx="8278920" cy="647280"/>
            </a:xfrm>
          </p:grpSpPr>
          <p:sp>
            <p:nvSpPr>
              <p:cNvPr id="790" name="Rectangle 37"/>
              <p:cNvSpPr/>
              <p:nvPr/>
            </p:nvSpPr>
            <p:spPr>
              <a:xfrm>
                <a:off x="468360" y="191772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Rectangle 38"/>
              <p:cNvSpPr/>
              <p:nvPr/>
            </p:nvSpPr>
            <p:spPr>
              <a:xfrm>
                <a:off x="82692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39"/>
              <p:cNvSpPr/>
              <p:nvPr/>
            </p:nvSpPr>
            <p:spPr>
              <a:xfrm>
                <a:off x="1189080" y="191772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40"/>
              <p:cNvSpPr/>
              <p:nvPr/>
            </p:nvSpPr>
            <p:spPr>
              <a:xfrm>
                <a:off x="154764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41"/>
              <p:cNvSpPr/>
              <p:nvPr/>
            </p:nvSpPr>
            <p:spPr>
              <a:xfrm>
                <a:off x="190800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42"/>
              <p:cNvSpPr/>
              <p:nvPr/>
            </p:nvSpPr>
            <p:spPr>
              <a:xfrm>
                <a:off x="226692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43"/>
              <p:cNvSpPr/>
              <p:nvPr/>
            </p:nvSpPr>
            <p:spPr>
              <a:xfrm>
                <a:off x="2629080" y="191772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44"/>
              <p:cNvSpPr/>
              <p:nvPr/>
            </p:nvSpPr>
            <p:spPr>
              <a:xfrm>
                <a:off x="298764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45"/>
              <p:cNvSpPr/>
              <p:nvPr/>
            </p:nvSpPr>
            <p:spPr>
              <a:xfrm>
                <a:off x="3349800" y="191772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46"/>
              <p:cNvSpPr/>
              <p:nvPr/>
            </p:nvSpPr>
            <p:spPr>
              <a:xfrm>
                <a:off x="370836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47"/>
              <p:cNvSpPr/>
              <p:nvPr/>
            </p:nvSpPr>
            <p:spPr>
              <a:xfrm>
                <a:off x="4070520" y="191772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48"/>
              <p:cNvSpPr/>
              <p:nvPr/>
            </p:nvSpPr>
            <p:spPr>
              <a:xfrm>
                <a:off x="442908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49"/>
              <p:cNvSpPr/>
              <p:nvPr/>
            </p:nvSpPr>
            <p:spPr>
              <a:xfrm>
                <a:off x="478944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50"/>
              <p:cNvSpPr/>
              <p:nvPr/>
            </p:nvSpPr>
            <p:spPr>
              <a:xfrm>
                <a:off x="5148360" y="191772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51"/>
              <p:cNvSpPr/>
              <p:nvPr/>
            </p:nvSpPr>
            <p:spPr>
              <a:xfrm>
                <a:off x="551016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52"/>
              <p:cNvSpPr/>
              <p:nvPr/>
            </p:nvSpPr>
            <p:spPr>
              <a:xfrm>
                <a:off x="5869080" y="191772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Rectangle 53"/>
              <p:cNvSpPr/>
              <p:nvPr/>
            </p:nvSpPr>
            <p:spPr>
              <a:xfrm>
                <a:off x="622764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54"/>
              <p:cNvSpPr/>
              <p:nvPr/>
            </p:nvSpPr>
            <p:spPr>
              <a:xfrm>
                <a:off x="6589800" y="191772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55"/>
              <p:cNvSpPr/>
              <p:nvPr/>
            </p:nvSpPr>
            <p:spPr>
              <a:xfrm>
                <a:off x="694836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56"/>
              <p:cNvSpPr/>
              <p:nvPr/>
            </p:nvSpPr>
            <p:spPr>
              <a:xfrm>
                <a:off x="730872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57"/>
              <p:cNvSpPr/>
              <p:nvPr/>
            </p:nvSpPr>
            <p:spPr>
              <a:xfrm>
                <a:off x="766764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58"/>
              <p:cNvSpPr/>
              <p:nvPr/>
            </p:nvSpPr>
            <p:spPr>
              <a:xfrm>
                <a:off x="802944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59"/>
              <p:cNvSpPr/>
              <p:nvPr/>
            </p:nvSpPr>
            <p:spPr>
              <a:xfrm>
                <a:off x="8388360" y="191772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Text Box 61"/>
            <p:cNvSpPr/>
            <p:nvPr/>
          </p:nvSpPr>
          <p:spPr>
            <a:xfrm rot="16200000">
              <a:off x="287280" y="13629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62"/>
            <p:cNvSpPr/>
            <p:nvPr/>
          </p:nvSpPr>
          <p:spPr>
            <a:xfrm rot="16200000">
              <a:off x="62064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63"/>
            <p:cNvSpPr/>
            <p:nvPr/>
          </p:nvSpPr>
          <p:spPr>
            <a:xfrm rot="16200000">
              <a:off x="105228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64"/>
            <p:cNvSpPr/>
            <p:nvPr/>
          </p:nvSpPr>
          <p:spPr>
            <a:xfrm rot="16200000">
              <a:off x="1412640" y="14029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65"/>
            <p:cNvSpPr/>
            <p:nvPr/>
          </p:nvSpPr>
          <p:spPr>
            <a:xfrm rot="16200000">
              <a:off x="1773000" y="14029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66"/>
            <p:cNvSpPr/>
            <p:nvPr/>
          </p:nvSpPr>
          <p:spPr>
            <a:xfrm rot="16200000">
              <a:off x="213336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67"/>
            <p:cNvSpPr/>
            <p:nvPr/>
          </p:nvSpPr>
          <p:spPr>
            <a:xfrm rot="16200000">
              <a:off x="249372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68"/>
            <p:cNvSpPr/>
            <p:nvPr/>
          </p:nvSpPr>
          <p:spPr>
            <a:xfrm rot="16200000">
              <a:off x="285264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69"/>
            <p:cNvSpPr/>
            <p:nvPr/>
          </p:nvSpPr>
          <p:spPr>
            <a:xfrm rot="16200000">
              <a:off x="321300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70"/>
            <p:cNvSpPr/>
            <p:nvPr/>
          </p:nvSpPr>
          <p:spPr>
            <a:xfrm rot="16200000">
              <a:off x="357336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71"/>
            <p:cNvSpPr/>
            <p:nvPr/>
          </p:nvSpPr>
          <p:spPr>
            <a:xfrm rot="16200000">
              <a:off x="393372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72"/>
            <p:cNvSpPr/>
            <p:nvPr/>
          </p:nvSpPr>
          <p:spPr>
            <a:xfrm rot="16200000">
              <a:off x="429408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73"/>
            <p:cNvSpPr/>
            <p:nvPr/>
          </p:nvSpPr>
          <p:spPr>
            <a:xfrm rot="16200000">
              <a:off x="465300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4"/>
            <p:cNvSpPr/>
            <p:nvPr/>
          </p:nvSpPr>
          <p:spPr>
            <a:xfrm rot="16200000">
              <a:off x="501336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5"/>
            <p:cNvSpPr/>
            <p:nvPr/>
          </p:nvSpPr>
          <p:spPr>
            <a:xfrm rot="16200000">
              <a:off x="537372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6"/>
            <p:cNvSpPr/>
            <p:nvPr/>
          </p:nvSpPr>
          <p:spPr>
            <a:xfrm rot="16200000">
              <a:off x="573408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7"/>
            <p:cNvSpPr/>
            <p:nvPr/>
          </p:nvSpPr>
          <p:spPr>
            <a:xfrm rot="16200000">
              <a:off x="609444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78"/>
            <p:cNvSpPr/>
            <p:nvPr/>
          </p:nvSpPr>
          <p:spPr>
            <a:xfrm rot="16200000">
              <a:off x="645300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79"/>
            <p:cNvSpPr/>
            <p:nvPr/>
          </p:nvSpPr>
          <p:spPr>
            <a:xfrm rot="16200000">
              <a:off x="681336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80"/>
            <p:cNvSpPr/>
            <p:nvPr/>
          </p:nvSpPr>
          <p:spPr>
            <a:xfrm rot="16200000">
              <a:off x="717372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81"/>
            <p:cNvSpPr/>
            <p:nvPr/>
          </p:nvSpPr>
          <p:spPr>
            <a:xfrm rot="16200000">
              <a:off x="753408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82"/>
            <p:cNvSpPr/>
            <p:nvPr/>
          </p:nvSpPr>
          <p:spPr>
            <a:xfrm rot="16200000">
              <a:off x="789444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83"/>
            <p:cNvSpPr/>
            <p:nvPr/>
          </p:nvSpPr>
          <p:spPr>
            <a:xfrm rot="16200000">
              <a:off x="8253360" y="140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Text Box 85"/>
          <p:cNvSpPr/>
          <p:nvPr/>
        </p:nvSpPr>
        <p:spPr>
          <a:xfrm>
            <a:off x="394920" y="484200"/>
            <a:ext cx="85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чеистая структура памяти. Каждая отдельная ячейка памяти (1 байт) и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 номер от 0 до максимального значения.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6"/>
          <p:cNvSpPr/>
          <p:nvPr/>
        </p:nvSpPr>
        <p:spPr>
          <a:xfrm>
            <a:off x="581040" y="2728800"/>
            <a:ext cx="65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объявление целой переменное переменной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pi;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 объявление указателя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pi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 на целую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ереме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(какую ещё не зна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87"/>
          <p:cNvGrpSpPr/>
          <p:nvPr/>
        </p:nvGrpSpPr>
        <p:grpSpPr>
          <a:xfrm>
            <a:off x="469800" y="3714480"/>
            <a:ext cx="8278920" cy="1410120"/>
            <a:chOff x="469800" y="3714480"/>
            <a:chExt cx="8278920" cy="1410120"/>
          </a:xfrm>
        </p:grpSpPr>
        <p:grpSp>
          <p:nvGrpSpPr>
            <p:cNvPr id="839" name="Group 88"/>
            <p:cNvGrpSpPr/>
            <p:nvPr/>
          </p:nvGrpSpPr>
          <p:grpSpPr>
            <a:xfrm>
              <a:off x="469800" y="4476960"/>
              <a:ext cx="8278920" cy="647640"/>
              <a:chOff x="469800" y="4476960"/>
              <a:chExt cx="8278920" cy="647640"/>
            </a:xfrm>
          </p:grpSpPr>
          <p:sp>
            <p:nvSpPr>
              <p:cNvPr id="840" name="Rectangle 89"/>
              <p:cNvSpPr/>
              <p:nvPr/>
            </p:nvSpPr>
            <p:spPr>
              <a:xfrm>
                <a:off x="469800" y="447696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90"/>
              <p:cNvSpPr/>
              <p:nvPr/>
            </p:nvSpPr>
            <p:spPr>
              <a:xfrm>
                <a:off x="82836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91"/>
              <p:cNvSpPr/>
              <p:nvPr/>
            </p:nvSpPr>
            <p:spPr>
              <a:xfrm>
                <a:off x="1190520" y="447696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92"/>
              <p:cNvSpPr/>
              <p:nvPr/>
            </p:nvSpPr>
            <p:spPr>
              <a:xfrm>
                <a:off x="154908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93"/>
              <p:cNvSpPr/>
              <p:nvPr/>
            </p:nvSpPr>
            <p:spPr>
              <a:xfrm>
                <a:off x="190944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94"/>
              <p:cNvSpPr/>
              <p:nvPr/>
            </p:nvSpPr>
            <p:spPr>
              <a:xfrm>
                <a:off x="226836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95"/>
              <p:cNvSpPr/>
              <p:nvPr/>
            </p:nvSpPr>
            <p:spPr>
              <a:xfrm>
                <a:off x="2630520" y="447696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96"/>
              <p:cNvSpPr/>
              <p:nvPr/>
            </p:nvSpPr>
            <p:spPr>
              <a:xfrm>
                <a:off x="298908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97"/>
              <p:cNvSpPr/>
              <p:nvPr/>
            </p:nvSpPr>
            <p:spPr>
              <a:xfrm>
                <a:off x="3351240" y="447696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98"/>
              <p:cNvSpPr/>
              <p:nvPr/>
            </p:nvSpPr>
            <p:spPr>
              <a:xfrm>
                <a:off x="370980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99"/>
              <p:cNvSpPr/>
              <p:nvPr/>
            </p:nvSpPr>
            <p:spPr>
              <a:xfrm>
                <a:off x="4071960" y="447696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100"/>
              <p:cNvSpPr/>
              <p:nvPr/>
            </p:nvSpPr>
            <p:spPr>
              <a:xfrm>
                <a:off x="443052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101"/>
              <p:cNvSpPr/>
              <p:nvPr/>
            </p:nvSpPr>
            <p:spPr>
              <a:xfrm>
                <a:off x="479088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102"/>
              <p:cNvSpPr/>
              <p:nvPr/>
            </p:nvSpPr>
            <p:spPr>
              <a:xfrm>
                <a:off x="5149800" y="447696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Rectangle 103"/>
              <p:cNvSpPr/>
              <p:nvPr/>
            </p:nvSpPr>
            <p:spPr>
              <a:xfrm>
                <a:off x="551160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104"/>
              <p:cNvSpPr/>
              <p:nvPr/>
            </p:nvSpPr>
            <p:spPr>
              <a:xfrm>
                <a:off x="5870520" y="447696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105"/>
              <p:cNvSpPr/>
              <p:nvPr/>
            </p:nvSpPr>
            <p:spPr>
              <a:xfrm>
                <a:off x="622908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06"/>
              <p:cNvSpPr/>
              <p:nvPr/>
            </p:nvSpPr>
            <p:spPr>
              <a:xfrm>
                <a:off x="6591240" y="447696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107"/>
              <p:cNvSpPr/>
              <p:nvPr/>
            </p:nvSpPr>
            <p:spPr>
              <a:xfrm>
                <a:off x="694980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108"/>
              <p:cNvSpPr/>
              <p:nvPr/>
            </p:nvSpPr>
            <p:spPr>
              <a:xfrm>
                <a:off x="731016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09"/>
              <p:cNvSpPr/>
              <p:nvPr/>
            </p:nvSpPr>
            <p:spPr>
              <a:xfrm>
                <a:off x="766908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110"/>
              <p:cNvSpPr/>
              <p:nvPr/>
            </p:nvSpPr>
            <p:spPr>
              <a:xfrm>
                <a:off x="803088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Rectangle 111"/>
              <p:cNvSpPr/>
              <p:nvPr/>
            </p:nvSpPr>
            <p:spPr>
              <a:xfrm>
                <a:off x="8389800" y="447696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112"/>
            <p:cNvSpPr/>
            <p:nvPr/>
          </p:nvSpPr>
          <p:spPr>
            <a:xfrm rot="16200000">
              <a:off x="288720" y="39225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113"/>
            <p:cNvSpPr/>
            <p:nvPr/>
          </p:nvSpPr>
          <p:spPr>
            <a:xfrm rot="16200000">
              <a:off x="62208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114"/>
            <p:cNvSpPr/>
            <p:nvPr/>
          </p:nvSpPr>
          <p:spPr>
            <a:xfrm rot="16200000">
              <a:off x="105372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115"/>
            <p:cNvSpPr/>
            <p:nvPr/>
          </p:nvSpPr>
          <p:spPr>
            <a:xfrm rot="16200000">
              <a:off x="1414080" y="3961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116"/>
            <p:cNvSpPr/>
            <p:nvPr/>
          </p:nvSpPr>
          <p:spPr>
            <a:xfrm rot="16200000">
              <a:off x="1774440" y="3961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117"/>
            <p:cNvSpPr/>
            <p:nvPr/>
          </p:nvSpPr>
          <p:spPr>
            <a:xfrm rot="16200000">
              <a:off x="213480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118"/>
            <p:cNvSpPr/>
            <p:nvPr/>
          </p:nvSpPr>
          <p:spPr>
            <a:xfrm rot="16200000">
              <a:off x="249516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119"/>
            <p:cNvSpPr/>
            <p:nvPr/>
          </p:nvSpPr>
          <p:spPr>
            <a:xfrm rot="16200000">
              <a:off x="285408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120"/>
            <p:cNvSpPr/>
            <p:nvPr/>
          </p:nvSpPr>
          <p:spPr>
            <a:xfrm rot="16200000">
              <a:off x="321444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121"/>
            <p:cNvSpPr/>
            <p:nvPr/>
          </p:nvSpPr>
          <p:spPr>
            <a:xfrm rot="16200000">
              <a:off x="357480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122"/>
            <p:cNvSpPr/>
            <p:nvPr/>
          </p:nvSpPr>
          <p:spPr>
            <a:xfrm rot="16200000">
              <a:off x="393516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123"/>
            <p:cNvSpPr/>
            <p:nvPr/>
          </p:nvSpPr>
          <p:spPr>
            <a:xfrm rot="16200000">
              <a:off x="429552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124"/>
            <p:cNvSpPr/>
            <p:nvPr/>
          </p:nvSpPr>
          <p:spPr>
            <a:xfrm rot="16200000">
              <a:off x="465444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125"/>
            <p:cNvSpPr/>
            <p:nvPr/>
          </p:nvSpPr>
          <p:spPr>
            <a:xfrm rot="16200000">
              <a:off x="501480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126"/>
            <p:cNvSpPr/>
            <p:nvPr/>
          </p:nvSpPr>
          <p:spPr>
            <a:xfrm rot="16200000">
              <a:off x="537516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127"/>
            <p:cNvSpPr/>
            <p:nvPr/>
          </p:nvSpPr>
          <p:spPr>
            <a:xfrm rot="16200000">
              <a:off x="573552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128"/>
            <p:cNvSpPr/>
            <p:nvPr/>
          </p:nvSpPr>
          <p:spPr>
            <a:xfrm rot="16200000">
              <a:off x="609588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129"/>
            <p:cNvSpPr/>
            <p:nvPr/>
          </p:nvSpPr>
          <p:spPr>
            <a:xfrm rot="16200000">
              <a:off x="645444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Text Box 130"/>
            <p:cNvSpPr/>
            <p:nvPr/>
          </p:nvSpPr>
          <p:spPr>
            <a:xfrm rot="16200000">
              <a:off x="681480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131"/>
            <p:cNvSpPr/>
            <p:nvPr/>
          </p:nvSpPr>
          <p:spPr>
            <a:xfrm rot="16200000">
              <a:off x="717516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132"/>
            <p:cNvSpPr/>
            <p:nvPr/>
          </p:nvSpPr>
          <p:spPr>
            <a:xfrm rot="16200000">
              <a:off x="753552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133"/>
            <p:cNvSpPr/>
            <p:nvPr/>
          </p:nvSpPr>
          <p:spPr>
            <a:xfrm rot="16200000">
              <a:off x="789588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134"/>
            <p:cNvSpPr/>
            <p:nvPr/>
          </p:nvSpPr>
          <p:spPr>
            <a:xfrm rot="16200000">
              <a:off x="8254800" y="3960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Rectangle 135"/>
          <p:cNvSpPr/>
          <p:nvPr/>
        </p:nvSpPr>
        <p:spPr>
          <a:xfrm>
            <a:off x="469800" y="4465800"/>
            <a:ext cx="1440000" cy="661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36"/>
          <p:cNvSpPr/>
          <p:nvPr/>
        </p:nvSpPr>
        <p:spPr>
          <a:xfrm>
            <a:off x="1908000" y="4465800"/>
            <a:ext cx="1440000" cy="661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137"/>
          <p:cNvSpPr/>
          <p:nvPr/>
        </p:nvSpPr>
        <p:spPr>
          <a:xfrm rot="16200000">
            <a:off x="1093680" y="4530600"/>
            <a:ext cx="189000" cy="1439640"/>
          </a:xfrm>
          <a:custGeom>
            <a:avLst/>
            <a:gdLst>
              <a:gd name="textAreaLeft" fmla="*/ 120960 w 189000"/>
              <a:gd name="textAreaRight" fmla="*/ 189360 w 189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138"/>
          <p:cNvSpPr/>
          <p:nvPr/>
        </p:nvSpPr>
        <p:spPr>
          <a:xfrm rot="16200000">
            <a:off x="2533320" y="4501440"/>
            <a:ext cx="189000" cy="1440000"/>
          </a:xfrm>
          <a:custGeom>
            <a:avLst/>
            <a:gdLst>
              <a:gd name="textAreaLeft" fmla="*/ 120960 w 189000"/>
              <a:gd name="textAreaRight" fmla="*/ 189360 w 189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40"/>
          <p:cNvSpPr/>
          <p:nvPr/>
        </p:nvSpPr>
        <p:spPr>
          <a:xfrm>
            <a:off x="1035000" y="533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41"/>
          <p:cNvSpPr/>
          <p:nvPr/>
        </p:nvSpPr>
        <p:spPr>
          <a:xfrm>
            <a:off x="2440440" y="5288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2"/>
          <p:cNvSpPr/>
          <p:nvPr/>
        </p:nvSpPr>
        <p:spPr>
          <a:xfrm>
            <a:off x="476280" y="5681520"/>
            <a:ext cx="83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таких объявлений перем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по адресу 1234656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чередному свободному адресу 123460. Обе перем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 размер 4 байта и содержат произвольные значения («мусор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583920" y="260280"/>
            <a:ext cx="67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5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рисваивание переменной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k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значения 2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5"/>
          <p:cNvGrpSpPr/>
          <p:nvPr/>
        </p:nvGrpSpPr>
        <p:grpSpPr>
          <a:xfrm>
            <a:off x="468360" y="1367640"/>
            <a:ext cx="8278920" cy="1410120"/>
            <a:chOff x="468360" y="1367640"/>
            <a:chExt cx="8278920" cy="1410120"/>
          </a:xfrm>
        </p:grpSpPr>
        <p:grpSp>
          <p:nvGrpSpPr>
            <p:cNvPr id="895" name="Group 6"/>
            <p:cNvGrpSpPr/>
            <p:nvPr/>
          </p:nvGrpSpPr>
          <p:grpSpPr>
            <a:xfrm>
              <a:off x="468360" y="2130480"/>
              <a:ext cx="8278920" cy="647280"/>
              <a:chOff x="468360" y="2130480"/>
              <a:chExt cx="8278920" cy="647280"/>
            </a:xfrm>
          </p:grpSpPr>
          <p:sp>
            <p:nvSpPr>
              <p:cNvPr id="896" name="Rectangle 7"/>
              <p:cNvSpPr/>
              <p:nvPr/>
            </p:nvSpPr>
            <p:spPr>
              <a:xfrm>
                <a:off x="468360" y="213048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8"/>
              <p:cNvSpPr/>
              <p:nvPr/>
            </p:nvSpPr>
            <p:spPr>
              <a:xfrm>
                <a:off x="82692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Rectangle 9"/>
              <p:cNvSpPr/>
              <p:nvPr/>
            </p:nvSpPr>
            <p:spPr>
              <a:xfrm>
                <a:off x="1189080" y="213048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Rectangle 10"/>
              <p:cNvSpPr/>
              <p:nvPr/>
            </p:nvSpPr>
            <p:spPr>
              <a:xfrm>
                <a:off x="154764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11"/>
              <p:cNvSpPr/>
              <p:nvPr/>
            </p:nvSpPr>
            <p:spPr>
              <a:xfrm>
                <a:off x="190800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12"/>
              <p:cNvSpPr/>
              <p:nvPr/>
            </p:nvSpPr>
            <p:spPr>
              <a:xfrm>
                <a:off x="226692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13"/>
              <p:cNvSpPr/>
              <p:nvPr/>
            </p:nvSpPr>
            <p:spPr>
              <a:xfrm>
                <a:off x="2629080" y="213048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14"/>
              <p:cNvSpPr/>
              <p:nvPr/>
            </p:nvSpPr>
            <p:spPr>
              <a:xfrm>
                <a:off x="298764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15"/>
              <p:cNvSpPr/>
              <p:nvPr/>
            </p:nvSpPr>
            <p:spPr>
              <a:xfrm>
                <a:off x="3349800" y="213048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Rectangle 16"/>
              <p:cNvSpPr/>
              <p:nvPr/>
            </p:nvSpPr>
            <p:spPr>
              <a:xfrm>
                <a:off x="370836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Rectangle 17"/>
              <p:cNvSpPr/>
              <p:nvPr/>
            </p:nvSpPr>
            <p:spPr>
              <a:xfrm>
                <a:off x="4070520" y="213048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Rectangle 18"/>
              <p:cNvSpPr/>
              <p:nvPr/>
            </p:nvSpPr>
            <p:spPr>
              <a:xfrm>
                <a:off x="442908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Rectangle 19"/>
              <p:cNvSpPr/>
              <p:nvPr/>
            </p:nvSpPr>
            <p:spPr>
              <a:xfrm>
                <a:off x="478944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20"/>
              <p:cNvSpPr/>
              <p:nvPr/>
            </p:nvSpPr>
            <p:spPr>
              <a:xfrm>
                <a:off x="5148360" y="213048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Rectangle 21"/>
              <p:cNvSpPr/>
              <p:nvPr/>
            </p:nvSpPr>
            <p:spPr>
              <a:xfrm>
                <a:off x="551016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Rectangle 22"/>
              <p:cNvSpPr/>
              <p:nvPr/>
            </p:nvSpPr>
            <p:spPr>
              <a:xfrm>
                <a:off x="5869080" y="213048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23"/>
              <p:cNvSpPr/>
              <p:nvPr/>
            </p:nvSpPr>
            <p:spPr>
              <a:xfrm>
                <a:off x="622764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Rectangle 24"/>
              <p:cNvSpPr/>
              <p:nvPr/>
            </p:nvSpPr>
            <p:spPr>
              <a:xfrm>
                <a:off x="6589800" y="213048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Rectangle 25"/>
              <p:cNvSpPr/>
              <p:nvPr/>
            </p:nvSpPr>
            <p:spPr>
              <a:xfrm>
                <a:off x="694836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Rectangle 26"/>
              <p:cNvSpPr/>
              <p:nvPr/>
            </p:nvSpPr>
            <p:spPr>
              <a:xfrm>
                <a:off x="730872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Rectangle 27"/>
              <p:cNvSpPr/>
              <p:nvPr/>
            </p:nvSpPr>
            <p:spPr>
              <a:xfrm>
                <a:off x="766764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Rectangle 28"/>
              <p:cNvSpPr/>
              <p:nvPr/>
            </p:nvSpPr>
            <p:spPr>
              <a:xfrm>
                <a:off x="802944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Rectangle 29"/>
              <p:cNvSpPr/>
              <p:nvPr/>
            </p:nvSpPr>
            <p:spPr>
              <a:xfrm>
                <a:off x="8388360" y="213048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Text Box 30"/>
            <p:cNvSpPr/>
            <p:nvPr/>
          </p:nvSpPr>
          <p:spPr>
            <a:xfrm rot="16200000">
              <a:off x="287280" y="15757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0066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31"/>
            <p:cNvSpPr/>
            <p:nvPr/>
          </p:nvSpPr>
          <p:spPr>
            <a:xfrm rot="16200000">
              <a:off x="62064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32"/>
            <p:cNvSpPr/>
            <p:nvPr/>
          </p:nvSpPr>
          <p:spPr>
            <a:xfrm rot="16200000">
              <a:off x="105228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33"/>
            <p:cNvSpPr/>
            <p:nvPr/>
          </p:nvSpPr>
          <p:spPr>
            <a:xfrm rot="16200000">
              <a:off x="1412640" y="16156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34"/>
            <p:cNvSpPr/>
            <p:nvPr/>
          </p:nvSpPr>
          <p:spPr>
            <a:xfrm rot="16200000">
              <a:off x="1773000" y="16156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35"/>
            <p:cNvSpPr/>
            <p:nvPr/>
          </p:nvSpPr>
          <p:spPr>
            <a:xfrm rot="16200000">
              <a:off x="213336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36"/>
            <p:cNvSpPr/>
            <p:nvPr/>
          </p:nvSpPr>
          <p:spPr>
            <a:xfrm rot="16200000">
              <a:off x="249372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37"/>
            <p:cNvSpPr/>
            <p:nvPr/>
          </p:nvSpPr>
          <p:spPr>
            <a:xfrm rot="16200000">
              <a:off x="285264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38"/>
            <p:cNvSpPr/>
            <p:nvPr/>
          </p:nvSpPr>
          <p:spPr>
            <a:xfrm rot="16200000">
              <a:off x="321300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39"/>
            <p:cNvSpPr/>
            <p:nvPr/>
          </p:nvSpPr>
          <p:spPr>
            <a:xfrm rot="16200000">
              <a:off x="357336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40"/>
            <p:cNvSpPr/>
            <p:nvPr/>
          </p:nvSpPr>
          <p:spPr>
            <a:xfrm rot="16200000">
              <a:off x="393372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41"/>
            <p:cNvSpPr/>
            <p:nvPr/>
          </p:nvSpPr>
          <p:spPr>
            <a:xfrm rot="16200000">
              <a:off x="429408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42"/>
            <p:cNvSpPr/>
            <p:nvPr/>
          </p:nvSpPr>
          <p:spPr>
            <a:xfrm rot="16200000">
              <a:off x="465300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43"/>
            <p:cNvSpPr/>
            <p:nvPr/>
          </p:nvSpPr>
          <p:spPr>
            <a:xfrm rot="16200000">
              <a:off x="501336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44"/>
            <p:cNvSpPr/>
            <p:nvPr/>
          </p:nvSpPr>
          <p:spPr>
            <a:xfrm rot="16200000">
              <a:off x="537372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45"/>
            <p:cNvSpPr/>
            <p:nvPr/>
          </p:nvSpPr>
          <p:spPr>
            <a:xfrm rot="16200000">
              <a:off x="573408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46"/>
            <p:cNvSpPr/>
            <p:nvPr/>
          </p:nvSpPr>
          <p:spPr>
            <a:xfrm rot="16200000">
              <a:off x="609444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47"/>
            <p:cNvSpPr/>
            <p:nvPr/>
          </p:nvSpPr>
          <p:spPr>
            <a:xfrm rot="16200000">
              <a:off x="645300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48"/>
            <p:cNvSpPr/>
            <p:nvPr/>
          </p:nvSpPr>
          <p:spPr>
            <a:xfrm rot="16200000">
              <a:off x="681336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49"/>
            <p:cNvSpPr/>
            <p:nvPr/>
          </p:nvSpPr>
          <p:spPr>
            <a:xfrm rot="16200000">
              <a:off x="717372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50"/>
            <p:cNvSpPr/>
            <p:nvPr/>
          </p:nvSpPr>
          <p:spPr>
            <a:xfrm rot="16200000">
              <a:off x="753408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51"/>
            <p:cNvSpPr/>
            <p:nvPr/>
          </p:nvSpPr>
          <p:spPr>
            <a:xfrm rot="16200000">
              <a:off x="789444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52"/>
            <p:cNvSpPr/>
            <p:nvPr/>
          </p:nvSpPr>
          <p:spPr>
            <a:xfrm rot="16200000">
              <a:off x="8253360" y="161352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Rectangle 53"/>
          <p:cNvSpPr/>
          <p:nvPr/>
        </p:nvSpPr>
        <p:spPr>
          <a:xfrm>
            <a:off x="469800" y="2119320"/>
            <a:ext cx="1440000" cy="662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54"/>
          <p:cNvSpPr/>
          <p:nvPr/>
        </p:nvSpPr>
        <p:spPr>
          <a:xfrm>
            <a:off x="1908000" y="2119320"/>
            <a:ext cx="1440000" cy="662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55"/>
          <p:cNvSpPr/>
          <p:nvPr/>
        </p:nvSpPr>
        <p:spPr>
          <a:xfrm rot="16200000">
            <a:off x="1093680" y="2184120"/>
            <a:ext cx="189000" cy="1439640"/>
          </a:xfrm>
          <a:custGeom>
            <a:avLst/>
            <a:gdLst>
              <a:gd name="textAreaLeft" fmla="*/ 120960 w 189000"/>
              <a:gd name="textAreaRight" fmla="*/ 189360 w 189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56"/>
          <p:cNvSpPr/>
          <p:nvPr/>
        </p:nvSpPr>
        <p:spPr>
          <a:xfrm rot="16200000">
            <a:off x="2533320" y="2155320"/>
            <a:ext cx="189000" cy="1440000"/>
          </a:xfrm>
          <a:custGeom>
            <a:avLst/>
            <a:gdLst>
              <a:gd name="textAreaLeft" fmla="*/ 120960 w 189000"/>
              <a:gd name="textAreaRight" fmla="*/ 189360 w 189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57"/>
          <p:cNvSpPr/>
          <p:nvPr/>
        </p:nvSpPr>
        <p:spPr>
          <a:xfrm>
            <a:off x="1035000" y="2990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58"/>
          <p:cNvSpPr/>
          <p:nvPr/>
        </p:nvSpPr>
        <p:spPr>
          <a:xfrm>
            <a:off x="2440440" y="29415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9"/>
          <p:cNvSpPr/>
          <p:nvPr/>
        </p:nvSpPr>
        <p:spPr>
          <a:xfrm>
            <a:off x="902520" y="2278080"/>
            <a:ext cx="5601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60"/>
          <p:cNvSpPr/>
          <p:nvPr/>
        </p:nvSpPr>
        <p:spPr>
          <a:xfrm>
            <a:off x="552600" y="59220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k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рисваивание указателю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pi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адреса переменной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9"/>
          <p:cNvSpPr/>
          <p:nvPr/>
        </p:nvSpPr>
        <p:spPr>
          <a:xfrm>
            <a:off x="2116080" y="2298600"/>
            <a:ext cx="9396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23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114"/>
          <p:cNvGrpSpPr/>
          <p:nvPr/>
        </p:nvGrpSpPr>
        <p:grpSpPr>
          <a:xfrm>
            <a:off x="610920" y="1125360"/>
            <a:ext cx="1657440" cy="1152720"/>
            <a:chOff x="610920" y="1125360"/>
            <a:chExt cx="1657440" cy="1152720"/>
          </a:xfrm>
        </p:grpSpPr>
        <p:sp>
          <p:nvSpPr>
            <p:cNvPr id="952" name="Line 111"/>
            <p:cNvSpPr/>
            <p:nvPr/>
          </p:nvSpPr>
          <p:spPr>
            <a:xfrm flipV="1">
              <a:off x="2268360" y="1125360"/>
              <a:ext cx="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12"/>
            <p:cNvSpPr/>
            <p:nvPr/>
          </p:nvSpPr>
          <p:spPr>
            <a:xfrm flipH="1">
              <a:off x="610920" y="112536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13"/>
            <p:cNvSpPr/>
            <p:nvPr/>
          </p:nvSpPr>
          <p:spPr>
            <a:xfrm>
              <a:off x="611280" y="112536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Text Box 115"/>
          <p:cNvSpPr/>
          <p:nvPr/>
        </p:nvSpPr>
        <p:spPr>
          <a:xfrm>
            <a:off x="325800" y="3429000"/>
            <a:ext cx="84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в целой переме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значе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в указател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ую переменную содержится адрес переме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вный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234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16"/>
          <p:cNvSpPr/>
          <p:nvPr/>
        </p:nvSpPr>
        <p:spPr>
          <a:xfrm>
            <a:off x="470160" y="4508640"/>
            <a:ext cx="78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k&lt;&lt;endl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вывод содержимого переменной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, т.е. 257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pi&lt;&lt;endl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 вывод содержимого указателя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pi,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т.е. 123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*pi&lt;&lt;endl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 вывод содержимого переменной, расположенно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адресу находящемуся в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pi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 (123456)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т.е той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переменной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4"/>
          <p:cNvSpPr/>
          <p:nvPr/>
        </p:nvSpPr>
        <p:spPr>
          <a:xfrm>
            <a:off x="250920" y="442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Масс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541080" y="620640"/>
            <a:ext cx="812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ивом в языках программирования называется набор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типн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менных, занимающих в оперативной памяти компьютер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ов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чейки. К каждой такой переменной можно обращаться по чтению и запи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имени массива и индексу (порядковому номеру) этой перемен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6"/>
          <p:cNvSpPr/>
          <p:nvPr/>
        </p:nvSpPr>
        <p:spPr>
          <a:xfrm>
            <a:off x="625680" y="1779480"/>
            <a:ext cx="68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[5]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объявление массива из пяти целых чис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с индексами от 0 до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Group 7"/>
          <p:cNvGrpSpPr/>
          <p:nvPr/>
        </p:nvGrpSpPr>
        <p:grpSpPr>
          <a:xfrm>
            <a:off x="395280" y="2563560"/>
            <a:ext cx="8278920" cy="1410120"/>
            <a:chOff x="395280" y="2563560"/>
            <a:chExt cx="8278920" cy="1410120"/>
          </a:xfrm>
        </p:grpSpPr>
        <p:grpSp>
          <p:nvGrpSpPr>
            <p:cNvPr id="961" name="Group 8"/>
            <p:cNvGrpSpPr/>
            <p:nvPr/>
          </p:nvGrpSpPr>
          <p:grpSpPr>
            <a:xfrm>
              <a:off x="395280" y="3326040"/>
              <a:ext cx="8278920" cy="647640"/>
              <a:chOff x="395280" y="3326040"/>
              <a:chExt cx="8278920" cy="647640"/>
            </a:xfrm>
          </p:grpSpPr>
          <p:sp>
            <p:nvSpPr>
              <p:cNvPr id="962" name="Rectangle 9"/>
              <p:cNvSpPr/>
              <p:nvPr/>
            </p:nvSpPr>
            <p:spPr>
              <a:xfrm>
                <a:off x="395280" y="332604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Rectangle 10"/>
              <p:cNvSpPr/>
              <p:nvPr/>
            </p:nvSpPr>
            <p:spPr>
              <a:xfrm>
                <a:off x="75384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Rectangle 11"/>
              <p:cNvSpPr/>
              <p:nvPr/>
            </p:nvSpPr>
            <p:spPr>
              <a:xfrm>
                <a:off x="1116000" y="332604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Rectangle 12"/>
              <p:cNvSpPr/>
              <p:nvPr/>
            </p:nvSpPr>
            <p:spPr>
              <a:xfrm>
                <a:off x="147456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Rectangle 13"/>
              <p:cNvSpPr/>
              <p:nvPr/>
            </p:nvSpPr>
            <p:spPr>
              <a:xfrm>
                <a:off x="183492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14"/>
              <p:cNvSpPr/>
              <p:nvPr/>
            </p:nvSpPr>
            <p:spPr>
              <a:xfrm>
                <a:off x="219384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15"/>
              <p:cNvSpPr/>
              <p:nvPr/>
            </p:nvSpPr>
            <p:spPr>
              <a:xfrm>
                <a:off x="2556000" y="332604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16"/>
              <p:cNvSpPr/>
              <p:nvPr/>
            </p:nvSpPr>
            <p:spPr>
              <a:xfrm>
                <a:off x="291456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17"/>
              <p:cNvSpPr/>
              <p:nvPr/>
            </p:nvSpPr>
            <p:spPr>
              <a:xfrm>
                <a:off x="3276720" y="332604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18"/>
              <p:cNvSpPr/>
              <p:nvPr/>
            </p:nvSpPr>
            <p:spPr>
              <a:xfrm>
                <a:off x="363528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19"/>
              <p:cNvSpPr/>
              <p:nvPr/>
            </p:nvSpPr>
            <p:spPr>
              <a:xfrm>
                <a:off x="3997440" y="332604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0"/>
              <p:cNvSpPr/>
              <p:nvPr/>
            </p:nvSpPr>
            <p:spPr>
              <a:xfrm>
                <a:off x="435600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1"/>
              <p:cNvSpPr/>
              <p:nvPr/>
            </p:nvSpPr>
            <p:spPr>
              <a:xfrm>
                <a:off x="471636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2"/>
              <p:cNvSpPr/>
              <p:nvPr/>
            </p:nvSpPr>
            <p:spPr>
              <a:xfrm>
                <a:off x="5075280" y="332604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23"/>
              <p:cNvSpPr/>
              <p:nvPr/>
            </p:nvSpPr>
            <p:spPr>
              <a:xfrm>
                <a:off x="543708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24"/>
              <p:cNvSpPr/>
              <p:nvPr/>
            </p:nvSpPr>
            <p:spPr>
              <a:xfrm>
                <a:off x="5796000" y="332604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25"/>
              <p:cNvSpPr/>
              <p:nvPr/>
            </p:nvSpPr>
            <p:spPr>
              <a:xfrm>
                <a:off x="615456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Rectangle 26"/>
              <p:cNvSpPr/>
              <p:nvPr/>
            </p:nvSpPr>
            <p:spPr>
              <a:xfrm>
                <a:off x="6516720" y="3326040"/>
                <a:ext cx="35856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Rectangle 27"/>
              <p:cNvSpPr/>
              <p:nvPr/>
            </p:nvSpPr>
            <p:spPr>
              <a:xfrm>
                <a:off x="687528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Rectangle 28"/>
              <p:cNvSpPr/>
              <p:nvPr/>
            </p:nvSpPr>
            <p:spPr>
              <a:xfrm>
                <a:off x="723564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Rectangle 29"/>
              <p:cNvSpPr/>
              <p:nvPr/>
            </p:nvSpPr>
            <p:spPr>
              <a:xfrm>
                <a:off x="759456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Rectangle 30"/>
              <p:cNvSpPr/>
              <p:nvPr/>
            </p:nvSpPr>
            <p:spPr>
              <a:xfrm>
                <a:off x="795636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31"/>
              <p:cNvSpPr/>
              <p:nvPr/>
            </p:nvSpPr>
            <p:spPr>
              <a:xfrm>
                <a:off x="8315280" y="3326040"/>
                <a:ext cx="358920" cy="64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Text Box 32"/>
            <p:cNvSpPr/>
            <p:nvPr/>
          </p:nvSpPr>
          <p:spPr>
            <a:xfrm rot="16200000">
              <a:off x="214200" y="277164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33"/>
            <p:cNvSpPr/>
            <p:nvPr/>
          </p:nvSpPr>
          <p:spPr>
            <a:xfrm rot="16200000">
              <a:off x="54756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34"/>
            <p:cNvSpPr/>
            <p:nvPr/>
          </p:nvSpPr>
          <p:spPr>
            <a:xfrm rot="16200000">
              <a:off x="97920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35"/>
            <p:cNvSpPr/>
            <p:nvPr/>
          </p:nvSpPr>
          <p:spPr>
            <a:xfrm rot="16200000">
              <a:off x="1339560" y="28108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36"/>
            <p:cNvSpPr/>
            <p:nvPr/>
          </p:nvSpPr>
          <p:spPr>
            <a:xfrm rot="16200000">
              <a:off x="1699920" y="28108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37"/>
            <p:cNvSpPr/>
            <p:nvPr/>
          </p:nvSpPr>
          <p:spPr>
            <a:xfrm rot="16200000">
              <a:off x="206028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38"/>
            <p:cNvSpPr/>
            <p:nvPr/>
          </p:nvSpPr>
          <p:spPr>
            <a:xfrm rot="16200000">
              <a:off x="242064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39"/>
            <p:cNvSpPr/>
            <p:nvPr/>
          </p:nvSpPr>
          <p:spPr>
            <a:xfrm rot="16200000">
              <a:off x="277956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40"/>
            <p:cNvSpPr/>
            <p:nvPr/>
          </p:nvSpPr>
          <p:spPr>
            <a:xfrm rot="16200000">
              <a:off x="313992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41"/>
            <p:cNvSpPr/>
            <p:nvPr/>
          </p:nvSpPr>
          <p:spPr>
            <a:xfrm rot="16200000">
              <a:off x="350028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42"/>
            <p:cNvSpPr/>
            <p:nvPr/>
          </p:nvSpPr>
          <p:spPr>
            <a:xfrm rot="16200000">
              <a:off x="386064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43"/>
            <p:cNvSpPr/>
            <p:nvPr/>
          </p:nvSpPr>
          <p:spPr>
            <a:xfrm rot="16200000">
              <a:off x="422100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44"/>
            <p:cNvSpPr/>
            <p:nvPr/>
          </p:nvSpPr>
          <p:spPr>
            <a:xfrm rot="16200000">
              <a:off x="457992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45"/>
            <p:cNvSpPr/>
            <p:nvPr/>
          </p:nvSpPr>
          <p:spPr>
            <a:xfrm rot="16200000">
              <a:off x="494028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46"/>
            <p:cNvSpPr/>
            <p:nvPr/>
          </p:nvSpPr>
          <p:spPr>
            <a:xfrm rot="16200000">
              <a:off x="530064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47"/>
            <p:cNvSpPr/>
            <p:nvPr/>
          </p:nvSpPr>
          <p:spPr>
            <a:xfrm rot="16200000">
              <a:off x="566100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48"/>
            <p:cNvSpPr/>
            <p:nvPr/>
          </p:nvSpPr>
          <p:spPr>
            <a:xfrm rot="16200000">
              <a:off x="602136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49"/>
            <p:cNvSpPr/>
            <p:nvPr/>
          </p:nvSpPr>
          <p:spPr>
            <a:xfrm rot="16200000">
              <a:off x="637992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50"/>
            <p:cNvSpPr/>
            <p:nvPr/>
          </p:nvSpPr>
          <p:spPr>
            <a:xfrm rot="16200000">
              <a:off x="674028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51"/>
            <p:cNvSpPr/>
            <p:nvPr/>
          </p:nvSpPr>
          <p:spPr>
            <a:xfrm rot="16200000">
              <a:off x="710064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52"/>
            <p:cNvSpPr/>
            <p:nvPr/>
          </p:nvSpPr>
          <p:spPr>
            <a:xfrm rot="16200000">
              <a:off x="746100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53"/>
            <p:cNvSpPr/>
            <p:nvPr/>
          </p:nvSpPr>
          <p:spPr>
            <a:xfrm rot="16200000">
              <a:off x="782136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54"/>
            <p:cNvSpPr/>
            <p:nvPr/>
          </p:nvSpPr>
          <p:spPr>
            <a:xfrm rot="16200000">
              <a:off x="8180280" y="28098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55"/>
          <p:cNvSpPr/>
          <p:nvPr/>
        </p:nvSpPr>
        <p:spPr>
          <a:xfrm>
            <a:off x="396720" y="3314880"/>
            <a:ext cx="1440000" cy="661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56"/>
          <p:cNvSpPr/>
          <p:nvPr/>
        </p:nvSpPr>
        <p:spPr>
          <a:xfrm>
            <a:off x="1835280" y="3314880"/>
            <a:ext cx="1439640" cy="661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7"/>
          <p:cNvSpPr/>
          <p:nvPr/>
        </p:nvSpPr>
        <p:spPr>
          <a:xfrm>
            <a:off x="3274920" y="3314880"/>
            <a:ext cx="1440000" cy="661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58"/>
          <p:cNvSpPr/>
          <p:nvPr/>
        </p:nvSpPr>
        <p:spPr>
          <a:xfrm>
            <a:off x="4714920" y="3314880"/>
            <a:ext cx="1439640" cy="661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59"/>
          <p:cNvSpPr/>
          <p:nvPr/>
        </p:nvSpPr>
        <p:spPr>
          <a:xfrm>
            <a:off x="6154560" y="3314880"/>
            <a:ext cx="1440000" cy="661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60"/>
          <p:cNvSpPr/>
          <p:nvPr/>
        </p:nvSpPr>
        <p:spPr>
          <a:xfrm rot="16200000">
            <a:off x="1020960" y="3379680"/>
            <a:ext cx="188640" cy="1440000"/>
          </a:xfrm>
          <a:custGeom>
            <a:avLst/>
            <a:gdLst>
              <a:gd name="textAreaLeft" fmla="*/ 120600 w 188640"/>
              <a:gd name="textAreaRight" fmla="*/ 189000 w 188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61"/>
          <p:cNvSpPr/>
          <p:nvPr/>
        </p:nvSpPr>
        <p:spPr>
          <a:xfrm rot="16200000">
            <a:off x="2460600" y="3379680"/>
            <a:ext cx="188640" cy="1439640"/>
          </a:xfrm>
          <a:custGeom>
            <a:avLst/>
            <a:gdLst>
              <a:gd name="textAreaLeft" fmla="*/ 120600 w 188640"/>
              <a:gd name="textAreaRight" fmla="*/ 189000 w 188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62"/>
          <p:cNvSpPr/>
          <p:nvPr/>
        </p:nvSpPr>
        <p:spPr>
          <a:xfrm rot="16200000">
            <a:off x="3900600" y="3379680"/>
            <a:ext cx="188640" cy="1440000"/>
          </a:xfrm>
          <a:custGeom>
            <a:avLst/>
            <a:gdLst>
              <a:gd name="textAreaLeft" fmla="*/ 120600 w 188640"/>
              <a:gd name="textAreaRight" fmla="*/ 189000 w 188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63"/>
          <p:cNvSpPr/>
          <p:nvPr/>
        </p:nvSpPr>
        <p:spPr>
          <a:xfrm rot="16200000">
            <a:off x="5340240" y="3363840"/>
            <a:ext cx="188640" cy="1439640"/>
          </a:xfrm>
          <a:custGeom>
            <a:avLst/>
            <a:gdLst>
              <a:gd name="textAreaLeft" fmla="*/ 120600 w 188640"/>
              <a:gd name="textAreaRight" fmla="*/ 189000 w 188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64"/>
          <p:cNvSpPr/>
          <p:nvPr/>
        </p:nvSpPr>
        <p:spPr>
          <a:xfrm rot="16200000">
            <a:off x="6780240" y="3363840"/>
            <a:ext cx="188640" cy="1440000"/>
          </a:xfrm>
          <a:custGeom>
            <a:avLst/>
            <a:gdLst>
              <a:gd name="textAreaLeft" fmla="*/ 120600 w 188640"/>
              <a:gd name="textAreaRight" fmla="*/ 189000 w 188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65"/>
          <p:cNvSpPr/>
          <p:nvPr/>
        </p:nvSpPr>
        <p:spPr>
          <a:xfrm>
            <a:off x="677880" y="4313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6"/>
          <p:cNvSpPr/>
          <p:nvPr/>
        </p:nvSpPr>
        <p:spPr>
          <a:xfrm>
            <a:off x="2117880" y="4308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7"/>
          <p:cNvSpPr/>
          <p:nvPr/>
        </p:nvSpPr>
        <p:spPr>
          <a:xfrm>
            <a:off x="3565440" y="4316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8"/>
          <p:cNvSpPr/>
          <p:nvPr/>
        </p:nvSpPr>
        <p:spPr>
          <a:xfrm>
            <a:off x="5005440" y="431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9"/>
          <p:cNvSpPr/>
          <p:nvPr/>
        </p:nvSpPr>
        <p:spPr>
          <a:xfrm>
            <a:off x="6445440" y="4308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70"/>
          <p:cNvSpPr/>
          <p:nvPr/>
        </p:nvSpPr>
        <p:spPr>
          <a:xfrm>
            <a:off x="486000" y="5699160"/>
            <a:ext cx="803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и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ётся неинициализированным, т.е. а его пять целых перем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не внесено. Там находится т.н. «мусор» - остатки о работы предыдущ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71"/>
          <p:cNvSpPr/>
          <p:nvPr/>
        </p:nvSpPr>
        <p:spPr>
          <a:xfrm>
            <a:off x="466560" y="486252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0000"/>
                </a:solidFill>
                <a:latin typeface="Arial"/>
              </a:rPr>
              <a:t>Обратите особое ВНИМ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0000"/>
                </a:solidFill>
                <a:latin typeface="Arial"/>
              </a:rPr>
              <a:t>нумерация элементов всех массивов в </a:t>
            </a:r>
            <a:r>
              <a:rPr b="1" lang="en-US" sz="1600" spc="-1" strike="noStrike">
                <a:solidFill>
                  <a:srgbClr val="f20000"/>
                </a:solidFill>
                <a:latin typeface="Arial"/>
              </a:rPr>
              <a:t>C/C++ </a:t>
            </a:r>
            <a:r>
              <a:rPr b="1" lang="ru-RU" sz="1600" spc="-1" strike="noStrike">
                <a:solidFill>
                  <a:srgbClr val="f20000"/>
                </a:solidFill>
                <a:latin typeface="Arial"/>
              </a:rPr>
              <a:t>всегда начинается с нуля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Интерпретатор командной строки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Windows</a:t>
            </a:r>
            <a:br>
              <a:rPr sz="2000"/>
            </a:b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и его основные коман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960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апуск: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435640" y="2265480"/>
            <a:ext cx="2808360" cy="358560"/>
          </a:xfrm>
          <a:prstGeom prst="wedgeEllipseCallout">
            <a:avLst>
              <a:gd name="adj1" fmla="val -87759"/>
              <a:gd name="adj2" fmla="val 1699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ang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re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5961240" y="2890800"/>
            <a:ext cx="2808000" cy="358920"/>
          </a:xfrm>
          <a:prstGeom prst="wedgeEllipseCallout">
            <a:avLst>
              <a:gd name="adj1" fmla="val -79171"/>
              <a:gd name="adj2" fmla="val 144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6227640" y="3860640"/>
            <a:ext cx="2484720" cy="360360"/>
          </a:xfrm>
          <a:prstGeom prst="wedgeEllipseCallout">
            <a:avLst>
              <a:gd name="adj1" fmla="val -116837"/>
              <a:gd name="adj2" fmla="val 1059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k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re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156360" y="4479840"/>
            <a:ext cx="2465280" cy="360360"/>
          </a:xfrm>
          <a:prstGeom prst="wedgeEllipseCallout">
            <a:avLst>
              <a:gd name="adj1" fmla="val -123083"/>
              <a:gd name="adj2" fmla="val 2797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6237360" y="5030640"/>
            <a:ext cx="2465280" cy="360360"/>
          </a:xfrm>
          <a:prstGeom prst="wedgeEllipseCallout">
            <a:avLst>
              <a:gd name="adj1" fmla="val -78333"/>
              <a:gd name="adj2" fmla="val 169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 - 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24000" y="1989000"/>
            <a:ext cx="849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408240" indent="-40824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08240" indent="-408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Основные коман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24000" y="2781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d 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мя_каталога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мена рабочего каталога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d .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на один уровень вверх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d \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ерейти в корневой каталог д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24000" y="3429000"/>
            <a:ext cx="849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ir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осмотр содержимого каталога в подробн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файлы записаны строчными</a:t>
            </a: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буквами, каталоги заглав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ir /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ывод содержимого каталога в кратком ви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ir *.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расш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осмотр файлов с заданным расшир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324000" y="4292640"/>
            <a:ext cx="849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d 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мя_каталога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создание нового катал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24000" y="4653000"/>
            <a:ext cx="8496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d 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мя_каталога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даление пустого катал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24000" y="501336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el 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мя_файла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.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расширениае_имени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удаление фай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el *.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расшир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даление всех файлов с заданным расшир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el *.*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удаление всех файлов в катало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24000" y="5661000"/>
            <a:ext cx="849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opy  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файл1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  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файл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копирование фай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24000" y="6021360"/>
            <a:ext cx="84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При копировании необходимо указывать полный путь к «файлу1</a:t>
            </a: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 к </a:t>
            </a: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файлу2</a:t>
            </a: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copy c:\MinGW\cpp\test1\test1.cpp c:\MinGW\cpp\tes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24000" y="2349360"/>
            <a:ext cx="8496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мя_диска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: &lt;Enter&gt;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мена рабочего д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395280" y="1197000"/>
            <a:ext cx="84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кн. «Пуск» -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«Все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ограммы» -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«Стандартные» -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«Командная стро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кн. «Пуск» -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gt;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«Выполнить» -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&gt; cmd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ыполнить пункт 1. и, удерживая клавишу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trl,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левой кн. мыши перетащить значок «Командной строки» на «Рабочий сто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4"/>
          <p:cNvSpPr/>
          <p:nvPr/>
        </p:nvSpPr>
        <p:spPr>
          <a:xfrm>
            <a:off x="250920" y="442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бъявление массивов в програм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5"/>
          <p:cNvSpPr/>
          <p:nvPr/>
        </p:nvSpPr>
        <p:spPr>
          <a:xfrm>
            <a:off x="395280" y="593640"/>
            <a:ext cx="835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 =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 =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римеры объявления одномерных масс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==================================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неинициализированный массив целых чисел размерно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 массив дробных чисел размерности 7, инициализированный сп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{11.2,12.3,13.4,14.5,15.6,16.7,17.8}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 массив символов размерности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неинициализированный массив длины 3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дробн. чисел двойной т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примеры объявления двумерных масс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==================================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неинициализированный массив 5х7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дробных чисел двойной точноч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1 [5] [7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 массив логических переменных 3х4, инициализированный сп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o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 [N] [M] = {{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4"/>
          <p:cNvSpPr/>
          <p:nvPr/>
        </p:nvSpPr>
        <p:spPr>
          <a:xfrm>
            <a:off x="419400" y="404640"/>
            <a:ext cx="831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0000"/>
                </a:solidFill>
                <a:latin typeface="Arial"/>
              </a:rPr>
              <a:t>Интересный и очень важный факт: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as =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&amp;mas[0]</a:t>
            </a:r>
            <a:r>
              <a:rPr b="1" lang="en-US" sz="1600" spc="-1" strike="noStrike">
                <a:solidFill>
                  <a:srgbClr val="f20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f20000"/>
                </a:solidFill>
                <a:latin typeface="Arial"/>
              </a:rPr>
              <a:t>Это значит имя массива э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0000"/>
                </a:solidFill>
                <a:latin typeface="Arial"/>
              </a:rPr>
              <a:t>указатель на его первый элемен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5"/>
          <p:cNvSpPr/>
          <p:nvPr/>
        </p:nvSpPr>
        <p:spPr>
          <a:xfrm>
            <a:off x="395280" y="1052640"/>
            <a:ext cx="835344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отрим фрагмент програм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объявление массива из 7-ми чисел с плавающей точ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// одновременная инициализация массива набором из 7-ми чис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[7] = {1.1, 2.2, 3.3, 4.4, 5.5, 6.6, 7.7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1 = fa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допустимое присваивание, т.к. и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f1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и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fa –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указатели на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/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f1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указывает на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fa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fa[0]&lt;&lt;endl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вывод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*f1&lt;&lt;endl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// вывод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// инкрементация указателя, тепер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f1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указывает на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fa[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1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fa[1]&lt;&lt;endl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вывод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*f1&lt;&lt;endl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// вывод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// инкрементация указателя, тепер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f1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указывает на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fa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1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fa[1]&lt;&lt;endl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// вывод 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t&lt;&lt;*f1&lt;&lt;endl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// вывод 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[1] = 0.22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600" spc="-1" strike="noStrike">
                <a:solidFill>
                  <a:srgbClr val="009999"/>
                </a:solidFill>
                <a:latin typeface="Arial"/>
              </a:rPr>
              <a:t>меняем 2-й элемент массива на 0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декрементация указателя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f1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, теперь он снова указывает на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fa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1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fa[1]&lt;&lt;endl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вывод 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*f1&lt;&lt;endl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// вывод 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6"/>
          <p:cNvSpPr/>
          <p:nvPr/>
        </p:nvSpPr>
        <p:spPr>
          <a:xfrm>
            <a:off x="25092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Массивы и указ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4"/>
          <p:cNvSpPr/>
          <p:nvPr/>
        </p:nvSpPr>
        <p:spPr>
          <a:xfrm>
            <a:off x="322200" y="2602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ставление алгоритмов и программ с масс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5"/>
          <p:cNvSpPr/>
          <p:nvPr/>
        </p:nvSpPr>
        <p:spPr>
          <a:xfrm>
            <a:off x="684360" y="90792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ый задач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ультин_С_С++_в задачах и примерах.pdf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9, 150, 151,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15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15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15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159, 161,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1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меченные задачи – разбираем в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 Box 4"/>
          <p:cNvSpPr/>
          <p:nvPr/>
        </p:nvSpPr>
        <p:spPr>
          <a:xfrm>
            <a:off x="395280" y="115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2. Написать программу, которая проверяет, есть ли во введен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лавиатуры массиве элементы с одинаковым знач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6"/>
          <p:cNvSpPr/>
          <p:nvPr/>
        </p:nvSpPr>
        <p:spPr>
          <a:xfrm>
            <a:off x="1473120" y="4883040"/>
            <a:ext cx="19479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9"/>
          <p:cNvSpPr/>
          <p:nvPr/>
        </p:nvSpPr>
        <p:spPr>
          <a:xfrm>
            <a:off x="1722600" y="5603760"/>
            <a:ext cx="1439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11"/>
          <p:cNvSpPr/>
          <p:nvPr/>
        </p:nvSpPr>
        <p:spPr>
          <a:xfrm>
            <a:off x="2811600" y="14130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12"/>
          <p:cNvSpPr/>
          <p:nvPr/>
        </p:nvSpPr>
        <p:spPr>
          <a:xfrm flipH="1">
            <a:off x="2461680" y="452268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14"/>
          <p:cNvSpPr/>
          <p:nvPr/>
        </p:nvSpPr>
        <p:spPr>
          <a:xfrm>
            <a:off x="6862680" y="5186520"/>
            <a:ext cx="0" cy="117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22"/>
          <p:cNvSpPr/>
          <p:nvPr/>
        </p:nvSpPr>
        <p:spPr>
          <a:xfrm flipH="1">
            <a:off x="6632640" y="5186520"/>
            <a:ext cx="21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23"/>
          <p:cNvSpPr/>
          <p:nvPr/>
        </p:nvSpPr>
        <p:spPr>
          <a:xfrm>
            <a:off x="1116000" y="1700280"/>
            <a:ext cx="3371760" cy="3603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масси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27"/>
          <p:cNvSpPr/>
          <p:nvPr/>
        </p:nvSpPr>
        <p:spPr>
          <a:xfrm>
            <a:off x="5796000" y="60930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36"/>
          <p:cNvSpPr/>
          <p:nvPr/>
        </p:nvSpPr>
        <p:spPr>
          <a:xfrm>
            <a:off x="2092320" y="1052640"/>
            <a:ext cx="1440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38"/>
          <p:cNvSpPr/>
          <p:nvPr/>
        </p:nvSpPr>
        <p:spPr>
          <a:xfrm>
            <a:off x="2309760" y="2349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39"/>
          <p:cNvSpPr/>
          <p:nvPr/>
        </p:nvSpPr>
        <p:spPr>
          <a:xfrm>
            <a:off x="2828880" y="2060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40"/>
          <p:cNvSpPr/>
          <p:nvPr/>
        </p:nvSpPr>
        <p:spPr>
          <a:xfrm>
            <a:off x="2843280" y="2708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41"/>
          <p:cNvSpPr/>
          <p:nvPr/>
        </p:nvSpPr>
        <p:spPr>
          <a:xfrm>
            <a:off x="2324160" y="2997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42"/>
          <p:cNvSpPr/>
          <p:nvPr/>
        </p:nvSpPr>
        <p:spPr>
          <a:xfrm>
            <a:off x="3765600" y="4280040"/>
            <a:ext cx="1008000" cy="5029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&lt;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43"/>
          <p:cNvSpPr/>
          <p:nvPr/>
        </p:nvSpPr>
        <p:spPr>
          <a:xfrm>
            <a:off x="2252520" y="3645000"/>
            <a:ext cx="11671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=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44"/>
          <p:cNvSpPr/>
          <p:nvPr/>
        </p:nvSpPr>
        <p:spPr>
          <a:xfrm>
            <a:off x="2843280" y="33577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45"/>
          <p:cNvSpPr/>
          <p:nvPr/>
        </p:nvSpPr>
        <p:spPr>
          <a:xfrm>
            <a:off x="4284720" y="3089160"/>
            <a:ext cx="11160" cy="73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47"/>
          <p:cNvSpPr/>
          <p:nvPr/>
        </p:nvSpPr>
        <p:spPr>
          <a:xfrm>
            <a:off x="4773600" y="4537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48"/>
          <p:cNvSpPr/>
          <p:nvPr/>
        </p:nvSpPr>
        <p:spPr>
          <a:xfrm>
            <a:off x="5003640" y="3614760"/>
            <a:ext cx="0" cy="9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49"/>
          <p:cNvSpPr/>
          <p:nvPr/>
        </p:nvSpPr>
        <p:spPr>
          <a:xfrm>
            <a:off x="5003640" y="361620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50"/>
          <p:cNvSpPr/>
          <p:nvPr/>
        </p:nvSpPr>
        <p:spPr>
          <a:xfrm>
            <a:off x="5278320" y="3371760"/>
            <a:ext cx="100836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&lt;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51"/>
          <p:cNvSpPr/>
          <p:nvPr/>
        </p:nvSpPr>
        <p:spPr>
          <a:xfrm>
            <a:off x="5781600" y="38750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52"/>
          <p:cNvSpPr/>
          <p:nvPr/>
        </p:nvSpPr>
        <p:spPr>
          <a:xfrm>
            <a:off x="5278320" y="4164120"/>
            <a:ext cx="100836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!=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53"/>
          <p:cNvSpPr/>
          <p:nvPr/>
        </p:nvSpPr>
        <p:spPr>
          <a:xfrm>
            <a:off x="5781600" y="46674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54"/>
          <p:cNvSpPr/>
          <p:nvPr/>
        </p:nvSpPr>
        <p:spPr>
          <a:xfrm>
            <a:off x="4905360" y="4940280"/>
            <a:ext cx="1727280" cy="503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[i]==A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55"/>
          <p:cNvSpPr/>
          <p:nvPr/>
        </p:nvSpPr>
        <p:spPr>
          <a:xfrm>
            <a:off x="5207040" y="5732640"/>
            <a:ext cx="11667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6"/>
          <p:cNvSpPr/>
          <p:nvPr/>
        </p:nvSpPr>
        <p:spPr>
          <a:xfrm>
            <a:off x="5781600" y="544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57"/>
          <p:cNvSpPr/>
          <p:nvPr/>
        </p:nvSpPr>
        <p:spPr>
          <a:xfrm>
            <a:off x="5281560" y="53881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58"/>
          <p:cNvSpPr/>
          <p:nvPr/>
        </p:nvSpPr>
        <p:spPr>
          <a:xfrm>
            <a:off x="6421680" y="4653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59"/>
          <p:cNvSpPr/>
          <p:nvPr/>
        </p:nvSpPr>
        <p:spPr>
          <a:xfrm>
            <a:off x="5149800" y="4581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60"/>
          <p:cNvSpPr/>
          <p:nvPr/>
        </p:nvSpPr>
        <p:spPr>
          <a:xfrm>
            <a:off x="5294160" y="3860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61"/>
          <p:cNvSpPr/>
          <p:nvPr/>
        </p:nvSpPr>
        <p:spPr>
          <a:xfrm>
            <a:off x="4573440" y="4005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63"/>
          <p:cNvSpPr/>
          <p:nvPr/>
        </p:nvSpPr>
        <p:spPr>
          <a:xfrm flipV="1">
            <a:off x="7824960" y="5694120"/>
            <a:ext cx="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65"/>
          <p:cNvSpPr/>
          <p:nvPr/>
        </p:nvSpPr>
        <p:spPr>
          <a:xfrm>
            <a:off x="6286680" y="4422600"/>
            <a:ext cx="86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67"/>
          <p:cNvSpPr/>
          <p:nvPr/>
        </p:nvSpPr>
        <p:spPr>
          <a:xfrm>
            <a:off x="3494520" y="4149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68"/>
          <p:cNvSpPr/>
          <p:nvPr/>
        </p:nvSpPr>
        <p:spPr>
          <a:xfrm>
            <a:off x="5758200" y="30830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69"/>
          <p:cNvSpPr/>
          <p:nvPr/>
        </p:nvSpPr>
        <p:spPr>
          <a:xfrm>
            <a:off x="6302520" y="407664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71"/>
          <p:cNvSpPr/>
          <p:nvPr/>
        </p:nvSpPr>
        <p:spPr>
          <a:xfrm>
            <a:off x="2452680" y="4522680"/>
            <a:ext cx="0" cy="3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72"/>
          <p:cNvSpPr/>
          <p:nvPr/>
        </p:nvSpPr>
        <p:spPr>
          <a:xfrm>
            <a:off x="2455920" y="53150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73"/>
          <p:cNvSpPr/>
          <p:nvPr/>
        </p:nvSpPr>
        <p:spPr>
          <a:xfrm>
            <a:off x="7148520" y="4422600"/>
            <a:ext cx="0" cy="194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74"/>
          <p:cNvSpPr/>
          <p:nvPr/>
        </p:nvSpPr>
        <p:spPr>
          <a:xfrm flipH="1" flipV="1">
            <a:off x="5797440" y="6367320"/>
            <a:ext cx="20433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75"/>
          <p:cNvSpPr/>
          <p:nvPr/>
        </p:nvSpPr>
        <p:spPr>
          <a:xfrm>
            <a:off x="3417840" y="38037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76"/>
          <p:cNvSpPr/>
          <p:nvPr/>
        </p:nvSpPr>
        <p:spPr>
          <a:xfrm flipH="1" flipV="1">
            <a:off x="5778000" y="3081240"/>
            <a:ext cx="1800" cy="27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77"/>
          <p:cNvSpPr/>
          <p:nvPr/>
        </p:nvSpPr>
        <p:spPr>
          <a:xfrm flipH="1">
            <a:off x="5554440" y="30812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78"/>
          <p:cNvSpPr/>
          <p:nvPr/>
        </p:nvSpPr>
        <p:spPr>
          <a:xfrm>
            <a:off x="7308720" y="5338800"/>
            <a:ext cx="100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=j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79"/>
          <p:cNvSpPr/>
          <p:nvPr/>
        </p:nvSpPr>
        <p:spPr>
          <a:xfrm flipV="1">
            <a:off x="7812000" y="359892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80"/>
          <p:cNvSpPr/>
          <p:nvPr/>
        </p:nvSpPr>
        <p:spPr>
          <a:xfrm flipH="1">
            <a:off x="6270480" y="3611520"/>
            <a:ext cx="1541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81"/>
          <p:cNvSpPr/>
          <p:nvPr/>
        </p:nvSpPr>
        <p:spPr>
          <a:xfrm>
            <a:off x="4559400" y="2852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83"/>
          <p:cNvSpPr/>
          <p:nvPr/>
        </p:nvSpPr>
        <p:spPr>
          <a:xfrm flipH="1">
            <a:off x="4282560" y="308124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84"/>
          <p:cNvSpPr/>
          <p:nvPr/>
        </p:nvSpPr>
        <p:spPr>
          <a:xfrm>
            <a:off x="4284720" y="378936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nodeType="clickEffect" fill="hold">
                      <p:stCondLst>
                        <p:cond delay="indefinite"/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9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2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8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6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nodeType="clickEffect" fill="hold">
                      <p:stCondLst>
                        <p:cond delay="indefinite"/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7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2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8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1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3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1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4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7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5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7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5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4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4"/>
          <p:cNvSpPr/>
          <p:nvPr/>
        </p:nvSpPr>
        <p:spPr>
          <a:xfrm>
            <a:off x="25092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имвольные массивы и строки в стиле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5"/>
          <p:cNvGrpSpPr/>
          <p:nvPr/>
        </p:nvGrpSpPr>
        <p:grpSpPr>
          <a:xfrm>
            <a:off x="395280" y="4801320"/>
            <a:ext cx="8278920" cy="1410120"/>
            <a:chOff x="395280" y="4801320"/>
            <a:chExt cx="8278920" cy="1410120"/>
          </a:xfrm>
        </p:grpSpPr>
        <p:grpSp>
          <p:nvGrpSpPr>
            <p:cNvPr id="1085" name="Group 6"/>
            <p:cNvGrpSpPr/>
            <p:nvPr/>
          </p:nvGrpSpPr>
          <p:grpSpPr>
            <a:xfrm>
              <a:off x="395280" y="5564160"/>
              <a:ext cx="8278920" cy="647280"/>
              <a:chOff x="395280" y="5564160"/>
              <a:chExt cx="8278920" cy="647280"/>
            </a:xfrm>
          </p:grpSpPr>
          <p:sp>
            <p:nvSpPr>
              <p:cNvPr id="1086" name="Rectangle 7"/>
              <p:cNvSpPr/>
              <p:nvPr/>
            </p:nvSpPr>
            <p:spPr>
              <a:xfrm>
                <a:off x="395280" y="556416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8"/>
              <p:cNvSpPr/>
              <p:nvPr/>
            </p:nvSpPr>
            <p:spPr>
              <a:xfrm>
                <a:off x="75384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9"/>
              <p:cNvSpPr/>
              <p:nvPr/>
            </p:nvSpPr>
            <p:spPr>
              <a:xfrm>
                <a:off x="1116000" y="556416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0"/>
              <p:cNvSpPr/>
              <p:nvPr/>
            </p:nvSpPr>
            <p:spPr>
              <a:xfrm>
                <a:off x="147456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11"/>
              <p:cNvSpPr/>
              <p:nvPr/>
            </p:nvSpPr>
            <p:spPr>
              <a:xfrm>
                <a:off x="183492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12"/>
              <p:cNvSpPr/>
              <p:nvPr/>
            </p:nvSpPr>
            <p:spPr>
              <a:xfrm>
                <a:off x="219384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13"/>
              <p:cNvSpPr/>
              <p:nvPr/>
            </p:nvSpPr>
            <p:spPr>
              <a:xfrm>
                <a:off x="2556000" y="556416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14"/>
              <p:cNvSpPr/>
              <p:nvPr/>
            </p:nvSpPr>
            <p:spPr>
              <a:xfrm>
                <a:off x="291456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15"/>
              <p:cNvSpPr/>
              <p:nvPr/>
            </p:nvSpPr>
            <p:spPr>
              <a:xfrm>
                <a:off x="3276720" y="556416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16"/>
              <p:cNvSpPr/>
              <p:nvPr/>
            </p:nvSpPr>
            <p:spPr>
              <a:xfrm>
                <a:off x="363528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17"/>
              <p:cNvSpPr/>
              <p:nvPr/>
            </p:nvSpPr>
            <p:spPr>
              <a:xfrm>
                <a:off x="3997440" y="556416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18"/>
              <p:cNvSpPr/>
              <p:nvPr/>
            </p:nvSpPr>
            <p:spPr>
              <a:xfrm>
                <a:off x="435600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19"/>
              <p:cNvSpPr/>
              <p:nvPr/>
            </p:nvSpPr>
            <p:spPr>
              <a:xfrm>
                <a:off x="471636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20"/>
              <p:cNvSpPr/>
              <p:nvPr/>
            </p:nvSpPr>
            <p:spPr>
              <a:xfrm>
                <a:off x="5075280" y="556416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21"/>
              <p:cNvSpPr/>
              <p:nvPr/>
            </p:nvSpPr>
            <p:spPr>
              <a:xfrm>
                <a:off x="543708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22"/>
              <p:cNvSpPr/>
              <p:nvPr/>
            </p:nvSpPr>
            <p:spPr>
              <a:xfrm>
                <a:off x="5796000" y="556416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23"/>
              <p:cNvSpPr/>
              <p:nvPr/>
            </p:nvSpPr>
            <p:spPr>
              <a:xfrm>
                <a:off x="615456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24"/>
              <p:cNvSpPr/>
              <p:nvPr/>
            </p:nvSpPr>
            <p:spPr>
              <a:xfrm>
                <a:off x="6516720" y="5564160"/>
                <a:ext cx="35856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25"/>
              <p:cNvSpPr/>
              <p:nvPr/>
            </p:nvSpPr>
            <p:spPr>
              <a:xfrm>
                <a:off x="687528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26"/>
              <p:cNvSpPr/>
              <p:nvPr/>
            </p:nvSpPr>
            <p:spPr>
              <a:xfrm>
                <a:off x="723564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27"/>
              <p:cNvSpPr/>
              <p:nvPr/>
            </p:nvSpPr>
            <p:spPr>
              <a:xfrm>
                <a:off x="759456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Rectangle 28"/>
              <p:cNvSpPr/>
              <p:nvPr/>
            </p:nvSpPr>
            <p:spPr>
              <a:xfrm>
                <a:off x="795636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29"/>
              <p:cNvSpPr/>
              <p:nvPr/>
            </p:nvSpPr>
            <p:spPr>
              <a:xfrm>
                <a:off x="8315280" y="5564160"/>
                <a:ext cx="358920" cy="64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9" name="Text Box 30"/>
            <p:cNvSpPr/>
            <p:nvPr/>
          </p:nvSpPr>
          <p:spPr>
            <a:xfrm rot="16200000">
              <a:off x="214200" y="50094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31"/>
            <p:cNvSpPr/>
            <p:nvPr/>
          </p:nvSpPr>
          <p:spPr>
            <a:xfrm rot="16200000">
              <a:off x="54756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32"/>
            <p:cNvSpPr/>
            <p:nvPr/>
          </p:nvSpPr>
          <p:spPr>
            <a:xfrm rot="16200000">
              <a:off x="97920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33"/>
            <p:cNvSpPr/>
            <p:nvPr/>
          </p:nvSpPr>
          <p:spPr>
            <a:xfrm rot="16200000">
              <a:off x="1339560" y="50493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34"/>
            <p:cNvSpPr/>
            <p:nvPr/>
          </p:nvSpPr>
          <p:spPr>
            <a:xfrm rot="16200000">
              <a:off x="1699920" y="50493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35"/>
            <p:cNvSpPr/>
            <p:nvPr/>
          </p:nvSpPr>
          <p:spPr>
            <a:xfrm rot="16200000">
              <a:off x="206028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36"/>
            <p:cNvSpPr/>
            <p:nvPr/>
          </p:nvSpPr>
          <p:spPr>
            <a:xfrm rot="16200000">
              <a:off x="242064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37"/>
            <p:cNvSpPr/>
            <p:nvPr/>
          </p:nvSpPr>
          <p:spPr>
            <a:xfrm rot="16200000">
              <a:off x="277956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 rot="16200000">
              <a:off x="313992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39"/>
            <p:cNvSpPr/>
            <p:nvPr/>
          </p:nvSpPr>
          <p:spPr>
            <a:xfrm rot="16200000">
              <a:off x="350028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40"/>
            <p:cNvSpPr/>
            <p:nvPr/>
          </p:nvSpPr>
          <p:spPr>
            <a:xfrm rot="16200000">
              <a:off x="386064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41"/>
            <p:cNvSpPr/>
            <p:nvPr/>
          </p:nvSpPr>
          <p:spPr>
            <a:xfrm rot="16200000">
              <a:off x="422100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42"/>
            <p:cNvSpPr/>
            <p:nvPr/>
          </p:nvSpPr>
          <p:spPr>
            <a:xfrm rot="16200000">
              <a:off x="457992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43"/>
            <p:cNvSpPr/>
            <p:nvPr/>
          </p:nvSpPr>
          <p:spPr>
            <a:xfrm rot="16200000">
              <a:off x="494028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6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44"/>
            <p:cNvSpPr/>
            <p:nvPr/>
          </p:nvSpPr>
          <p:spPr>
            <a:xfrm rot="16200000">
              <a:off x="530064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45"/>
            <p:cNvSpPr/>
            <p:nvPr/>
          </p:nvSpPr>
          <p:spPr>
            <a:xfrm rot="16200000">
              <a:off x="566100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46"/>
            <p:cNvSpPr/>
            <p:nvPr/>
          </p:nvSpPr>
          <p:spPr>
            <a:xfrm rot="16200000">
              <a:off x="602136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47"/>
            <p:cNvSpPr/>
            <p:nvPr/>
          </p:nvSpPr>
          <p:spPr>
            <a:xfrm rot="16200000">
              <a:off x="637992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48"/>
            <p:cNvSpPr/>
            <p:nvPr/>
          </p:nvSpPr>
          <p:spPr>
            <a:xfrm rot="16200000">
              <a:off x="674028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49"/>
            <p:cNvSpPr/>
            <p:nvPr/>
          </p:nvSpPr>
          <p:spPr>
            <a:xfrm rot="16200000">
              <a:off x="710064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50"/>
            <p:cNvSpPr/>
            <p:nvPr/>
          </p:nvSpPr>
          <p:spPr>
            <a:xfrm rot="16200000">
              <a:off x="746100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51"/>
            <p:cNvSpPr/>
            <p:nvPr/>
          </p:nvSpPr>
          <p:spPr>
            <a:xfrm rot="16200000">
              <a:off x="782136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52"/>
            <p:cNvSpPr/>
            <p:nvPr/>
          </p:nvSpPr>
          <p:spPr>
            <a:xfrm rot="16200000">
              <a:off x="8180280" y="50472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234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Text Box 53"/>
          <p:cNvSpPr/>
          <p:nvPr/>
        </p:nvSpPr>
        <p:spPr>
          <a:xfrm>
            <a:off x="250920" y="1916280"/>
            <a:ext cx="8642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лассическом языке Си отсутствует специальный тип данных «строка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место это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ются символьные массивы, т.е. массивы элементов типа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а так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ивов, а следовательно и д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к, ограничена только разме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туп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 компьютера. Призна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ершения строки в памяти служ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ершающий строку «нулевой» символ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‘\0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4"/>
          <p:cNvSpPr/>
          <p:nvPr/>
        </p:nvSpPr>
        <p:spPr>
          <a:xfrm>
            <a:off x="250920" y="404640"/>
            <a:ext cx="864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ычно в большинстве компьютеров и операционных систем один символ занимает в памяти 1 байт, т.е. 8 бит. Что позволяет закодировать 2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256 разных знаков. Исключение составляет система кодиров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которой один символ кодируется 2 байтами, т.е. 16 битами. Это уже позволяет закодировать 2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65536 разных символов, т.е. в одну систему кодировки «помещаются» все национальные алфавиты зем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56"/>
          <p:cNvSpPr/>
          <p:nvPr/>
        </p:nvSpPr>
        <p:spPr>
          <a:xfrm>
            <a:off x="250920" y="3357720"/>
            <a:ext cx="8642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имер следующие объявления эквивалент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s1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"Здесь был Вася!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s2[50] =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"Вася изучал язык C++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*s3 =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"Теперь Вася может написать программу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57"/>
          <p:cNvSpPr/>
          <p:nvPr/>
        </p:nvSpPr>
        <p:spPr>
          <a:xfrm>
            <a:off x="381240" y="5726160"/>
            <a:ext cx="57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З    д   е    с    ь          б   ы   л          В   а    с    я    !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58"/>
          <p:cNvSpPr/>
          <p:nvPr/>
        </p:nvSpPr>
        <p:spPr>
          <a:xfrm>
            <a:off x="268200" y="6326280"/>
            <a:ext cx="68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0000"/>
                </a:solidFill>
                <a:latin typeface="Arial"/>
              </a:rPr>
              <a:t>Обратите внимание на завершающий нулевой символ в конце стро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59"/>
          <p:cNvSpPr/>
          <p:nvPr/>
        </p:nvSpPr>
        <p:spPr>
          <a:xfrm>
            <a:off x="250920" y="446076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е из них будет выглядеть в памяти компьютера примерно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nodeType="clickEffect" fill="hold">
                      <p:stCondLst>
                        <p:cond delay="indefinite"/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0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nodeType="clickEffect" fill="hold">
                      <p:stCondLst>
                        <p:cond delay="indefinite"/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2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7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nodeType="clickEffect" fill="hold">
                      <p:stCondLst>
                        <p:cond delay="indefinite"/>
                      </p:stCondLst>
                      <p:childTnLst>
                        <p:par>
                          <p:cTn id="2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4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4"/>
          <p:cNvSpPr/>
          <p:nvPr/>
        </p:nvSpPr>
        <p:spPr>
          <a:xfrm>
            <a:off x="250920" y="1224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точки зрения языка Си тип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вляется разновидностью целого ти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самый короткий целочисленный тип, занимающий в памяти всего 1 байт (8 би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числовой тип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ет быть двух вид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 знаком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gned 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 просто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диапазон значений от -128 до 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nsigned 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диапазон значений от 0 до 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250920" y="1628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для числового типа, для ти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стна, например, следующая програм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ящая степени двойки от 0-вой до 9-той:</a:t>
            </a:r>
            <a:br>
              <a:rPr sz="1600"/>
            </a:br>
            <a:br>
              <a:rPr sz="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=0; i&lt;10; ++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“2^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i&lt;&lt;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“=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pow(2,i)&lt;&lt;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6"/>
          <p:cNvSpPr/>
          <p:nvPr/>
        </p:nvSpPr>
        <p:spPr>
          <a:xfrm>
            <a:off x="250920" y="3357720"/>
            <a:ext cx="864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способы описания (объявления) строк в программ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“О, сколько нам открытий чудных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50] =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«Готовит просвещенья дух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«И опыт – сын ошибок трудных,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«И гений – парадоксов друг,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[50] = {‘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‘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ч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й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‘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‘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г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‘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л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ь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,’\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7"/>
          <p:cNvSpPr/>
          <p:nvPr/>
        </p:nvSpPr>
        <p:spPr>
          <a:xfrm>
            <a:off x="272880" y="5157720"/>
            <a:ext cx="850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ите внимание, что если строка записывается в тексте программы в двой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вычках, т.е. в виде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“О, сколько нам открытий чудных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о оконечный ноль допис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необходимости, т.к. компилятор сделает это за нас самостоя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20000"/>
                </a:solidFill>
                <a:latin typeface="Arial"/>
              </a:rPr>
              <a:t>В случае же задания строки в виде массива (Е</a:t>
            </a:r>
            <a:r>
              <a:rPr b="0" lang="en-US" sz="1600" spc="-1" strike="noStrike">
                <a:solidFill>
                  <a:srgbClr val="f20000"/>
                </a:solidFill>
                <a:latin typeface="Arial"/>
              </a:rPr>
              <a:t>[50])</a:t>
            </a:r>
            <a:r>
              <a:rPr b="0" lang="ru-RU" sz="1600" spc="-1" strike="noStrike">
                <a:solidFill>
                  <a:srgbClr val="f20000"/>
                </a:solidFill>
                <a:latin typeface="Arial"/>
              </a:rPr>
              <a:t>, оконечный ноль программ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0000"/>
                </a:solidFill>
                <a:latin typeface="Arial"/>
              </a:rPr>
              <a:t>должен записать самостоя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5" dur="indefinite" restart="never" nodeType="tmRoot">
          <p:childTnLst>
            <p:seq>
              <p:cTn id="2346" dur="indefinite" nodeType="mainSeq">
                <p:childTnLst>
                  <p:par>
                    <p:cTn id="2347" nodeType="clickEffect" fill="hold">
                      <p:stCondLst>
                        <p:cond delay="indefinite"/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0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4"/>
          <p:cNvSpPr/>
          <p:nvPr/>
        </p:nvSpPr>
        <p:spPr>
          <a:xfrm>
            <a:off x="25092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сновные функции для работы со строками в стиле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250920" y="47484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тим, что программе сделаны следующие объяв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1[80], s2[8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"/>
          <p:cNvGraphicFramePr/>
          <p:nvPr/>
        </p:nvGraphicFramePr>
        <p:xfrm>
          <a:off x="428760" y="1741320"/>
          <a:ext cx="8339040" cy="4759560"/>
        </p:xfrm>
        <a:graphic>
          <a:graphicData uri="http://schemas.openxmlformats.org/drawingml/2006/table">
            <a:tbl>
              <a:tblPr/>
              <a:tblGrid>
                <a:gridCol w="3552840"/>
                <a:gridCol w="47862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Фун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Описание 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char *strcat(char*s1, const char *s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Присоединяет копию строк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2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к строке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и завершает строку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нулевым символом.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озвращает указатель на новую «склеенную» строку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 s1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1. char *strcpy(char *s1, const char *s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2. char *strncpy(char *s1, const char *s2, size_t 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Копирует содержимое строк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2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 строку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. Строка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2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должна завершаться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‘\0’.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озвращает указатель на новую строку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.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торой вариант функци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trncpy()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копирует только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n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первых символов из строк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ize_t strlen(char *s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озвращает длину строк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 (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без нулевого символа). Тип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ize_t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эквивалент типа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i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int strcmp(const char *s1, const char *s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ыполняет лексикографическое сравнение двух строк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2.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озвращает значение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&lt;0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, есл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&lt;s2, 0,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есл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==s2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&gt;0,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есл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&gt;s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char *strchr(const char *s1, int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озвращает указатель на первое вхождение символа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c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 строку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.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Если такого символа не найдено, то возвращается 0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указатель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 (false)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char *strstr(const char *s1, const char *s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озвращает указатель на первое вхождение строки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1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в строку 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s2. </a:t>
                      </a:r>
                      <a:r>
                        <a:rPr b="0" lang="ru-RU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Если такого вхождения не обнаружено, то возвращается нулевой указатель (0-</a:t>
                      </a:r>
                      <a:r>
                        <a:rPr b="0" lang="en-US" sz="14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fals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45" name="TextBox 6"/>
          <p:cNvSpPr/>
          <p:nvPr/>
        </p:nvSpPr>
        <p:spPr>
          <a:xfrm>
            <a:off x="285840" y="128592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5" dur="indefinite" restart="never" nodeType="tmRoot">
          <p:childTnLst>
            <p:seq>
              <p:cTn id="2376" dur="indefinite" nodeType="mainSeq">
                <p:childTnLst>
                  <p:par>
                    <p:cTn id="2377" nodeType="clickEffect" fill="hold">
                      <p:stCondLst>
                        <p:cond delay="indefinite"/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nodeType="clickEffect" fill="hold">
                      <p:stCondLst>
                        <p:cond delay="indefinite"/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8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1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4"/>
          <p:cNvSpPr/>
          <p:nvPr/>
        </p:nvSpPr>
        <p:spPr>
          <a:xfrm>
            <a:off x="25092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ставление алгоритмов и программ работы со стро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5"/>
          <p:cNvSpPr/>
          <p:nvPr/>
        </p:nvSpPr>
        <p:spPr>
          <a:xfrm>
            <a:off x="500040" y="907920"/>
            <a:ext cx="796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ый задач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.М. Златопольский - Сборник задач по программированию.djv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.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9.5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.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9.8, 9.11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.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.24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.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31, 9.3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меченные задачи – разбираем в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4"/>
          <p:cNvSpPr/>
          <p:nvPr/>
        </p:nvSpPr>
        <p:spPr>
          <a:xfrm>
            <a:off x="179280" y="182520"/>
            <a:ext cx="873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4 Составить программу, которая запрашивает название государ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его столицы, а затем выводит сообщение: "Столица государства ... - город ..." (на месте многоточий должны быть выведены соответствующие знач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46"/>
          <p:cNvSpPr/>
          <p:nvPr/>
        </p:nvSpPr>
        <p:spPr>
          <a:xfrm>
            <a:off x="250920" y="1341360"/>
            <a:ext cx="8640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[50], capital[50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ведите название государства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in&gt;&gt;st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ведите название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столицы государства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in&gt;&gt;capi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Столица государства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state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– город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capital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“paus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4"/>
          <p:cNvSpPr/>
          <p:nvPr/>
        </p:nvSpPr>
        <p:spPr>
          <a:xfrm>
            <a:off x="179280" y="195120"/>
            <a:ext cx="873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6 Даны названия двух стран. Присвоить эти названия переменным s1 и s2, после чего название s2 присвоить величине t1, а название s1 - величине t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46"/>
          <p:cNvSpPr/>
          <p:nvPr/>
        </p:nvSpPr>
        <p:spPr>
          <a:xfrm>
            <a:off x="250920" y="1125360"/>
            <a:ext cx="8640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rin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1[30], s2[30], t1[30], t2[30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ведите название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1-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го государства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&gt;&gt;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ведите название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го государства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&gt;&gt;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cpy(t1,s1); strcpy(t2,s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звание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1-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го государства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end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звание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го государства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paus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1" dur="indefinite" restart="never" nodeType="tmRoot">
          <p:childTnLst>
            <p:seq>
              <p:cTn id="2402" dur="indefinite" nodeType="mainSeq">
                <p:childTnLst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95280" y="1159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оцесс разработки программного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66560" y="1442880"/>
            <a:ext cx="244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тирование исход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ста Модуля-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2914560" y="165888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4282920" y="1442880"/>
            <a:ext cx="1511280" cy="57636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Удач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917800" y="140184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компиля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5794200" y="165888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795640" y="140184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8e00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6311880" y="1539720"/>
            <a:ext cx="10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-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"/>
          <p:cNvSpPr/>
          <p:nvPr/>
        </p:nvSpPr>
        <p:spPr>
          <a:xfrm flipH="1">
            <a:off x="1618560" y="990720"/>
            <a:ext cx="3816360" cy="430200"/>
          </a:xfrm>
          <a:custGeom>
            <a:avLst/>
            <a:gdLst>
              <a:gd name="textAreaLeft" fmla="*/ 674640 w 3816360"/>
              <a:gd name="textAreaRight" fmla="*/ 2747160 w 3816360"/>
              <a:gd name="textAreaTop" fmla="*/ 57600 h 430200"/>
              <a:gd name="textAreaBottom" fmla="*/ 372600 h 43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36" hR="21600" stAng="10800000" swAng="5400000"/>
                <a:lnTo>
                  <a:pt x="11730" y="0"/>
                </a:lnTo>
                <a:arcTo wR="7636" hR="21600" stAng="-5400000" swAng="1290008"/>
                <a:lnTo>
                  <a:pt x="19647" y="7173"/>
                </a:lnTo>
                <a:lnTo>
                  <a:pt x="17319" y="21600"/>
                </a:lnTo>
                <a:lnTo>
                  <a:pt x="11085" y="7173"/>
                </a:lnTo>
                <a:lnTo>
                  <a:pt x="13319" y="7173"/>
                </a:lnTo>
                <a:arcTo wR="7636" hR="21600" stAng="-4109992" swAng="-952925"/>
                <a:lnTo>
                  <a:pt x="9683" y="791"/>
                </a:lnTo>
                <a:arcTo wR="7636" hR="21600" stAng="-5737083" swAng="-5062917"/>
                <a:close/>
              </a:path>
              <a:path fill="darkenLess" w="21600" h="21600">
                <a:moveTo>
                  <a:pt x="0" y="21600"/>
                </a:moveTo>
                <a:arcTo wR="7636" hR="21600" stAng="10800000" swAng="5400000"/>
                <a:lnTo>
                  <a:pt x="7636" y="0"/>
                </a:lnTo>
                <a:arcTo wR="7636" hR="21600" stAng="-5400000" swAng="337083"/>
                <a:lnTo>
                  <a:pt x="9683" y="791"/>
                </a:lnTo>
                <a:arcTo wR="7636" hR="21600" stAng="-5737083" swAng="-5062917"/>
                <a:close/>
              </a:path>
            </a:pathLst>
          </a:custGeom>
          <a:solidFill>
            <a:srgbClr val="ffa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3502440" y="69372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Нет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466560" y="2984400"/>
            <a:ext cx="244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тирование исход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ста Модуля-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2914560" y="320040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5"/>
          <p:cNvSpPr/>
          <p:nvPr/>
        </p:nvSpPr>
        <p:spPr>
          <a:xfrm>
            <a:off x="4282920" y="2984400"/>
            <a:ext cx="1511280" cy="57636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Удач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2917800" y="2943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компиля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7"/>
          <p:cNvSpPr/>
          <p:nvPr/>
        </p:nvSpPr>
        <p:spPr>
          <a:xfrm>
            <a:off x="5794200" y="320040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5795640" y="294336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8e00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6311880" y="3081240"/>
            <a:ext cx="10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-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0"/>
          <p:cNvSpPr/>
          <p:nvPr/>
        </p:nvSpPr>
        <p:spPr>
          <a:xfrm flipH="1">
            <a:off x="1618560" y="2532240"/>
            <a:ext cx="3816360" cy="430200"/>
          </a:xfrm>
          <a:custGeom>
            <a:avLst/>
            <a:gdLst>
              <a:gd name="textAreaLeft" fmla="*/ 674640 w 3816360"/>
              <a:gd name="textAreaRight" fmla="*/ 2747160 w 3816360"/>
              <a:gd name="textAreaTop" fmla="*/ 57600 h 430200"/>
              <a:gd name="textAreaBottom" fmla="*/ 372600 h 43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36" hR="21600" stAng="10800000" swAng="5400000"/>
                <a:lnTo>
                  <a:pt x="11730" y="0"/>
                </a:lnTo>
                <a:arcTo wR="7636" hR="21600" stAng="-5400000" swAng="1290008"/>
                <a:lnTo>
                  <a:pt x="19647" y="7173"/>
                </a:lnTo>
                <a:lnTo>
                  <a:pt x="17319" y="21600"/>
                </a:lnTo>
                <a:lnTo>
                  <a:pt x="11085" y="7173"/>
                </a:lnTo>
                <a:lnTo>
                  <a:pt x="13319" y="7173"/>
                </a:lnTo>
                <a:arcTo wR="7636" hR="21600" stAng="-4109992" swAng="-952925"/>
                <a:lnTo>
                  <a:pt x="9683" y="791"/>
                </a:lnTo>
                <a:arcTo wR="7636" hR="21600" stAng="-5737083" swAng="-5062917"/>
                <a:close/>
              </a:path>
              <a:path fill="darkenLess" w="21600" h="21600">
                <a:moveTo>
                  <a:pt x="0" y="21600"/>
                </a:moveTo>
                <a:arcTo wR="7636" hR="21600" stAng="10800000" swAng="5400000"/>
                <a:lnTo>
                  <a:pt x="7636" y="0"/>
                </a:lnTo>
                <a:arcTo wR="7636" hR="21600" stAng="-5400000" swAng="337083"/>
                <a:lnTo>
                  <a:pt x="9683" y="791"/>
                </a:lnTo>
                <a:arcTo wR="7636" hR="21600" stAng="-5737083" swAng="-5062917"/>
                <a:close/>
              </a:path>
            </a:pathLst>
          </a:custGeom>
          <a:solidFill>
            <a:srgbClr val="ffa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3502440" y="223524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Нет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2"/>
          <p:cNvSpPr/>
          <p:nvPr/>
        </p:nvSpPr>
        <p:spPr>
          <a:xfrm>
            <a:off x="466560" y="4540320"/>
            <a:ext cx="244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тирование исход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ста Модуля-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3"/>
          <p:cNvSpPr/>
          <p:nvPr/>
        </p:nvSpPr>
        <p:spPr>
          <a:xfrm>
            <a:off x="2914560" y="475632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4"/>
          <p:cNvSpPr/>
          <p:nvPr/>
        </p:nvSpPr>
        <p:spPr>
          <a:xfrm>
            <a:off x="4282920" y="4540320"/>
            <a:ext cx="1511280" cy="57636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Удач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917800" y="449892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компиля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6"/>
          <p:cNvSpPr/>
          <p:nvPr/>
        </p:nvSpPr>
        <p:spPr>
          <a:xfrm>
            <a:off x="5794200" y="475632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7"/>
          <p:cNvSpPr/>
          <p:nvPr/>
        </p:nvSpPr>
        <p:spPr>
          <a:xfrm>
            <a:off x="5795640" y="449892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8e00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8"/>
          <p:cNvSpPr/>
          <p:nvPr/>
        </p:nvSpPr>
        <p:spPr>
          <a:xfrm>
            <a:off x="6311880" y="4637160"/>
            <a:ext cx="10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-…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9"/>
          <p:cNvSpPr/>
          <p:nvPr/>
        </p:nvSpPr>
        <p:spPr>
          <a:xfrm flipH="1">
            <a:off x="1618560" y="4087800"/>
            <a:ext cx="3816360" cy="430200"/>
          </a:xfrm>
          <a:custGeom>
            <a:avLst/>
            <a:gdLst>
              <a:gd name="textAreaLeft" fmla="*/ 674640 w 3816360"/>
              <a:gd name="textAreaRight" fmla="*/ 2747160 w 3816360"/>
              <a:gd name="textAreaTop" fmla="*/ 57600 h 430200"/>
              <a:gd name="textAreaBottom" fmla="*/ 372600 h 43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36" hR="21600" stAng="10800000" swAng="5400000"/>
                <a:lnTo>
                  <a:pt x="11730" y="0"/>
                </a:lnTo>
                <a:arcTo wR="7636" hR="21600" stAng="-5400000" swAng="1290008"/>
                <a:lnTo>
                  <a:pt x="19647" y="7173"/>
                </a:lnTo>
                <a:lnTo>
                  <a:pt x="17319" y="21600"/>
                </a:lnTo>
                <a:lnTo>
                  <a:pt x="11085" y="7173"/>
                </a:lnTo>
                <a:lnTo>
                  <a:pt x="13319" y="7173"/>
                </a:lnTo>
                <a:arcTo wR="7636" hR="21600" stAng="-4109992" swAng="-952925"/>
                <a:lnTo>
                  <a:pt x="9683" y="791"/>
                </a:lnTo>
                <a:arcTo wR="7636" hR="21600" stAng="-5737083" swAng="-5062917"/>
                <a:close/>
              </a:path>
              <a:path fill="darkenLess" w="21600" h="21600">
                <a:moveTo>
                  <a:pt x="0" y="21600"/>
                </a:moveTo>
                <a:arcTo wR="7636" hR="21600" stAng="10800000" swAng="5400000"/>
                <a:lnTo>
                  <a:pt x="7636" y="0"/>
                </a:lnTo>
                <a:arcTo wR="7636" hR="21600" stAng="-5400000" swAng="337083"/>
                <a:lnTo>
                  <a:pt x="9683" y="791"/>
                </a:lnTo>
                <a:arcTo wR="7636" hR="21600" stAng="-5737083" swAng="-5062917"/>
                <a:close/>
              </a:path>
            </a:pathLst>
          </a:custGeom>
          <a:solidFill>
            <a:srgbClr val="ffa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0"/>
          <p:cNvSpPr/>
          <p:nvPr/>
        </p:nvSpPr>
        <p:spPr>
          <a:xfrm>
            <a:off x="3501720" y="37908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Нет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7380360" y="1628640"/>
            <a:ext cx="1224000" cy="511344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1086480 h 5113440"/>
              <a:gd name="textAreaBottom" fmla="*/ 3416760 h 511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79" stAng="-5400000" swAng="5400000"/>
                <a:lnTo>
                  <a:pt x="21600" y="9844"/>
                </a:lnTo>
                <a:arcTo wR="21600" hR="9179" stAng="0" swAng="1791697"/>
                <a:lnTo>
                  <a:pt x="12850" y="19799"/>
                </a:lnTo>
                <a:lnTo>
                  <a:pt x="0" y="18690"/>
                </a:lnTo>
                <a:lnTo>
                  <a:pt x="12850" y="13978"/>
                </a:lnTo>
                <a:lnTo>
                  <a:pt x="12850" y="16556"/>
                </a:lnTo>
                <a:arcTo wR="21600" hR="9179" stAng="1791697" swAng="-1738747"/>
                <a:lnTo>
                  <a:pt x="21586" y="9511"/>
                </a:lnTo>
                <a:arcTo wR="21600" hR="9179" stAng="-52950" swAng="-5347050"/>
                <a:close/>
              </a:path>
              <a:path fill="darkenLess" w="21600" h="21600">
                <a:moveTo>
                  <a:pt x="0" y="0"/>
                </a:moveTo>
                <a:arcTo wR="21600" hR="9179" stAng="-5400000" swAng="5400000"/>
                <a:lnTo>
                  <a:pt x="21600" y="9844"/>
                </a:lnTo>
                <a:arcTo wR="21600" hR="9179" stAng="0" swAng="-52950"/>
                <a:lnTo>
                  <a:pt x="21586" y="9511"/>
                </a:lnTo>
                <a:arcTo wR="21600" hR="9179" stAng="-52950" swAng="-534705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7405560" y="3240000"/>
            <a:ext cx="1486080" cy="3214800"/>
          </a:xfrm>
          <a:custGeom>
            <a:avLst/>
            <a:gdLst>
              <a:gd name="textAreaLeft" fmla="*/ 199080 w 1486080"/>
              <a:gd name="textAreaRight" fmla="*/ 1287000 w 1486080"/>
              <a:gd name="textAreaTop" fmla="*/ 682200 h 3214800"/>
              <a:gd name="textAreaBottom" fmla="*/ 2157120 h 32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70" stAng="-5400000" swAng="5400000"/>
                <a:lnTo>
                  <a:pt x="21600" y="9907"/>
                </a:lnTo>
                <a:arcTo wR="21600" hR="9170" stAng="0" swAng="2669109"/>
                <a:lnTo>
                  <a:pt x="8570" y="20847"/>
                </a:lnTo>
                <a:lnTo>
                  <a:pt x="0" y="18709"/>
                </a:lnTo>
                <a:lnTo>
                  <a:pt x="8570" y="15064"/>
                </a:lnTo>
                <a:lnTo>
                  <a:pt x="8570" y="17587"/>
                </a:lnTo>
                <a:arcTo wR="21600" hR="9170" stAng="2669109" swAng="-2610419"/>
                <a:lnTo>
                  <a:pt x="21583" y="9539"/>
                </a:lnTo>
                <a:arcTo wR="21600" hR="9170" stAng="-58690" swAng="-5341310"/>
                <a:close/>
              </a:path>
              <a:path fill="darkenLess" w="21600" h="21600">
                <a:moveTo>
                  <a:pt x="0" y="0"/>
                </a:moveTo>
                <a:arcTo wR="21600" hR="9170" stAng="-5400000" swAng="5400000"/>
                <a:lnTo>
                  <a:pt x="21600" y="9907"/>
                </a:lnTo>
                <a:arcTo wR="21600" hR="9170" stAng="0" swAng="-58690"/>
                <a:lnTo>
                  <a:pt x="21583" y="9539"/>
                </a:lnTo>
                <a:arcTo wR="21600" hR="9170" stAng="-58690" swAng="-534131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4"/>
          <p:cNvSpPr/>
          <p:nvPr/>
        </p:nvSpPr>
        <p:spPr>
          <a:xfrm>
            <a:off x="7392960" y="4751280"/>
            <a:ext cx="1571760" cy="143856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299880 h 1438560"/>
              <a:gd name="textAreaBottom" fmla="*/ 1016280 h 143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12" stAng="-5400000" swAng="5400000"/>
                <a:lnTo>
                  <a:pt x="21600" y="10752"/>
                </a:lnTo>
                <a:arcTo wR="21600" hR="9012" stAng="0" swAng="2829830"/>
                <a:lnTo>
                  <a:pt x="7793" y="20993"/>
                </a:lnTo>
                <a:lnTo>
                  <a:pt x="0" y="18894"/>
                </a:lnTo>
                <a:lnTo>
                  <a:pt x="7793" y="15581"/>
                </a:lnTo>
                <a:lnTo>
                  <a:pt x="7793" y="17417"/>
                </a:lnTo>
                <a:arcTo wR="21600" hR="9012" stAng="2829830" swAng="-2690791"/>
                <a:lnTo>
                  <a:pt x="21499" y="9882"/>
                </a:lnTo>
                <a:arcTo wR="21600" hR="9012" stAng="-139039" swAng="-5260961"/>
                <a:close/>
              </a:path>
              <a:path fill="darkenLess" w="21600" h="21600">
                <a:moveTo>
                  <a:pt x="0" y="0"/>
                </a:moveTo>
                <a:arcTo wR="21600" hR="9012" stAng="-5400000" swAng="5400000"/>
                <a:lnTo>
                  <a:pt x="21600" y="10752"/>
                </a:lnTo>
                <a:arcTo wR="21600" hR="9012" stAng="0" swAng="-139039"/>
                <a:lnTo>
                  <a:pt x="21499" y="9882"/>
                </a:lnTo>
                <a:arcTo wR="21600" hR="9012" stAng="-139039" swAng="-5260961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5"/>
          <p:cNvSpPr/>
          <p:nvPr/>
        </p:nvSpPr>
        <p:spPr>
          <a:xfrm>
            <a:off x="5867280" y="5734080"/>
            <a:ext cx="1511280" cy="57636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Удач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7353360" y="29098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8e00"/>
                </a:solidFill>
                <a:latin typeface="Arial"/>
              </a:rPr>
              <a:t>сбо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9"/>
          <p:cNvSpPr/>
          <p:nvPr/>
        </p:nvSpPr>
        <p:spPr>
          <a:xfrm>
            <a:off x="7353360" y="13255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8e00"/>
                </a:solidFill>
                <a:latin typeface="Arial"/>
              </a:rPr>
              <a:t>сбо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0"/>
          <p:cNvSpPr/>
          <p:nvPr/>
        </p:nvSpPr>
        <p:spPr>
          <a:xfrm>
            <a:off x="7353360" y="44211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8e00"/>
                </a:solidFill>
                <a:latin typeface="Arial"/>
              </a:rPr>
              <a:t>сбо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1"/>
          <p:cNvSpPr/>
          <p:nvPr/>
        </p:nvSpPr>
        <p:spPr>
          <a:xfrm>
            <a:off x="5219640" y="5878440"/>
            <a:ext cx="647640" cy="289080"/>
          </a:xfrm>
          <a:prstGeom prst="leftArrow">
            <a:avLst>
              <a:gd name="adj1" fmla="val 50000"/>
              <a:gd name="adj2" fmla="val 56009"/>
            </a:avLst>
          </a:prstGeom>
          <a:solidFill>
            <a:srgbClr val="ffa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2"/>
          <p:cNvSpPr/>
          <p:nvPr/>
        </p:nvSpPr>
        <p:spPr>
          <a:xfrm>
            <a:off x="2771640" y="5734080"/>
            <a:ext cx="2448000" cy="576360"/>
          </a:xfrm>
          <a:prstGeom prst="rect">
            <a:avLst/>
          </a:prstGeom>
          <a:solidFill>
            <a:srgbClr val="ffa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мый моду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3"/>
          <p:cNvSpPr/>
          <p:nvPr/>
        </p:nvSpPr>
        <p:spPr>
          <a:xfrm>
            <a:off x="5394240" y="564516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5d5d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4"/>
          <p:cNvSpPr/>
          <p:nvPr/>
        </p:nvSpPr>
        <p:spPr>
          <a:xfrm>
            <a:off x="250920" y="170028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5"/>
          <p:cNvSpPr/>
          <p:nvPr/>
        </p:nvSpPr>
        <p:spPr>
          <a:xfrm>
            <a:off x="250920" y="328464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6"/>
          <p:cNvSpPr/>
          <p:nvPr/>
        </p:nvSpPr>
        <p:spPr>
          <a:xfrm>
            <a:off x="250920" y="486900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7"/>
          <p:cNvSpPr/>
          <p:nvPr/>
        </p:nvSpPr>
        <p:spPr>
          <a:xfrm>
            <a:off x="250920" y="1700280"/>
            <a:ext cx="0" cy="37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8"/>
          <p:cNvSpPr/>
          <p:nvPr/>
        </p:nvSpPr>
        <p:spPr>
          <a:xfrm>
            <a:off x="250920" y="5445000"/>
            <a:ext cx="637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9"/>
          <p:cNvSpPr/>
          <p:nvPr/>
        </p:nvSpPr>
        <p:spPr>
          <a:xfrm flipV="1">
            <a:off x="6626160" y="543204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0"/>
          <p:cNvSpPr/>
          <p:nvPr/>
        </p:nvSpPr>
        <p:spPr>
          <a:xfrm>
            <a:off x="3563640" y="51404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Нет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4"/>
          <p:cNvSpPr/>
          <p:nvPr/>
        </p:nvSpPr>
        <p:spPr>
          <a:xfrm>
            <a:off x="230040" y="50760"/>
            <a:ext cx="873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23 Дано слово. Получить его часть, образованную идущими подряд буквами, начиная с m-й кончая n-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46"/>
          <p:cNvSpPr/>
          <p:nvPr/>
        </p:nvSpPr>
        <p:spPr>
          <a:xfrm>
            <a:off x="250920" y="785880"/>
            <a:ext cx="8640720" cy="62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ring&gt;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50], part[50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, m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ведите слово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&gt;&gt;word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омер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1-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го символа вырезки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&gt;&gt;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омер последнего символа вырезки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&gt;&gt;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ncpy(part,&amp;word[m-1],n)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i="1" lang="ru-RU" sz="2000" spc="-1" strike="noStrike">
                <a:solidFill>
                  <a:srgbClr val="009999"/>
                </a:solidFill>
                <a:latin typeface="Arial"/>
              </a:rPr>
              <a:t>копирует только символы стро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word[n]=‘\0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Часть слова с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m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-го по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n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-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й символ: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part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paus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0" dur="indefinite" restart="never" nodeType="tmRoot">
          <p:childTnLst>
            <p:seq>
              <p:cTn id="2411" dur="indefinite" nodeType="mainSeq">
                <p:childTnLst>
                  <p:par>
                    <p:cTn id="2412" nodeType="clickEffect" fill="hold">
                      <p:stCondLst>
                        <p:cond delay="indefinite"/>
                      </p:stCondLst>
                      <p:childTnLst>
                        <p:par>
                          <p:cTn id="2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2"/>
          <p:cNvSpPr/>
          <p:nvPr/>
        </p:nvSpPr>
        <p:spPr>
          <a:xfrm>
            <a:off x="230040" y="189000"/>
            <a:ext cx="87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25 Из слова "информатика" путём "вырезок и склеек его букв получите слова "форма" и "тик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46"/>
          <p:cNvSpPr/>
          <p:nvPr/>
        </p:nvSpPr>
        <p:spPr>
          <a:xfrm>
            <a:off x="250920" y="1125360"/>
            <a:ext cx="864072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dlib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iostream&gt;</a:t>
            </a:r>
            <a:br>
              <a:rPr sz="2000"/>
            </a:b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#include &lt;cstring&gt;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1[30]=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информатика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2[30], s3[30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=2; i&lt;=6; ++i) s2[ i ] = s1[ i 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f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=7; i&lt;=9; ++i) s3[ i ] = s2[ i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s1 =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s1&lt;&lt;end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s2 =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s2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(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“paus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4"/>
          <p:cNvSpPr/>
          <p:nvPr/>
        </p:nvSpPr>
        <p:spPr>
          <a:xfrm>
            <a:off x="25092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ставление алгоритмов и программ работы со стро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5"/>
          <p:cNvSpPr/>
          <p:nvPr/>
        </p:nvSpPr>
        <p:spPr>
          <a:xfrm>
            <a:off x="500040" y="907920"/>
            <a:ext cx="7961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– решать самостоя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ый зада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ультин_С_С++_в задачах и примерах.pdf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оставить программу выводящую заданное сло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брат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ставить программу подсчитывающую число вхождений сло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о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оизвольное сло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водится с клавиатур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сти это слово «с разрядкой» (через пробе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Box 4"/>
          <p:cNvSpPr/>
          <p:nvPr/>
        </p:nvSpPr>
        <p:spPr>
          <a:xfrm>
            <a:off x="25092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ставные пользовательские типы данных.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6"/>
          <p:cNvSpPr/>
          <p:nvPr/>
        </p:nvSpPr>
        <p:spPr>
          <a:xfrm>
            <a:off x="322200" y="40464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- это набор разнотипных переменных, объединённых общим именем. Переменные, входящие в структуру называются её членами, элементами или по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7"/>
          <p:cNvSpPr/>
          <p:nvPr/>
        </p:nvSpPr>
        <p:spPr>
          <a:xfrm>
            <a:off x="322200" y="1284120"/>
            <a:ext cx="864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авило все члены структуры логически связаны друг с другом и в совокупности образуют какую-то единую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адрес человека может состоять из следующих ч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9"/>
          <p:cNvSpPr/>
          <p:nvPr/>
        </p:nvSpPr>
        <p:spPr>
          <a:xfrm>
            <a:off x="322200" y="3529080"/>
            <a:ext cx="864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данных адрес можно объявить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r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[3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ty[3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eet[5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use_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o[8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0"/>
          <p:cNvSpPr/>
          <p:nvPr/>
        </p:nvSpPr>
        <p:spPr>
          <a:xfrm>
            <a:off x="322200" y="61722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0000"/>
                </a:solidFill>
                <a:latin typeface="Arial"/>
              </a:rPr>
              <a:t>Обратите внимание, что объявление структуры обязательно заканчивается точкой с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8" dur="indefinite" restart="never" nodeType="tmRoot">
          <p:childTnLst>
            <p:seq>
              <p:cTn id="2429" dur="indefinite" nodeType="mainSeq">
                <p:childTnLst>
                  <p:par>
                    <p:cTn id="2430" nodeType="clickEffect" fill="hold">
                      <p:stCondLst>
                        <p:cond delay="indefinite"/>
                      </p:stCondLst>
                      <p:childTnLst>
                        <p:par>
                          <p:cTn id="2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1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3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0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7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4"/>
          <p:cNvSpPr/>
          <p:nvPr/>
        </p:nvSpPr>
        <p:spPr>
          <a:xfrm>
            <a:off x="250920" y="1317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можно объявлять уже переменные тип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addr1, add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6"/>
          <p:cNvSpPr/>
          <p:nvPr/>
        </p:nvSpPr>
        <p:spPr>
          <a:xfrm>
            <a:off x="252360" y="76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ваивание значений членам (полям) структуры выполняется с использованием уточняющего квалификатора, состоящего из имени переменной-структуры и т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7"/>
          <p:cNvSpPr/>
          <p:nvPr/>
        </p:nvSpPr>
        <p:spPr>
          <a:xfrm>
            <a:off x="250920" y="176040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1.index=2427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1.state,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1.city,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ков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1.street,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пае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1.house_number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1.fio,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ров Иван Василье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8"/>
          <p:cNvSpPr/>
          <p:nvPr/>
        </p:nvSpPr>
        <p:spPr>
          <a:xfrm>
            <a:off x="250920" y="364500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1.index=2427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1.state,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1.city,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и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1.street,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нны 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1.house_number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1.fio,”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я Саркоз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9"/>
          <p:cNvSpPr/>
          <p:nvPr/>
        </p:nvSpPr>
        <p:spPr>
          <a:xfrm>
            <a:off x="250920" y="5516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ы-переменные можно присваивать друг другу «целиком».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2=addr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этого все члены (поля) структу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и по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1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т содержать да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Иване Ветр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3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0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nodeType="clickEffect" fill="hold">
                      <p:stCondLst>
                        <p:cond delay="indefinite"/>
                      </p:stCondLst>
                      <p:childTnLst>
                        <p:par>
                          <p:cTn id="2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Text Box 4"/>
          <p:cNvSpPr/>
          <p:nvPr/>
        </p:nvSpPr>
        <p:spPr>
          <a:xfrm>
            <a:off x="250920" y="1159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объявлять и использовать в программах массивы структур.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addr_arr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5"/>
          <p:cNvSpPr/>
          <p:nvPr/>
        </p:nvSpPr>
        <p:spPr>
          <a:xfrm>
            <a:off x="250920" y="112536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ваивание полям структур значений в этом случае выполняется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_arr[0].index=12345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_arr[0].state,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_arr[0].city,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шингт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_arr[0].street,”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я Авен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_arr[0].house_number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addr_arr[0].fio,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к Об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6"/>
          <p:cNvSpPr/>
          <p:nvPr/>
        </p:nvSpPr>
        <p:spPr>
          <a:xfrm>
            <a:off x="250920" y="321300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ускается совмещение объявления типа и переменных.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r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[3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ty[3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eet[5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use_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o[8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1, add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7"/>
          <p:cNvSpPr/>
          <p:nvPr/>
        </p:nvSpPr>
        <p:spPr>
          <a:xfrm>
            <a:off x="250920" y="58262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приведенных примерах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овый составной пользовательский тип данных, который может использоваться на ровне со встроенными типами, такими как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8" dur="indefinite" restart="never" nodeType="tmRoot">
          <p:childTnLst>
            <p:seq>
              <p:cTn id="2489" dur="indefinite" nodeType="mainSeq">
                <p:childTnLst>
                  <p:par>
                    <p:cTn id="2490" nodeType="clickEffect" fill="hold">
                      <p:stCondLst>
                        <p:cond delay="indefinite"/>
                      </p:stCondLst>
                      <p:childTnLst>
                        <p:par>
                          <p:cTn id="2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6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3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nodeType="clickEffect" fill="hold">
                      <p:stCondLst>
                        <p:cond delay="indefinite"/>
                      </p:stCondLst>
                      <p:childTnLst>
                        <p:par>
                          <p:cTn id="2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4"/>
          <p:cNvSpPr/>
          <p:nvPr/>
        </p:nvSpPr>
        <p:spPr>
          <a:xfrm>
            <a:off x="32220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ставление программ, использующих тип данных «структу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5"/>
          <p:cNvSpPr/>
          <p:nvPr/>
        </p:nvSpPr>
        <p:spPr>
          <a:xfrm>
            <a:off x="500040" y="907920"/>
            <a:ext cx="796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ый задач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.М. Златопольский - Сборник задач по программированию.djv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3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3.5(1), 13.5(2),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3.6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(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3.7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меченные задачи – разбираем в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Text Box 4"/>
          <p:cNvSpPr/>
          <p:nvPr/>
        </p:nvSpPr>
        <p:spPr>
          <a:xfrm>
            <a:off x="32220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оставление программ, использующих тип данных «структу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5"/>
          <p:cNvSpPr/>
          <p:nvPr/>
        </p:nvSpPr>
        <p:spPr>
          <a:xfrm>
            <a:off x="324000" y="485640"/>
            <a:ext cx="831996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оэтапное решение зада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адача-1: Картотека учёта автомоби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ть программу, содержащую описание структуры «Автомобиль», следующего ви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Тип (грузовой, легков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а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Гос. но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Грузоподъём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Число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исать массив структур типа «Автомобиль». Составить часть программы, обеспечивающую ввод этого массива с клавиа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ить программу кодом, обеспечивающим выборку автомобилей из картотеки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Ти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адача-2: Библиот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ть программу, содержащую описание структуры «Книга», следующего ви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Ав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Наимен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Изд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Год из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Отметка о выдаче на руки (выдана, не выда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исать массив структур типа «Автомобиль». Составить часть программы, обеспечивающую ввод этого массива с клавиа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ить программу кодом, обеспечивающим выборку автомобилей из картотеки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Авт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имен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Издательст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Text Box 4"/>
          <p:cNvSpPr/>
          <p:nvPr/>
        </p:nvSpPr>
        <p:spPr>
          <a:xfrm>
            <a:off x="322200" y="79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трукторное программирование.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4"/>
          <p:cNvSpPr/>
          <p:nvPr/>
        </p:nvSpPr>
        <p:spPr>
          <a:xfrm>
            <a:off x="250920" y="47484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ость операторов программы, заключённая в фигурные скобки, называется программным блоком (блок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z = x/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t = x*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p = x+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s = x-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=sqrt(abs(z*t*p*s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5"/>
          <p:cNvSpPr/>
          <p:nvPr/>
        </p:nvSpPr>
        <p:spPr>
          <a:xfrm>
            <a:off x="3419640" y="1844640"/>
            <a:ext cx="360360" cy="1297080"/>
          </a:xfrm>
          <a:custGeom>
            <a:avLst/>
            <a:gdLst>
              <a:gd name="textAreaLeft" fmla="*/ 0 w 360360"/>
              <a:gd name="textAreaRight" fmla="*/ 129960 w 360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3903840" y="2251080"/>
            <a:ext cx="9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7"/>
          <p:cNvSpPr/>
          <p:nvPr/>
        </p:nvSpPr>
        <p:spPr>
          <a:xfrm>
            <a:off x="250920" y="364500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именованный (имеющий имя) программный блок, которому можно в качестве параметров передавать список аргументов и возвращающий определённое значение (переменную) в результате своей работы, называется функц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вид фун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ип имя_функции ( список_параметров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лок_операт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звращаемое_зна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«список_параметров» имеет вид: Тип1 переменная1,  Тип2 переменная2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1" dur="indefinite" restart="never" nodeType="tmRoot">
          <p:childTnLst>
            <p:seq>
              <p:cTn id="2512" dur="indefinite" nodeType="mainSeq">
                <p:childTnLst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2" dur="2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nodeType="clickEffect" fill="hold">
                      <p:stCondLst>
                        <p:cond delay="indefinite"/>
                      </p:stCondLst>
                      <p:childTnLst>
                        <p:par>
                          <p:cTn id="2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Text Box 4"/>
          <p:cNvSpPr/>
          <p:nvPr/>
        </p:nvSpPr>
        <p:spPr>
          <a:xfrm>
            <a:off x="250920" y="189000"/>
            <a:ext cx="86407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вестны координаты трёх точек, не лежащих на одной прям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(x1,y1), B(x2,y2), C(x3,y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айти периметр и площадь треугольника, вершинами которо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вляются точ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#include &lt;cmat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sing namesp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функция, вычисляющая расстояние между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любыми точками 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1,y1)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(x2,y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---------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 (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1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1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2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2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1, s2, 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 = x2-x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 = y2-y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= sqrt(s1*s1+s2*s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конец функции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// главная фун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//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объявление перем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1, x2, y1, y2, x3, y3, a, b, c, pp, p, 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5:50:57Z</dcterms:created>
  <dc:creator>Козенцев Игорь Александрович</dc:creator>
  <dc:description/>
  <dc:language>en-US</dc:language>
  <cp:lastModifiedBy>user</cp:lastModifiedBy>
  <dcterms:modified xsi:type="dcterms:W3CDTF">2022-01-30T13:41:52Z</dcterms:modified>
  <cp:revision>73</cp:revision>
  <dc:subject/>
  <dc:title>Устройство ПК. Функциональная схема</dc:title>
</cp:coreProperties>
</file>