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2D4-AC4D-420C-9573-0BD52536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FFE-77E9-4A22-BA1B-57F49E0A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D89-903E-4204-BDBC-CE91CE30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FD8-05B4-44A6-9F71-BCEBDB62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902-FFF1-42C7-B669-4CC186D7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CBC-7664-45A2-BB9F-FFCC7C99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D2A-3CB4-4284-A611-862D51E6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4CF-5FB6-497E-B902-429DB550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0C5-3164-432B-A8F2-8CA539F9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596-64F4-4993-A13E-18577ADF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B43-08E5-42C4-BE5F-15EC1CCA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732-F9BE-4232-A8C1-FBDC767F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F2CF-345B-4E03-9778-ADF527C5CA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 достижения планируемых результатов обучения информатике в основной шко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5280" y="3499920"/>
            <a:ext cx="439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информат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ей школы № 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ова Галина Владими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extBox 1" descr=""/>
          <p:cNvPicPr/>
          <p:nvPr/>
        </p:nvPicPr>
        <p:blipFill>
          <a:blip r:embed="rId1"/>
          <a:stretch/>
        </p:blipFill>
        <p:spPr>
          <a:xfrm>
            <a:off x="3273480" y="6022800"/>
            <a:ext cx="135396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и выставления отмет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 контрольную работу и те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Группа 35"/>
          <p:cNvGrpSpPr/>
          <p:nvPr/>
        </p:nvGrpSpPr>
        <p:grpSpPr>
          <a:xfrm>
            <a:off x="1042920" y="1700280"/>
            <a:ext cx="6096240" cy="4064040"/>
            <a:chOff x="1042920" y="1700280"/>
            <a:chExt cx="6096240" cy="4064040"/>
          </a:xfrm>
        </p:grpSpPr>
        <p:pic>
          <p:nvPicPr>
            <p:cNvPr id="79" name="Схема 29" descr=""/>
            <p:cNvPicPr/>
            <p:nvPr/>
          </p:nvPicPr>
          <p:blipFill>
            <a:blip r:embed="rId1"/>
            <a:stretch/>
          </p:blipFill>
          <p:spPr>
            <a:xfrm>
              <a:off x="1042920" y="1700280"/>
              <a:ext cx="6096240" cy="40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Прямоугольник 30"/>
            <p:cNvSpPr/>
            <p:nvPr/>
          </p:nvSpPr>
          <p:spPr>
            <a:xfrm>
              <a:off x="1283040" y="2003040"/>
              <a:ext cx="50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Прямоугольник 32"/>
            <p:cNvSpPr/>
            <p:nvPr/>
          </p:nvSpPr>
          <p:spPr>
            <a:xfrm>
              <a:off x="1606320" y="2923200"/>
              <a:ext cx="591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Прямоугольник 33"/>
            <p:cNvSpPr/>
            <p:nvPr/>
          </p:nvSpPr>
          <p:spPr>
            <a:xfrm>
              <a:off x="1643040" y="3802680"/>
              <a:ext cx="50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Прямоугольник 34"/>
            <p:cNvSpPr/>
            <p:nvPr/>
          </p:nvSpPr>
          <p:spPr>
            <a:xfrm>
              <a:off x="1283040" y="4738320"/>
              <a:ext cx="50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ы и методы оцени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Блок-схема: альтернативный процесс 8"/>
          <p:cNvSpPr/>
          <p:nvPr/>
        </p:nvSpPr>
        <p:spPr>
          <a:xfrm>
            <a:off x="468360" y="1015920"/>
            <a:ext cx="2087640" cy="900360"/>
          </a:xfrm>
          <a:prstGeom prst="flowChartAlternateProcess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ходной контр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Блок-схема: альтернативный процесс 11"/>
          <p:cNvSpPr/>
          <p:nvPr/>
        </p:nvSpPr>
        <p:spPr>
          <a:xfrm>
            <a:off x="444600" y="2717640"/>
            <a:ext cx="2089080" cy="900360"/>
          </a:xfrm>
          <a:prstGeom prst="flowChartAlternateProcess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ущий и тематический контр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Блок-схема: альтернативный процесс 12"/>
          <p:cNvSpPr/>
          <p:nvPr/>
        </p:nvSpPr>
        <p:spPr>
          <a:xfrm>
            <a:off x="463680" y="4489560"/>
            <a:ext cx="2070000" cy="900000"/>
          </a:xfrm>
          <a:prstGeom prst="flowChartAlternateProcess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оговый контр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Блок-схема: альтернативный процесс 13"/>
          <p:cNvSpPr/>
          <p:nvPr/>
        </p:nvSpPr>
        <p:spPr>
          <a:xfrm>
            <a:off x="490680" y="5570640"/>
            <a:ext cx="2043000" cy="900000"/>
          </a:xfrm>
          <a:prstGeom prst="flowChartAlternateProcess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ежуточная аттес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трелка вправо 9"/>
          <p:cNvSpPr/>
          <p:nvPr/>
        </p:nvSpPr>
        <p:spPr>
          <a:xfrm>
            <a:off x="2627280" y="1197000"/>
            <a:ext cx="504720" cy="43164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трелка вправо 15"/>
          <p:cNvSpPr/>
          <p:nvPr/>
        </p:nvSpPr>
        <p:spPr>
          <a:xfrm>
            <a:off x="2658960" y="5877000"/>
            <a:ext cx="505080" cy="431640"/>
          </a:xfrm>
          <a:prstGeom prst="rightArrow">
            <a:avLst>
              <a:gd name="adj1" fmla="val 50000"/>
              <a:gd name="adj2" fmla="val 50045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трелка вправо 16"/>
          <p:cNvSpPr/>
          <p:nvPr/>
        </p:nvSpPr>
        <p:spPr>
          <a:xfrm>
            <a:off x="2652840" y="4722840"/>
            <a:ext cx="504720" cy="43164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трелка вправо 17"/>
          <p:cNvSpPr/>
          <p:nvPr/>
        </p:nvSpPr>
        <p:spPr>
          <a:xfrm>
            <a:off x="2652840" y="2951280"/>
            <a:ext cx="504720" cy="433440"/>
          </a:xfrm>
          <a:prstGeom prst="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Блок-схема: процесс 10"/>
          <p:cNvSpPr/>
          <p:nvPr/>
        </p:nvSpPr>
        <p:spPr>
          <a:xfrm>
            <a:off x="3313080" y="1106640"/>
            <a:ext cx="3100320" cy="612720"/>
          </a:xfrm>
          <a:prstGeom prst="flowChartProcess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ольн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Блок-схема: процесс 19"/>
          <p:cNvSpPr/>
          <p:nvPr/>
        </p:nvSpPr>
        <p:spPr>
          <a:xfrm>
            <a:off x="3314880" y="1827360"/>
            <a:ext cx="3135240" cy="2787480"/>
          </a:xfrm>
          <a:prstGeom prst="flowChartProcess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тный о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аткий пятиминутный обзор-резюме результатов прошлого уро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ольная рабо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рок развивающего контро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с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рта понят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бота в пар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бота в групп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курсы и олимпиа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Блок-схема: процесс 20"/>
          <p:cNvSpPr/>
          <p:nvPr/>
        </p:nvSpPr>
        <p:spPr>
          <a:xfrm>
            <a:off x="3313080" y="4680000"/>
            <a:ext cx="3135240" cy="612720"/>
          </a:xfrm>
          <a:prstGeom prst="flowChartProcess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довая контрольн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стирова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Блок-схема: процесс 21"/>
          <p:cNvSpPr/>
          <p:nvPr/>
        </p:nvSpPr>
        <p:spPr>
          <a:xfrm>
            <a:off x="3313080" y="5715000"/>
            <a:ext cx="3135240" cy="755640"/>
          </a:xfrm>
          <a:prstGeom prst="flowChartProcess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тегрированный зачет = четвертные отметки + отметки за контрольные рабо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Блок-схема: альтернативный процесс 14"/>
          <p:cNvSpPr/>
          <p:nvPr/>
        </p:nvSpPr>
        <p:spPr>
          <a:xfrm>
            <a:off x="7004160" y="998640"/>
            <a:ext cx="1815840" cy="828720"/>
          </a:xfrm>
          <a:prstGeom prst="flowChartAlternateProcess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итериальная оцен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Стрелка вправо 26"/>
          <p:cNvSpPr/>
          <p:nvPr/>
        </p:nvSpPr>
        <p:spPr>
          <a:xfrm>
            <a:off x="6475320" y="1204920"/>
            <a:ext cx="503280" cy="43164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трелка вправо 27"/>
          <p:cNvSpPr/>
          <p:nvPr/>
        </p:nvSpPr>
        <p:spPr>
          <a:xfrm>
            <a:off x="6500880" y="4687920"/>
            <a:ext cx="503280" cy="43164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трелка вправо 28"/>
          <p:cNvSpPr/>
          <p:nvPr/>
        </p:nvSpPr>
        <p:spPr>
          <a:xfrm>
            <a:off x="6500880" y="3005280"/>
            <a:ext cx="503280" cy="43164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Блок-схема: альтернативный процесс 29"/>
          <p:cNvSpPr/>
          <p:nvPr/>
        </p:nvSpPr>
        <p:spPr>
          <a:xfrm>
            <a:off x="7004160" y="2416320"/>
            <a:ext cx="1815840" cy="1520640"/>
          </a:xfrm>
          <a:prstGeom prst="flowChartAlternateProcess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анал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провер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итериальная оцен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флекс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копительные балл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Блок-схема: альтернативный процесс 30"/>
          <p:cNvSpPr/>
          <p:nvPr/>
        </p:nvSpPr>
        <p:spPr>
          <a:xfrm>
            <a:off x="7031160" y="4400640"/>
            <a:ext cx="1815840" cy="828720"/>
          </a:xfrm>
          <a:prstGeom prst="flowChartAlternateProcess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итериальная оцен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 составления контрольно-измерительных материалов по уровню проверяемых знаний и ум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Схема 9" descr=""/>
          <p:cNvPicPr/>
          <p:nvPr/>
        </p:nvPicPr>
        <p:blipFill>
          <a:blip r:embed="rId1"/>
          <a:stretch/>
        </p:blipFill>
        <p:spPr>
          <a:xfrm>
            <a:off x="444600" y="1401840"/>
            <a:ext cx="675468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 составления контрольно-измерительных материалов по форме от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хема 5" descr=""/>
          <p:cNvPicPr/>
          <p:nvPr/>
        </p:nvPicPr>
        <p:blipFill>
          <a:blip r:embed="rId1"/>
          <a:stretch/>
        </p:blipFill>
        <p:spPr>
          <a:xfrm>
            <a:off x="396720" y="1663560"/>
            <a:ext cx="6431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 контрольно-измерительных материа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63680" y="1413000"/>
            <a:ext cx="712764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 контрольно-измерительных материа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55736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для 9 класса по теме «Моделировани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docs.google.com/forms/d/16qyqBdg9CDgD--SCyAnMjwr7AaHrWp_FkmWbQPwvAZg/viewfor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 для учащихся 8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umapalata.com/uschool/expo/Staskevich5495/728.html?LANG=R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тоговый тест «Текстовая информация и компьюте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files.school-collection.edu.ru/dlrstore/65b8bcf3-3029-4995-9eed-35acf30c9bef/9_12.sw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2840" y="368280"/>
            <a:ext cx="4505400" cy="6458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651640" y="183816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контрольно- измерительных матери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и выставления отметок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 устный от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вет оценивается отметкой «5», если учени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о раскрыл содержание материала в объеме, предусмотренном программой и учебник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ложил материал грамотным языком в определенной логической последовательности, точно используя терминологию и символик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ал умение иллюстрировать теоретические положения конкретными примерами, применять их в новой ситуации при выполнении практического зад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л самостоятельно без наводящих вопросов учи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ы одна-две неточности при освещении второстепенных вопросов или выкладках, которые ученик легко исправил по замечанию учител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вет оценивается отметкой «4»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н удовлетворяет в основном требованиям на отметку «5», но при этом имеет один из недостат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зложении допущены незначительные пробелы, не исказившие содержание отв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ущены один-два недочета при освещении основного содержания ответа, легко исправленные по замечанию учител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ущены ошибка или более двух недочетов при освещении второстепенных вопросов или выкладках, легко исправленные по замечанию учи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метка «3» ставится в следующих случая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олно или непоследовательно раскрыто содержание материала, но показано общее понимание вопроса и продемонстрированы умения, достаточные для дальнейшего усвоения программного материала (определенные требованиями к подготовке учащихс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метка «2» ставится в следующих случая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раскрыто основное содержание учебного материа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аружено незнание или неполное понимание учеником большей или наиболее важной части учебного материа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ущены ошибки в определении понятий, при использовании математической терминологии, в рисунках, чертежах или графиках, в выкладках, которые не исправлены после несколь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и выставления отмет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 выполнение практической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ценка «5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работа выполнена в заданное время, самостоятельно, с соблюдением технологической последовательности, качественно и творческ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ценка «4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работа выполнена в заданное время, самостоятельно, с соблюдением технологической последовательности, при выполнении отдельных операций допущены небольшие отклонения; общий вид аккуратны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ценка «3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работа выполнена в заданное время, самостоятельно, с нарушением технологической последовательности, отдельные операции выполнены с отклонением от образца (если не было на то установки); оформлено небрежно или не закончено в срок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ценка «2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ученик самостоятельно не справился с работой, технологическая последовательность нарушена, при выполнении операций допущены большие отклонения, оформлено небрежно и имеет незавершенный ви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Иванова Галина Владимировна</cp:lastModifiedBy>
  <dcterms:modified xsi:type="dcterms:W3CDTF">2023-03-16T09:50:37Z</dcterms:modified>
  <cp:revision>33</cp:revision>
  <dc:subject/>
  <dc:title>Слайд 1</dc:title>
</cp:coreProperties>
</file>