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3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D0C0-56A5-4ACE-A965-10AA12A5E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CE9C-E5C0-44B4-8944-488956D6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0977-27DA-49CD-A405-516D96B42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19B8-F582-4796-8D48-72EB0325A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8246-6078-49B7-A4DB-D96D8FF92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763200"/>
            <a:ext cx="8229600" cy="67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647B-A0E9-4497-9B33-F31ACB00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01A6-1738-4ADD-88D6-1EBC7FCB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D02F-7768-441C-A96D-468CDA02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5125-8983-4569-A457-80775867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-11880"/>
            <a:ext cx="8229600" cy="67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94F7-3866-40A9-81DB-EEB3AD38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C7FA-5E8F-4902-889C-B054947D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763200"/>
            <a:ext cx="8229600" cy="67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BC26-90B0-4BDA-8A1E-5CC153EF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7E59-67CD-4D76-89AC-F030F940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A0BA-6962-446E-AECE-E547F0FB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BBE6-B6E9-487D-96B1-FABA2181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3F4B-14E1-446C-8C04-25B81FE75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3F55-5880-4F82-9A3B-0E96C3394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05BE0-EA91-420C-894B-A452E3E34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763200"/>
            <a:ext cx="8229600" cy="67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4CFF6-6306-4F44-84A8-411A4DFE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71BEA-16CE-484B-B68F-23E1FA0F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DEEA4-1D95-4A37-BCEC-72B41A17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84313-B976-48DA-8380-18B0BD26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947F-4187-418B-A7E5-B9B1063E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-11880"/>
            <a:ext cx="8229600" cy="67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E0765-525F-4D75-8C07-4BFE4DC4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ABA5C-1D48-4E0B-81C4-8B9F7A08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000E8-EAA1-4901-9AF1-3F9575EB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38BDF-1CEF-4DB5-A316-B9A7C495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D459C-3074-48F2-B30F-8D5E0511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24841-DB98-4157-99F9-970F12D4D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6C4E6-6101-49B2-B58B-8940C422F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3102D-87A4-4C8A-A69D-64EE5C6C8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763200"/>
            <a:ext cx="8229600" cy="67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45C33-4BF8-4D34-954E-A4531E83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2A977-0980-4915-B647-4FCB0BB6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3B04-D1AB-45A9-A378-0A9ED349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68050-C32E-4DE3-A358-382E2D29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26E69-A059-4568-A1F5-99272669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-11880"/>
            <a:ext cx="8229600" cy="67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67F17-5613-467C-B791-5BAD0FF7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29E87-A2F0-4847-ABE5-BEC27CAC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EBAF1-FAB3-4156-A18A-751ABE95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ACFDE-4F4E-48C2-A7D9-5BB349BC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43399-43CB-459C-96D9-62E43EC1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BADEA-8752-4546-8A70-1DCBCCA3C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FF666-9FC2-4A53-8DAA-C8ADF9227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622B-99EE-47AC-A49B-4B94CD69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11880"/>
            <a:ext cx="8229600" cy="67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55F1-A874-40B1-A5F8-E81AA143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B4A6-6C49-4F22-9E0C-018F7E5F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03FA-C4F1-4A47-BBE1-65460F82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92C2-A576-4BA6-B303-DC8D72F2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a00">
                  <a:alpha val="45098"/>
                </a:srgbClr>
              </a:gs>
              <a:gs pos="100000">
                <a:srgbClr val="7a759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4607a">
                  <a:alpha val="45098"/>
                </a:srgbClr>
              </a:gs>
              <a:gs pos="100000">
                <a:srgbClr val="d6b2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b3b3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103765320">
              <a:spcBef>
                <a:spcPts val="649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2960" indent="-246240">
              <a:spcBef>
                <a:spcPts val="649"/>
              </a:spcBef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5840" indent="-209520">
              <a:spcBef>
                <a:spcPts val="649"/>
              </a:spcBef>
              <a:buClr>
                <a:srgbClr val="8d89a4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74856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8383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EBB4-B6A3-4400-AA20-081914A55964}" type="datetime">
              <a:rPr b="0" lang="ru-RU" sz="1200" spc="-1" strike="noStrike">
                <a:solidFill>
                  <a:srgbClr val="383838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8383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83838"/>
                </a:solidFill>
                <a:latin typeface="Constantia"/>
              </a:rPr>
              <a:t>Образовательный портал Мой университет – www.moi-universitet.ru, факультет «Реформа образования» – www.edu-reform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8383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05F3-252E-4546-B851-453766C0F8BA}" type="slidenum">
              <a:rPr b="0" lang="ru-RU" sz="1200" spc="-1" strike="noStrike">
                <a:solidFill>
                  <a:srgbClr val="38383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13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a00">
                  <a:alpha val="45098"/>
                </a:srgbClr>
              </a:gs>
              <a:gs pos="100000">
                <a:srgbClr val="7a759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14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4607a">
                  <a:alpha val="45098"/>
                </a:srgbClr>
              </a:gs>
              <a:gs pos="100000">
                <a:srgbClr val="d6b2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5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6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2d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2d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103765320">
              <a:spcBef>
                <a:spcPts val="649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2960" indent="-246240">
              <a:spcBef>
                <a:spcPts val="649"/>
              </a:spcBef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5840" indent="-209520">
              <a:spcBef>
                <a:spcPts val="649"/>
              </a:spcBef>
              <a:buClr>
                <a:srgbClr val="8d89a4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74856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8c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A9E1-7007-4B19-935C-77238B3345A1}" type="datetime">
              <a:rPr b="0" lang="ru-RU" sz="1200" spc="-1" strike="noStrike">
                <a:solidFill>
                  <a:srgbClr val="cac8c6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8c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ac8c6"/>
                </a:solidFill>
                <a:latin typeface="Constantia"/>
              </a:rPr>
              <a:t>Образовательный портал Мой университет – www.moi-universitet.ru, факультет «Реформа образования» – www.edu-reform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8c6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967F-5CD3-4A52-A86E-093E65B6D5E3}" type="slidenum">
              <a:rPr b="0" lang="ru-RU" sz="1200" spc="-1" strike="noStrike">
                <a:solidFill>
                  <a:srgbClr val="cac8c6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13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a00">
                  <a:alpha val="45098"/>
                </a:srgbClr>
              </a:gs>
              <a:gs pos="100000">
                <a:srgbClr val="7a759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14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4607a">
                  <a:alpha val="45098"/>
                </a:srgbClr>
              </a:gs>
              <a:gs pos="100000">
                <a:srgbClr val="d6b2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6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2d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2d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103765320">
              <a:spcBef>
                <a:spcPts val="649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2960" indent="-246240">
              <a:spcBef>
                <a:spcPts val="649"/>
              </a:spcBef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5840" indent="-209520">
              <a:spcBef>
                <a:spcPts val="649"/>
              </a:spcBef>
              <a:buClr>
                <a:srgbClr val="8d89a4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74856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8c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3459-AC3C-472D-8D5C-46E7FE77F45C}" type="datetime">
              <a:rPr b="0" lang="ru-RU" sz="1200" spc="-1" strike="noStrike">
                <a:solidFill>
                  <a:srgbClr val="cac8c6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8c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ac8c6"/>
                </a:solidFill>
                <a:latin typeface="Constantia"/>
              </a:rPr>
              <a:t>Образовательный портал Мой университет – www.moi-universitet.ru, факультет «Реформа образования» – www.edu-reform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8c6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A298-13FA-4BA6-868F-9A300FCE3666}" type="slidenum">
              <a:rPr b="0" lang="ru-RU" sz="1200" spc="-1" strike="noStrike">
                <a:solidFill>
                  <a:srgbClr val="cac8c6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a00">
                  <a:alpha val="45098"/>
                </a:srgbClr>
              </a:gs>
              <a:gs pos="100000">
                <a:srgbClr val="7a759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4607a">
                  <a:alpha val="45098"/>
                </a:srgbClr>
              </a:gs>
              <a:gs pos="100000">
                <a:srgbClr val="d6b2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b3b3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103765320">
              <a:spcBef>
                <a:spcPts val="649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2960" indent="-246240">
              <a:spcBef>
                <a:spcPts val="649"/>
              </a:spcBef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5840" indent="-209520">
              <a:spcBef>
                <a:spcPts val="649"/>
              </a:spcBef>
              <a:buClr>
                <a:srgbClr val="8d89a4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74856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8383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CDD5-2FDF-4390-8A44-30FED3F761CE}" type="datetime">
              <a:rPr b="0" lang="ru-RU" sz="1200" spc="-1" strike="noStrike">
                <a:solidFill>
                  <a:srgbClr val="383838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8383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83838"/>
                </a:solidFill>
                <a:latin typeface="Constantia"/>
              </a:rPr>
              <a:t>Образовательный портал Мой университет – www.moi-universitet.ru, факультет «Реформа образования» – www.edu-reform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8383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E67C-83E3-4C86-94A4-287C20F52338}" type="slidenum">
              <a:rPr b="0" lang="ru-RU" sz="1200" spc="-1" strike="noStrike">
                <a:solidFill>
                  <a:srgbClr val="38383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nmcro.ru/materialy-dlya-slushatelej-kursov-povysheniya-kvalifikacii/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357120" y="4357800"/>
            <a:ext cx="8786880" cy="20001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</a:rPr>
              <a:t>Рукавишникова Наталья   Ивановна</a:t>
            </a: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учитель  технологии  МКОУ СОШ им.генерал-лейтенанта В.Г.Асапова с.Калинино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285840" y="714240"/>
            <a:ext cx="828684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обобщающего повтор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м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НАЯ ЭКОНОМИК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ехнология  8 класс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Нижний колонтитул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6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83838"/>
                </a:solidFill>
                <a:latin typeface="Constantia"/>
              </a:rPr>
              <a:t>Образовательный портал Мой университет – www.moi-universitet.ru, факультет «Реформа образования» – www.edu-reform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Рисунок 2" descr="https://fs.znanio.ru/methodology/images/ea/c1/eac160862c0182a36c8ea589753adc5dc2cfac81.jpg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Нижний колонтитул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6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83838"/>
                </a:solidFill>
                <a:latin typeface="Constantia"/>
              </a:rPr>
              <a:t>Образовательный портал Мой университет – www.moi-universitet.ru, факультет «Реформа образования» – www.edu-reform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Рисунок 2" descr="https://fs.znanio.ru/methodology/images/2d/c1/2dc152b21c8d7994392b290e985c4134de7c68bc.jpg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3b3b3b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3b3b3b"/>
                </a:solidFill>
                <a:latin typeface="Times New Roman"/>
                <a:ea typeface="Times New Roman"/>
              </a:rPr>
              <a:t>Расходы : затраты, издержки, потребление чего-либо для  определенных   целей.</a:t>
            </a:r>
            <a:endParaRPr b="0" lang="en-US" sz="24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000080"/>
            <a:ext cx="822960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165240" indent="63296640">
              <a:spcBef>
                <a:spcPts val="499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авайте, мы с вами определим,  каков же семейный бюджет в такой семье если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65240" indent="63296640">
              <a:spcBef>
                <a:spcPts val="499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 – это доходы семьи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65240" indent="63296640">
              <a:spcBef>
                <a:spcPts val="499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 – это расходы семьи.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65240" indent="63296640">
              <a:spcBef>
                <a:spcPts val="499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)  Д  больше  Р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65240" indent="63296640">
              <a:spcBef>
                <a:spcPts val="499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Ответ учеников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65240" indent="63296640">
              <a:spcBef>
                <a:spcPts val="400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65240" indent="63296640">
              <a:spcBef>
                <a:spcPts val="499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2)  Д  меньше Р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65240" indent="63296640">
              <a:spcBef>
                <a:spcPts val="499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А сейчас каков буде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65240" indent="63296640">
              <a:spcBef>
                <a:spcPts val="499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Ответ учеников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65240" indent="63296640">
              <a:spcBef>
                <a:spcPts val="400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65240" indent="63296640">
              <a:spcBef>
                <a:spcPts val="499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3)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 равны Р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65240" indent="63296640">
              <a:spcBef>
                <a:spcPts val="499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Ответ учеников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65240" indent="63296640">
              <a:lnSpc>
                <a:spcPct val="100000"/>
              </a:lnSpc>
              <a:spcBef>
                <a:spcPts val="499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65240" indent="63296640">
              <a:lnSpc>
                <a:spcPct val="100000"/>
              </a:lnSpc>
              <a:spcBef>
                <a:spcPts val="499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смысл в том, чтобы расходы не превышали  доходы при условии удовлетворения  необходимых  потребносте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65240" indent="63296640">
              <a:spcBef>
                <a:spcPts val="400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65240" indent="63296640">
              <a:spcBef>
                <a:spcPts val="499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65240" indent="63296640">
              <a:spcBef>
                <a:spcPts val="499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65240" indent="63296640">
              <a:spcBef>
                <a:spcPts val="499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65240" indent="63296640">
              <a:spcBef>
                <a:spcPts val="649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5240" indent="63296640">
              <a:spcBef>
                <a:spcPts val="649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Рисунок 4" descr="Make Homemade Purses - How To Information eHow.com"/>
          <p:cNvPicPr/>
          <p:nvPr/>
        </p:nvPicPr>
        <p:blipFill>
          <a:blip r:embed="rId1"/>
          <a:stretch/>
        </p:blipFill>
        <p:spPr>
          <a:xfrm flipH="1">
            <a:off x="3857400" y="1428840"/>
            <a:ext cx="2428920" cy="185724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5" descr="Make Homemade Purses - How To Information eHow.com"/>
          <p:cNvPicPr/>
          <p:nvPr/>
        </p:nvPicPr>
        <p:blipFill>
          <a:blip r:embed="rId2"/>
          <a:stretch/>
        </p:blipFill>
        <p:spPr>
          <a:xfrm>
            <a:off x="5572080" y="2928960"/>
            <a:ext cx="2214720" cy="192888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6" descr="Weighing Scale Clipart"/>
          <p:cNvPicPr/>
          <p:nvPr/>
        </p:nvPicPr>
        <p:blipFill>
          <a:blip r:embed="rId3"/>
          <a:stretch/>
        </p:blipFill>
        <p:spPr>
          <a:xfrm>
            <a:off x="3357720" y="3929040"/>
            <a:ext cx="25002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4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5400" spc="-1" strike="noStrike">
                <a:solidFill>
                  <a:srgbClr val="3b3b3b"/>
                </a:solidFill>
                <a:latin typeface="Times New Roman"/>
                <a:ea typeface="Times New Roman"/>
              </a:rPr>
              <a:t>Деловая  игра </a:t>
            </a:r>
            <a:br>
              <a:rPr sz="5400"/>
            </a:br>
            <a:r>
              <a:rPr b="0" lang="ru-RU" sz="5400" spc="-1" strike="noStrike">
                <a:solidFill>
                  <a:srgbClr val="3b3b3b"/>
                </a:solidFill>
                <a:latin typeface="Times New Roman"/>
                <a:ea typeface="Times New Roman"/>
              </a:rPr>
              <a:t> «Семейный бюджет»</a:t>
            </a:r>
            <a:endParaRPr b="0" lang="en-US" sz="54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4200" indent="74206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14200" indent="81974520">
              <a:spcBef>
                <a:spcPts val="700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- А сейчас мы с вами будем играть в деловую игру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14200" indent="81974520">
              <a:spcBef>
                <a:spcPts val="700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едставьте, что каждая ваша  группа– это отдельная семь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14200" indent="81974520">
              <a:spcBef>
                <a:spcPts val="700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спомните, кто есть в ваших семьях? Пусть и в вашей семье- группе  будет: мама, папа, сын, дочка , бабушка , дедушка, тетя , дядя и др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14200" indent="7420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14200" indent="74206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5000" spc="-1" strike="noStrike">
                <a:solidFill>
                  <a:srgbClr val="3b3b3b"/>
                </a:solidFill>
                <a:latin typeface="Times New Roman"/>
                <a:ea typeface="Times New Roman"/>
              </a:rPr>
              <a:t>Участники игры</a:t>
            </a: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0400" indent="88200360">
              <a:spcBef>
                <a:spcPts val="649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ласс поделить на группы (семьи) по три пять человек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0400" indent="88200360">
              <a:spcBef>
                <a:spcPts val="649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емья 1 (3-5 человек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0400" indent="88200360">
              <a:spcBef>
                <a:spcPts val="649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емья 2 (3-5 человек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0400" indent="88200360">
              <a:spcBef>
                <a:spcPts val="649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емья3 (3-5 человек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0400" indent="88200360">
              <a:spcBef>
                <a:spcPts val="649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ксперты- 3 человека (могут быть обучающиеся старших классов или педагоги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85800" y="1356840"/>
            <a:ext cx="5958000" cy="36435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86000"/>
          </a:bodyPr>
          <a:p>
            <a:pPr marL="29340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3b3b3b"/>
                </a:solidFill>
                <a:latin typeface="Constantia"/>
              </a:rPr>
              <a:t>1.Разделить   класс на  группы по 3-5 человек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340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3b3b3b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3b3b3b"/>
                </a:solidFill>
                <a:latin typeface="Constantia"/>
              </a:rPr>
              <a:t>2.Распределите  рол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79640" indent="-294480">
              <a:spcBef>
                <a:spcPts val="601"/>
              </a:spcBef>
              <a:buClr>
                <a:srgbClr val="ccaf0a"/>
              </a:buClr>
              <a:buSzPct val="70000"/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3b3b3b"/>
                </a:solidFill>
                <a:latin typeface="Constantia"/>
              </a:rPr>
              <a:t>Же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79640" indent="-294480">
              <a:spcBef>
                <a:spcPts val="601"/>
              </a:spcBef>
              <a:buClr>
                <a:srgbClr val="ccaf0a"/>
              </a:buClr>
              <a:buSzPct val="70000"/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3b3b3b"/>
                </a:solidFill>
                <a:latin typeface="Constantia"/>
              </a:rPr>
              <a:t>Муж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79640" indent="-294480">
              <a:spcBef>
                <a:spcPts val="601"/>
              </a:spcBef>
              <a:buClr>
                <a:srgbClr val="ccaf0a"/>
              </a:buClr>
              <a:buSzPct val="70000"/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3b3b3b"/>
                </a:solidFill>
                <a:latin typeface="Constantia"/>
              </a:rPr>
              <a:t>Доч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79640" indent="-294480">
              <a:spcBef>
                <a:spcPts val="601"/>
              </a:spcBef>
              <a:buClr>
                <a:srgbClr val="ccaf0a"/>
              </a:buClr>
              <a:buSzPct val="70000"/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3b3b3b"/>
                </a:solidFill>
                <a:latin typeface="Constantia"/>
              </a:rPr>
              <a:t>Сын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79640" indent="-294480">
              <a:spcBef>
                <a:spcPts val="601"/>
              </a:spcBef>
              <a:buClr>
                <a:srgbClr val="ccaf0a"/>
              </a:buClr>
              <a:buSzPct val="70000"/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3b3b3b"/>
                </a:solidFill>
                <a:latin typeface="Constantia"/>
              </a:rPr>
              <a:t>И так дале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Прямоугольник 4"/>
          <p:cNvSpPr/>
          <p:nvPr/>
        </p:nvSpPr>
        <p:spPr>
          <a:xfrm>
            <a:off x="2428920" y="4287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3b3b3b"/>
                </a:solidFill>
                <a:latin typeface="Times New Roman"/>
                <a:ea typeface="Times New Roman"/>
              </a:rPr>
              <a:t>Ход игр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4"/>
          <p:cNvSpPr/>
          <p:nvPr/>
        </p:nvSpPr>
        <p:spPr>
          <a:xfrm>
            <a:off x="-214200" y="5000760"/>
            <a:ext cx="57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5680" indent="-342720">
              <a:lnSpc>
                <a:spcPct val="100000"/>
              </a:lnSpc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3b3b3b"/>
                </a:solidFill>
                <a:latin typeface="Times New Roman"/>
                <a:ea typeface="Times New Roman"/>
              </a:rPr>
              <a:t>3.Выберите    фамилию семь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Содержимое 6" descr="https://1.bp.blogspot.com/-k2PnkrYtarU/YCZWE9F_N8I/AAAAAAAADL0/DTw0hSGzk4ol07SZL0IQVGuDD0VAa9x1wCLcBGAsYHQ/s1200/%25D1%2581%25D0%25B5%25D0%25BC%25D1%258C%25D1%258F.jpg"/>
          <p:cNvPicPr/>
          <p:nvPr/>
        </p:nvPicPr>
        <p:blipFill>
          <a:blip r:embed="rId1"/>
          <a:stretch/>
        </p:blipFill>
        <p:spPr>
          <a:xfrm>
            <a:off x="5000760" y="2620800"/>
            <a:ext cx="414324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28640" y="0"/>
            <a:ext cx="2714760" cy="571680"/>
          </a:xfrm>
          <a:prstGeom prst="rect">
            <a:avLst/>
          </a:prstGeom>
          <a:solidFill>
            <a:srgbClr val="d8d3c7"/>
          </a:solidFill>
          <a:ln w="9360">
            <a:solidFill>
              <a:srgbClr val="c5beab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3b3b"/>
                </a:solidFill>
                <a:latin typeface="Times New Roman"/>
                <a:ea typeface="Times New Roman"/>
              </a:rPr>
              <a:t>1 этап  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85480" y="642600"/>
            <a:ext cx="8715240" cy="607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ставить характеристику семь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думать для каждого члена семьи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>
              <a:spcBef>
                <a:spcPts val="499"/>
              </a:spcBef>
              <a:buClr>
                <a:srgbClr val="6ea0b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гровое им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>
              <a:spcBef>
                <a:spcPts val="499"/>
              </a:spcBef>
              <a:buClr>
                <a:srgbClr val="6ea0b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озрас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>
              <a:spcBef>
                <a:spcPts val="499"/>
              </a:spcBef>
              <a:buClr>
                <a:srgbClr val="6ea0b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офессию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>
              <a:spcBef>
                <a:spcPts val="499"/>
              </a:spcBef>
              <a:buClr>
                <a:srgbClr val="6ea0b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аработную плату (пособия, стипендия, пенсия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>
              <a:spcBef>
                <a:spcPts val="499"/>
              </a:spcBef>
              <a:buClr>
                <a:srgbClr val="6ea0b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озможные источники других доходов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>
              <a:spcBef>
                <a:spcPts val="499"/>
              </a:spcBef>
              <a:buClr>
                <a:srgbClr val="6ea0b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тоговую сумму доходов всей семь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анные занести в таблицу  ( приложение 1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здаточный материал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аждая «семья» знакомит других  участников игры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экспертов со своими членами семь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14a38"/>
                </a:solidFill>
                <a:latin typeface="Constantia"/>
              </a:rPr>
              <a:t>Вам могут задать вопросы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14a38"/>
                </a:solidFill>
                <a:latin typeface="Constantia"/>
              </a:rPr>
              <a:t>о составе семьи и ее дохода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6" name="Picture 3" descr="D:\Recovered Files\МАМА\лариса нов\Открытый урок\Мой урок экономика 8\2.jpeg"/>
          <p:cNvPicPr/>
          <p:nvPr/>
        </p:nvPicPr>
        <p:blipFill>
          <a:blip r:embed="rId1"/>
          <a:stretch/>
        </p:blipFill>
        <p:spPr>
          <a:xfrm>
            <a:off x="7429680" y="5000760"/>
            <a:ext cx="1566720" cy="128592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6" descr="https://w7.pngwing.com/pngs/309/395/png-transparent-family-tree-genealogy-lush-family-tree-flower-family-design.png"/>
          <p:cNvPicPr/>
          <p:nvPr/>
        </p:nvPicPr>
        <p:blipFill>
          <a:blip r:embed="rId2"/>
          <a:stretch/>
        </p:blipFill>
        <p:spPr>
          <a:xfrm>
            <a:off x="6523200" y="1143000"/>
            <a:ext cx="262080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Заголовок 1"/>
          <p:cNvSpPr/>
          <p:nvPr/>
        </p:nvSpPr>
        <p:spPr>
          <a:xfrm>
            <a:off x="2714760" y="0"/>
            <a:ext cx="2714400" cy="571680"/>
          </a:xfrm>
          <a:prstGeom prst="rect">
            <a:avLst/>
          </a:prstGeom>
          <a:solidFill>
            <a:srgbClr val="d8d3c7"/>
          </a:solidFill>
          <a:ln w="9360">
            <a:solidFill>
              <a:srgbClr val="c5be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b3b3b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3b3b3b"/>
                </a:solidFill>
                <a:latin typeface="Times New Roman"/>
                <a:ea typeface="Times New Roman"/>
              </a:rPr>
              <a:t>2 этап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Текст 2"/>
          <p:cNvSpPr/>
          <p:nvPr/>
        </p:nvSpPr>
        <p:spPr>
          <a:xfrm>
            <a:off x="0" y="642960"/>
            <a:ext cx="9144000" cy="60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. Спланировать предстоящие расходы за месяц (близко к реальной жизни), исходя из предполагаемых  дох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2. Заполнить таблицу  (приложения 2  раздаточный материа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3. Семье представить  свои  расходы и прокомментировать принятые ре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b3b3b"/>
                </a:solidFill>
                <a:latin typeface="Constantia"/>
              </a:rPr>
              <a:t>Вам могут задать вопросы эксперты и другие участники иг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D:\Recovered Files\МАМА\лариса нов\Открытый урок\Мой урок экономика 8\14.jpeg"/>
          <p:cNvPicPr/>
          <p:nvPr/>
        </p:nvPicPr>
        <p:blipFill>
          <a:blip r:embed="rId1"/>
          <a:stretch/>
        </p:blipFill>
        <p:spPr>
          <a:xfrm rot="21414000">
            <a:off x="1285920" y="4285800"/>
            <a:ext cx="2500200" cy="17859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D:\Recovered Files\МАМА\лариса нов\Открытый урок\Мой урок экономика 8\22.jpeg"/>
          <p:cNvPicPr/>
          <p:nvPr/>
        </p:nvPicPr>
        <p:blipFill>
          <a:blip r:embed="rId2"/>
          <a:stretch/>
        </p:blipFill>
        <p:spPr>
          <a:xfrm>
            <a:off x="6500880" y="2357280"/>
            <a:ext cx="2071800" cy="20005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D:\Recovered Files\МАМА\лариса нов\Открытый урок\Мой урок экономика 8\18.jpg"/>
          <p:cNvPicPr/>
          <p:nvPr/>
        </p:nvPicPr>
        <p:blipFill>
          <a:blip r:embed="rId3"/>
          <a:stretch/>
        </p:blipFill>
        <p:spPr>
          <a:xfrm>
            <a:off x="428760" y="2571840"/>
            <a:ext cx="2286000" cy="185724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8" descr="https://cloudstatic.eva.ru/eva/530000-540000/535002/channel/---------------_32444433527326896.jpg"/>
          <p:cNvPicPr/>
          <p:nvPr/>
        </p:nvPicPr>
        <p:blipFill>
          <a:blip r:embed="rId4"/>
          <a:stretch/>
        </p:blipFill>
        <p:spPr>
          <a:xfrm>
            <a:off x="5500800" y="3929040"/>
            <a:ext cx="3112920" cy="213696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8" descr="https://sun9-32.userapi.com/impg/DP2Q6bqko9h-1cOi6n5kiu4IKlv0GA5roBMDgw/-hQuxZkGXXM.jpg?size=1280x960&amp;quality=95&amp;sign=a292715f3dd0961151ed1f71420cb9b6&amp;type=album"/>
          <p:cNvPicPr/>
          <p:nvPr/>
        </p:nvPicPr>
        <p:blipFill>
          <a:blip r:embed="rId5"/>
          <a:stretch/>
        </p:blipFill>
        <p:spPr>
          <a:xfrm>
            <a:off x="3000240" y="2143080"/>
            <a:ext cx="3071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Заголовок 1"/>
          <p:cNvSpPr/>
          <p:nvPr/>
        </p:nvSpPr>
        <p:spPr>
          <a:xfrm>
            <a:off x="3357720" y="0"/>
            <a:ext cx="2500200" cy="571680"/>
          </a:xfrm>
          <a:prstGeom prst="rect">
            <a:avLst/>
          </a:prstGeom>
          <a:solidFill>
            <a:srgbClr val="d8d3c7"/>
          </a:solidFill>
          <a:ln w="9360">
            <a:solidFill>
              <a:srgbClr val="c5be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3b3b"/>
                </a:solidFill>
                <a:latin typeface="Times New Roman"/>
                <a:ea typeface="Times New Roman"/>
              </a:rPr>
              <a:t>3 этап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Текст 2"/>
          <p:cNvSpPr/>
          <p:nvPr/>
        </p:nvSpPr>
        <p:spPr>
          <a:xfrm>
            <a:off x="285840" y="642960"/>
            <a:ext cx="8715240" cy="60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.Получить  индивидуальную  ситуацию   (приложение 3  раздаточный материа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2. Что нужно сделать: По ситуации принять решение и изыскать дополнительные  расх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14a38"/>
                </a:solidFill>
                <a:latin typeface="Constantia"/>
              </a:rPr>
              <a:t>Семьи   рассказывает о принятом реш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D:\Recovered Files\МАМА\лариса нов\Открытый урок\Мой урок экономика 8\17.jpeg"/>
          <p:cNvPicPr/>
          <p:nvPr/>
        </p:nvPicPr>
        <p:blipFill>
          <a:blip r:embed="rId1"/>
          <a:stretch/>
        </p:blipFill>
        <p:spPr>
          <a:xfrm>
            <a:off x="6715080" y="3429000"/>
            <a:ext cx="1357200" cy="14209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D:\Recovered Files\МАМА\лариса нов\Открытый урок\Мой урок экономика 8\20.jpeg"/>
          <p:cNvPicPr/>
          <p:nvPr/>
        </p:nvPicPr>
        <p:blipFill>
          <a:blip r:embed="rId2"/>
          <a:stretch/>
        </p:blipFill>
        <p:spPr>
          <a:xfrm>
            <a:off x="5072040" y="2286000"/>
            <a:ext cx="1754280" cy="16430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D:\Recovered Files\МАМА\лариса нов\Открытый урок\Мой урок экономика 8\3.jpeg"/>
          <p:cNvPicPr/>
          <p:nvPr/>
        </p:nvPicPr>
        <p:blipFill>
          <a:blip r:embed="rId3"/>
          <a:stretch/>
        </p:blipFill>
        <p:spPr>
          <a:xfrm>
            <a:off x="7286760" y="4857840"/>
            <a:ext cx="1404720" cy="154764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7" descr="https://get.wallhere.com/photo/money-rubles-currency-cash-banknote-money-handling-12050.jpg"/>
          <p:cNvPicPr/>
          <p:nvPr/>
        </p:nvPicPr>
        <p:blipFill>
          <a:blip r:embed="rId4"/>
          <a:stretch/>
        </p:blipFill>
        <p:spPr>
          <a:xfrm>
            <a:off x="4071960" y="4000680"/>
            <a:ext cx="2724120" cy="164304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8" descr="https://sun9-13.userapi.com/impg/K2CB_xKWjJAFvwrnDyq4F2irj1-a-fMmka65Ag/9sU5zg0pHPA.jpg?size=1280x960&amp;quality=95&amp;sign=13660dfbc215b23fba85324a65f0d56d&amp;type=album"/>
          <p:cNvPicPr/>
          <p:nvPr/>
        </p:nvPicPr>
        <p:blipFill>
          <a:blip r:embed="rId5"/>
          <a:stretch/>
        </p:blipFill>
        <p:spPr>
          <a:xfrm>
            <a:off x="357120" y="2714760"/>
            <a:ext cx="353556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оугольник 2"/>
          <p:cNvSpPr/>
          <p:nvPr/>
        </p:nvSpPr>
        <p:spPr>
          <a:xfrm>
            <a:off x="142920" y="214200"/>
            <a:ext cx="77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3b3b3b"/>
                </a:solidFill>
                <a:latin typeface="Times New Roman"/>
                <a:ea typeface="Times New Roman"/>
              </a:rPr>
              <a:t>4 эта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3"/>
          <p:cNvSpPr/>
          <p:nvPr/>
        </p:nvSpPr>
        <p:spPr>
          <a:xfrm>
            <a:off x="571680" y="1000080"/>
            <a:ext cx="8001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казывается  глава  семьи  о  поведении  каждого  члена  семь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и ли в «семье» конфликты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использовались  аргументы  для решения  пробле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 «семья»  выходила  из  различных  ситуаци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 испытывали  труднос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D:\Recovered Files\МАМА\лариса нов\Открытый урок\Мой урок экономика 8\24.jpg"/>
          <p:cNvPicPr/>
          <p:nvPr/>
        </p:nvPicPr>
        <p:blipFill>
          <a:blip r:embed="rId1"/>
          <a:stretch/>
        </p:blipFill>
        <p:spPr>
          <a:xfrm>
            <a:off x="1143000" y="3071880"/>
            <a:ext cx="3214800" cy="264312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5" descr="https://psy-files.ru/wp-content/uploads/2/8/b/28b6d98db078e736946ceb6a07b25483.jpg"/>
          <p:cNvPicPr/>
          <p:nvPr/>
        </p:nvPicPr>
        <p:blipFill>
          <a:blip r:embed="rId2"/>
          <a:stretch/>
        </p:blipFill>
        <p:spPr>
          <a:xfrm>
            <a:off x="4714920" y="2928960"/>
            <a:ext cx="29098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3b3b3b"/>
                </a:solidFill>
                <a:latin typeface="Times New Roman"/>
                <a:ea typeface="Times New Roman"/>
              </a:rPr>
              <a:t>Триединая  дидактическая цель.</a:t>
            </a:r>
            <a:endParaRPr b="0" lang="en-US" sz="4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499760"/>
            <a:ext cx="8686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2480" indent="85087440">
              <a:spcBef>
                <a:spcPts val="601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ормирование  у обучаючихся  мыслительной активности, позволяющей правильно принимать экономические целесообразные и социально-ответственные реше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2480" indent="85087440">
              <a:spcBef>
                <a:spcPts val="601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витие  у обучающихся логического и образного  мышления  для обобщения, знаний , умений  и  учебно-познавательной деятельнос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2480" indent="85087440">
              <a:spcBef>
                <a:spcPts val="601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оспитание  у обучающихся  экономности, бережливости, предприимчивости, умение корректировать свои потребности с учетом возможности семьи,  умения вести диалог, уважения  к личности, чувств вежливости и дисциплинированност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2480" indent="85087440">
              <a:spcBef>
                <a:spcPts val="649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2480" indent="85087440">
              <a:spcBef>
                <a:spcPts val="649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2"/>
          <p:cNvSpPr/>
          <p:nvPr/>
        </p:nvSpPr>
        <p:spPr>
          <a:xfrm>
            <a:off x="357120" y="214200"/>
            <a:ext cx="821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3b3b3b"/>
                </a:solidFill>
                <a:latin typeface="Times New Roman"/>
                <a:ea typeface="Times New Roman"/>
              </a:rPr>
              <a:t>5 этап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3b3b3b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3b3b3b"/>
                </a:solidFill>
                <a:latin typeface="Times New Roman"/>
                <a:ea typeface="Times New Roman"/>
              </a:rPr>
              <a:t>Подведение   итогов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3"/>
          <p:cNvSpPr/>
          <p:nvPr/>
        </p:nvSpPr>
        <p:spPr>
          <a:xfrm>
            <a:off x="714240" y="1071720"/>
            <a:ext cx="50720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a4230"/>
                </a:solidFill>
                <a:latin typeface="Times New Roman"/>
                <a:ea typeface="Times New Roman"/>
              </a:rPr>
              <a:t>Высказываются экспер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одят  итог 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аждают  «семьи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вшие лучшие 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D:\Recovered Files\МАМА\лариса нов\Открытый урок\Мой урок экономика 8\27.jpeg"/>
          <p:cNvPicPr/>
          <p:nvPr/>
        </p:nvPicPr>
        <p:blipFill>
          <a:blip r:embed="rId1"/>
          <a:stretch/>
        </p:blipFill>
        <p:spPr>
          <a:xfrm>
            <a:off x="581040" y="185724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6" descr="https://sun9-84.userapi.com/impg/srhM2Bg2V5vcAsj4S4o90zqsJaTZglhRtLJFqg/5nbom6yjN5A.jpg?size=1280x1255&amp;quality=95&amp;sign=1df2c271792f951075ea108a4d187e70&amp;type=album"/>
          <p:cNvPicPr/>
          <p:nvPr/>
        </p:nvPicPr>
        <p:blipFill>
          <a:blip r:embed="rId2"/>
          <a:stretch/>
        </p:blipFill>
        <p:spPr>
          <a:xfrm>
            <a:off x="4500720" y="1857240"/>
            <a:ext cx="421452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Нижний колонтитул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6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83838"/>
                </a:solidFill>
                <a:latin typeface="Constantia"/>
              </a:rPr>
              <a:t>Образовательный портал Мой университет – www.moi-universitet.ru, факультет «Реформа образования» – www.edu-reform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Рисунок 2" descr="https://sun9-26.userapi.com/impg/XxM7_en2EImkxkfnukxRhEVEZPcdQK9hI2m7Hg/_pox2TPSiq8.jpg?size=1047x1080&amp;quality=95&amp;sign=a9d9b736150afbefc55201c38135e09e&amp;type=album"/>
          <p:cNvPicPr/>
          <p:nvPr/>
        </p:nvPicPr>
        <p:blipFill>
          <a:blip r:embed="rId1"/>
          <a:stretch/>
        </p:blipFill>
        <p:spPr>
          <a:xfrm>
            <a:off x="3286080" y="1357200"/>
            <a:ext cx="2357640" cy="264348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3" descr="https://sun9-35.userapi.com/impg/QMk9FsJCf7DGcaikn-fJzZBxuhEMYmp3wGkb5w/3cXFezSlDwY.jpg?size=850x1080&amp;quality=95&amp;sign=6eb96a3971945284a1ea3886fc189882&amp;type=album"/>
          <p:cNvPicPr/>
          <p:nvPr/>
        </p:nvPicPr>
        <p:blipFill>
          <a:blip r:embed="rId2"/>
          <a:stretch/>
        </p:blipFill>
        <p:spPr>
          <a:xfrm>
            <a:off x="428760" y="2643120"/>
            <a:ext cx="2430360" cy="279072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4" descr="https://sun9-63.userapi.com/impg/pDmJYgR83-7AEmzzxBlrV0DAKty0YeS1B5QOqQ/jC2gwYGv-Nw.jpg?size=772x1080&amp;quality=95&amp;sign=d6d39b4030d4489a117b45e65efcf64c&amp;type=album"/>
          <p:cNvPicPr/>
          <p:nvPr/>
        </p:nvPicPr>
        <p:blipFill>
          <a:blip r:embed="rId3"/>
          <a:stretch/>
        </p:blipFill>
        <p:spPr>
          <a:xfrm>
            <a:off x="6215040" y="3071880"/>
            <a:ext cx="2143080" cy="279072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оугольник 10"/>
          <p:cNvSpPr/>
          <p:nvPr/>
        </p:nvSpPr>
        <p:spPr>
          <a:xfrm>
            <a:off x="3500280" y="714240"/>
            <a:ext cx="16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мес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11"/>
          <p:cNvSpPr/>
          <p:nvPr/>
        </p:nvSpPr>
        <p:spPr>
          <a:xfrm>
            <a:off x="571680" y="192888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место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 flipV="1" rot="10800000">
            <a:off x="6215040" y="235296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3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Рисунок 5" descr="https://sun9-21.userapi.com/impg/ZnN4NnCXVA-GvdM7aKvnRTtbO_rqEbpyUY10xw/LSBf9ygVncU.jpg?size=604x533&amp;quality=96&amp;sign=bb3667331bad4ef2c157cf330c027543&amp;type=album"/>
          <p:cNvPicPr/>
          <p:nvPr/>
        </p:nvPicPr>
        <p:blipFill>
          <a:blip r:embed="rId4"/>
          <a:stretch/>
        </p:blipFill>
        <p:spPr>
          <a:xfrm>
            <a:off x="2643120" y="4214880"/>
            <a:ext cx="37861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Нижний колонтитул 1"/>
          <p:cNvSpPr/>
          <p:nvPr/>
        </p:nvSpPr>
        <p:spPr>
          <a:xfrm>
            <a:off x="4143240" y="602136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Рисунок 2" descr="https://sun9-79.userapi.com/impg/DLuZYPAdbaUwIKrWK1YM3hmVCHgmuYu9PlIMWQ/8sBEr5xSvYI.jpg?size=810x1080&amp;quality=95&amp;sign=e4af9e76e81f3650c485bdef5845f95a&amp;type=album"/>
          <p:cNvPicPr/>
          <p:nvPr/>
        </p:nvPicPr>
        <p:blipFill>
          <a:blip r:embed="rId1"/>
          <a:stretch/>
        </p:blipFill>
        <p:spPr>
          <a:xfrm>
            <a:off x="142920" y="1857240"/>
            <a:ext cx="4000320" cy="385776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3" descr="https://sun9-15.userapi.com/impg/MraOFcCEwE-Vk6a8-6ZiryN5lQWWZgZtb6WZCA/VYM2Ly7HZaY.jpg?size=1280x1070&amp;quality=95&amp;sign=2c1de20ef740be17d87718c0d96a470e&amp;type=album"/>
          <p:cNvPicPr/>
          <p:nvPr/>
        </p:nvPicPr>
        <p:blipFill>
          <a:blip r:embed="rId2"/>
          <a:stretch/>
        </p:blipFill>
        <p:spPr>
          <a:xfrm>
            <a:off x="4500720" y="1857240"/>
            <a:ext cx="4500360" cy="378648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4"/>
          <p:cNvSpPr/>
          <p:nvPr/>
        </p:nvSpPr>
        <p:spPr>
          <a:xfrm>
            <a:off x="1214280" y="285840"/>
            <a:ext cx="5643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а редколле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000" spc="-1" strike="noStrike">
                <a:solidFill>
                  <a:srgbClr val="3b3b3b"/>
                </a:solidFill>
                <a:latin typeface="Times New Roman"/>
                <a:ea typeface="Times New Roman"/>
              </a:rPr>
              <a:t>Задание на дом:</a:t>
            </a: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6960" indent="94426200">
              <a:spcBef>
                <a:spcPts val="799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Составьте вместе с родителями бюджет вашей семьи за месяц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6960" indent="94426200">
              <a:spcBef>
                <a:spcPts val="799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одумайте: какие статьи расходов могут быть сокращены, а какие увеличены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6960" indent="94426200">
              <a:spcBef>
                <a:spcPts val="799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Как можно увеличить доходную часть вашего бюджета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6960" indent="94426200">
              <a:spcBef>
                <a:spcPts val="799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 </a:t>
            </a:r>
            <a:br>
              <a:rPr sz="44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endParaRPr b="0" lang="en-US" sz="36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189720" indent="72635400">
              <a:spcBef>
                <a:spcPts val="601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дводя итог нашей сегодняшней работы, предлагаю нашим семьям – участникам оценить слаженность работы своей семьи поднятием карточки: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89720" indent="72635400">
              <a:spcBef>
                <a:spcPts val="601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Желтая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– если работали слаженно, дружно, успешно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89720" indent="72635400">
              <a:spcBef>
                <a:spcPts val="601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иняя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– не всегда была работа слаженна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89720" indent="72635400">
              <a:spcBef>
                <a:spcPts val="601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расная 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– к сожалению, нам не удалось поработать слаженно и дружн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89720" indent="72635400">
              <a:spcBef>
                <a:spcPts val="601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Я вам желаю, чтобы в будущем вам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89720" indent="657540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ыло легко так же зарабатыва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89720" indent="657540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еньги и, чтобы ваша будуща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89720" indent="657540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фессия вам доставлял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89720" indent="657540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ы удовольств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89720" indent="72635400">
              <a:spcBef>
                <a:spcPts val="601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Спасибо за урок, до свидания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89720" indent="72635400">
              <a:spcBef>
                <a:spcPts val="601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6" name="Рисунок 3" descr="https://sun9-32.userapi.com/impg/afFpPCTu3HUwhqq-mAEPbZszz8crkxn6qp1CCg/2ip59yP8M3I.jpg?size=1280x960&amp;quality=95&amp;sign=1bb6408667b5ad50d095ee9fa63cc4ce&amp;type=album"/>
          <p:cNvPicPr/>
          <p:nvPr/>
        </p:nvPicPr>
        <p:blipFill>
          <a:blip r:embed="rId1"/>
          <a:stretch/>
        </p:blipFill>
        <p:spPr>
          <a:xfrm>
            <a:off x="5357880" y="3643200"/>
            <a:ext cx="37861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65792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5000"/>
            </a:br>
            <a:r>
              <a:rPr b="1" lang="ru-RU" sz="5000" spc="-1" strike="noStrike">
                <a:solidFill>
                  <a:srgbClr val="3b3b3b"/>
                </a:solidFill>
                <a:latin typeface="Times New Roman"/>
                <a:ea typeface="Times New Roman"/>
              </a:rPr>
              <a:t> </a:t>
            </a:r>
            <a:r>
              <a:rPr b="1" lang="ru-RU" sz="5000" spc="-1" strike="noStrike">
                <a:solidFill>
                  <a:srgbClr val="3b3b3b"/>
                </a:solidFill>
                <a:latin typeface="Times New Roman"/>
                <a:ea typeface="Times New Roman"/>
              </a:rPr>
              <a:t>Список литературы</a:t>
            </a: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1357200"/>
            <a:ext cx="8472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4200" indent="81974520">
              <a:spcBef>
                <a:spcPts val="451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гровые технологии на уроках и во внеурочной деятельности (интегрированные игры по географии, биологии, экологии, экономике, основам права) / авт.-сост. М.Е.Сергеева. - Волгоград: Учитель, 2007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14200" indent="81974520">
              <a:spcBef>
                <a:spcPts val="451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Экономика домашнего хозяйства: Методическое пособие  для учителя/ В.А. Николаевич- Курский областной ИПКиПРО, 1999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14200" indent="81974520">
              <a:spcBef>
                <a:spcPts val="451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сновы потребительской культуры: Учебник для старших классов общеобразоват. учрежд. / Симоненко В.Д., Степченко Т.А. - М.: Вита-Пресс, 2004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14200" indent="81974520">
              <a:spcBef>
                <a:spcPts val="451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авицкая Е.В. Уроки экономики в школе: В 2-х кн. - М.: Вита - Пресс, 2006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14200" indent="81974520">
              <a:spcBef>
                <a:spcPts val="451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атяш. Н.В, А.А.Электор,Симоненко В.Д. Семейная экономика: Учебное пособие для 7-8 классов общеобразоват. Учрежд. Образовательная область "Технология".- М.: Вита - Пресс, 2002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14200" indent="81974520">
              <a:spcBef>
                <a:spcPts val="451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Экономика: Методическое пособие. /Под ред. А.Я.Линькова. - М.: Вита-Пресс, 2001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14200" indent="81974520">
              <a:spcBef>
                <a:spcPts val="451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Раздаточный материал к игре.Приложение 1. Приложение 2. Приложение 3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14200" indent="742068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14200" indent="81974520">
              <a:spcBef>
                <a:spcPts val="451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100f0b"/>
                </a:solidFill>
                <a:latin typeface="Times New Roman"/>
                <a:ea typeface="Times New Roman"/>
              </a:rPr>
              <a:t>Список Интернет ресурсов</a:t>
            </a: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103765320">
              <a:spcBef>
                <a:spcPts val="649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c8c3"/>
                </a:solidFill>
                <a:uFillTx/>
                <a:latin typeface="Constantia"/>
                <a:hlinkClick r:id="rId1"/>
              </a:rPr>
              <a:t>http://nmcro.ru/materialy-dlya-slushatelej-kursov-povysheniya-kvalifikacii/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103765320">
              <a:spcBef>
                <a:spcPts val="649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ртинки и фотографии для презентации взяты из интернета и с уро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103765320">
              <a:spcBef>
                <a:spcPts val="649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9393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Нижний колонтитул 1"/>
          <p:cNvSpPr/>
          <p:nvPr/>
        </p:nvSpPr>
        <p:spPr>
          <a:xfrm>
            <a:off x="142920" y="4714920"/>
            <a:ext cx="792936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83838"/>
                </a:solidFill>
                <a:latin typeface="Constantia"/>
              </a:rPr>
              <a:t>Источник дополнительных расходов  семь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83838"/>
                </a:solidFill>
                <a:latin typeface="Constantia"/>
              </a:rPr>
              <a:t>Приусадебный учас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83838"/>
                </a:solidFill>
                <a:latin typeface="Constantia"/>
              </a:rPr>
              <a:t>Ценные бума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83838"/>
                </a:solidFill>
                <a:latin typeface="Constantia"/>
              </a:rPr>
              <a:t>Аренда помещ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83838"/>
                </a:solidFill>
                <a:latin typeface="Constantia"/>
              </a:rPr>
              <a:t>Хобб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83838"/>
                </a:solidFill>
                <a:latin typeface="Constantia"/>
              </a:rPr>
              <a:t> </a:t>
            </a:r>
            <a:r>
              <a:rPr b="0" i="1" lang="ru-RU" sz="1600" spc="-1" strike="noStrike">
                <a:solidFill>
                  <a:srgbClr val="383838"/>
                </a:solidFill>
                <a:latin typeface="Constantia"/>
              </a:rPr>
              <a:t>Общая сумма доходов</a:t>
            </a:r>
            <a:r>
              <a:rPr b="1" i="1" lang="ru-RU" sz="1600" spc="-1" strike="noStrike">
                <a:solidFill>
                  <a:srgbClr val="383838"/>
                </a:solidFill>
                <a:latin typeface="Constantia"/>
              </a:rPr>
              <a:t>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0" y="93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Е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листке нужно  определить состав семьи и указать, кто и чем занимае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расписать все возможные  доход</a:t>
            </a:r>
            <a:r>
              <a:rPr b="0" lang="tt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приблизительном денежном эквиваленте) и все возможные расход</a:t>
            </a:r>
            <a:r>
              <a:rPr b="0" lang="tt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меся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о мы определим на уроке время (5мин.), после обсуждения и записи в таблицу листа-задания, и глава  из вашей “семьи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вучит ваше решение, и мы это обсуд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714240" y="2000160"/>
          <a:ext cx="7786800" cy="2346480"/>
        </p:xfrm>
        <a:graphic>
          <a:graphicData uri="http://schemas.openxmlformats.org/drawingml/2006/table">
            <a:tbl>
              <a:tblPr/>
              <a:tblGrid>
                <a:gridCol w="1967040"/>
                <a:gridCol w="1432080"/>
                <a:gridCol w="1447560"/>
                <a:gridCol w="1435320"/>
                <a:gridCol w="1504800"/>
              </a:tblGrid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ейный стат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о учебы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аботная плата, пособия, пен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ч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ы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кров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к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яд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буш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душ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4" name=""/>
          <p:cNvGraphicFramePr/>
          <p:nvPr/>
        </p:nvGraphicFramePr>
        <p:xfrm>
          <a:off x="714240" y="2071800"/>
          <a:ext cx="7715520" cy="4086000"/>
        </p:xfrm>
        <a:graphic>
          <a:graphicData uri="http://schemas.openxmlformats.org/drawingml/2006/table">
            <a:tbl>
              <a:tblPr/>
              <a:tblGrid>
                <a:gridCol w="4476960"/>
                <a:gridCol w="3238560"/>
              </a:tblGrid>
              <a:tr h="428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и расход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т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еж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бель и предметы домашнего обих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но-бытовые нуж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огольные напит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альные платеж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ы, налоги, платеж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Rectangle 3"/>
          <p:cNvSpPr/>
          <p:nvPr/>
        </p:nvSpPr>
        <p:spPr>
          <a:xfrm>
            <a:off x="1000080" y="361440"/>
            <a:ext cx="75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Е 2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пления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 расходов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800" spc="-1" strike="noStrike">
                <a:solidFill>
                  <a:srgbClr val="0f243e"/>
                </a:solidFill>
                <a:latin typeface="Times New Roman"/>
                <a:ea typeface="Times New Roman"/>
              </a:rPr>
              <a:t>Выво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Нижний колонтитул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6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83838"/>
                </a:solidFill>
                <a:latin typeface="Constantia"/>
              </a:rPr>
              <a:t>Образовательный портал Мой университет – www.moi-universitet.ru, факультет «Реформа образования» – www.edu-reform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Рисунок 2" descr="https://sun9-85.userapi.com/impg/ypDmMf_2oBX_QSOuSX--kdn7Y_Kc-AyVP8bY-Q/2UQ5FzGV9ic.jpg?size=810x1080&amp;quality=95&amp;sign=7d01bdd9e6377eebd9edfd70734870ae&amp;type=album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 u="sng">
                <a:solidFill>
                  <a:srgbClr val="3b3b3b"/>
                </a:solidFill>
                <a:uFillTx/>
                <a:latin typeface="Times New Roman"/>
                <a:ea typeface="Times New Roman"/>
              </a:rPr>
              <a:t>Планируемые результаты 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в соответствии с ФГОС)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28760" y="114300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192600" indent="666936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92600" indent="73673280"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бобщить знания  учащихся об экономической жизни семьи,     семейном бюджете, источниках доходов, рациональном расходовании средств и формами предпринимательской деятельност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92600" indent="73673280"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тработать умения заполнять и вести домашнюю финансовую документацию, пользоваться информацией о товарах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92600" indent="666936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92600" indent="73673280">
              <a:spcBef>
                <a:spcPts val="451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азвивать способность сравнивать и анализировать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92600" indent="73673280">
              <a:spcBef>
                <a:spcPts val="451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Формировать навыки ведения домашней финансовой документаци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92600" indent="73673280">
              <a:spcBef>
                <a:spcPts val="451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Формировать способность оценивать качество покупок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92600" indent="73673280">
              <a:spcBef>
                <a:spcPts val="451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Формировать и развивать познавательный интерес к предмету, к       развитию самостоятельност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92600" indent="666936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Личностныны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92600" indent="73673280">
              <a:spcBef>
                <a:spcPts val="451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оспитывать уважение к собственности, патриотические качества личности, ответственность и экономность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92600" indent="73673280">
              <a:spcBef>
                <a:spcPts val="451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92600" indent="73673280">
              <a:spcBef>
                <a:spcPts val="451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"/>
          <p:cNvSpPr/>
          <p:nvPr/>
        </p:nvSpPr>
        <p:spPr>
          <a:xfrm>
            <a:off x="714240" y="505800"/>
            <a:ext cx="7715520" cy="80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Е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я  №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вам в гости приехала дальняя  родственница из Тамбова.  Ваше гостеприимство ей очень понравилось, и она решила погостить еще месяц. Как вы будете изыскивать дополнительные средства  на её содержа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я №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ш сын, придя из школы, сообщил, что он случайно разбил стекло в классе и администрация просит родителей возместить ущерб. Изыщите такую возможность в сем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я №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ш супруг сломал ногу. Больничный лист в этом месяце не оплатили. Как вы будете изыскивать оплату квартиры и другие платеж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я  №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дали срочную путевку в санаторий. Ваша жена очень нуждается в лечении. Как вы спланируете эти дополнительные расход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3b3b"/>
                </a:solidFill>
                <a:latin typeface="Times New Roman"/>
                <a:ea typeface="Times New Roman"/>
              </a:rPr>
              <a:t>Структура  урока</a:t>
            </a:r>
            <a:br>
              <a:rPr sz="3200"/>
            </a:br>
            <a:r>
              <a:rPr b="1" lang="ru-RU" sz="3200" spc="-1" strike="noStrike">
                <a:solidFill>
                  <a:srgbClr val="3b3b3b"/>
                </a:solidFill>
                <a:latin typeface="Times New Roman"/>
                <a:ea typeface="Times New Roman"/>
              </a:rPr>
              <a:t>обобщающего повторения 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192600" indent="73673280">
              <a:spcBef>
                <a:spcPts val="700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Организационный  момент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92600" indent="73673280">
              <a:spcBef>
                <a:spcPts val="700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Мотивационное начало урок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92600" indent="73673280">
              <a:spcBef>
                <a:spcPts val="700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Актуализация знаний 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92600" indent="73673280">
              <a:spcBef>
                <a:spcPts val="700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Проверка домашнего задани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92600" indent="73673280">
              <a:spcBef>
                <a:spcPts val="700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Закрепление  знаний и умения  в условиях игровой ситуации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 Деловая  игра  «Семейный бюджет»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92600" indent="73673280">
              <a:spcBef>
                <a:spcPts val="700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Домашнее задани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92600" indent="73673280">
              <a:spcBef>
                <a:spcPts val="700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Рефлексия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92600" indent="73673280">
              <a:spcBef>
                <a:spcPts val="700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92600" indent="73673280">
              <a:spcBef>
                <a:spcPts val="700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92600" indent="666936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92600" indent="666936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Содержимое 6" descr=""/>
          <p:cNvPicPr/>
          <p:nvPr/>
        </p:nvPicPr>
        <p:blipFill>
          <a:blip r:embed="rId1"/>
          <a:stretch/>
        </p:blipFill>
        <p:spPr>
          <a:xfrm>
            <a:off x="285840" y="357120"/>
            <a:ext cx="2286000" cy="614376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5"/>
          <p:cNvSpPr/>
          <p:nvPr/>
        </p:nvSpPr>
        <p:spPr>
          <a:xfrm>
            <a:off x="2786040" y="714240"/>
            <a:ext cx="59292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</a:rPr>
              <a:t>Никогда не делай долг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</a:rPr>
              <a:t>лучше терпи нужд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</a:rPr>
              <a:t>поверь, она не так ужас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</a:rPr>
              <a:t>как кажется, и во всяком случае она  лучше неизбеж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</a:rPr>
              <a:t>вдруг оказаться бесчестным или прослыть таков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Письмо двадцатитрехлетн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А. С. Пушкина  бра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Л. С. Пушк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"/>
          <p:cNvSpPr/>
          <p:nvPr/>
        </p:nvSpPr>
        <p:spPr>
          <a:xfrm>
            <a:off x="285840" y="4841280"/>
            <a:ext cx="850104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рок  обобщающего повторения   по теме "Семейная экономика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Нижний колонтитул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6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83838"/>
                </a:solidFill>
                <a:latin typeface="Constantia"/>
              </a:rPr>
              <a:t>Образовательный портал Мой университет – www.moi-universitet.ru, факультет «Реформа образования» – www.edu-reform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Рисунок 2" descr="https://investvlg.ru/800/600/https/ds05.infourok.ru/uploads/ex/0fc0/0002329f-393d66f4/img2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3b3b3b"/>
                </a:solidFill>
                <a:latin typeface="Times New Roman"/>
                <a:ea typeface="Times New Roman"/>
              </a:rPr>
              <a:t>Что такое семья?</a:t>
            </a:r>
            <a:endParaRPr b="0" lang="en-US" sz="48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714400"/>
            <a:ext cx="4038480" cy="36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0280" indent="99614520">
              <a:lnSpc>
                <a:spcPct val="100000"/>
              </a:lnSpc>
              <a:spcBef>
                <a:spcPts val="499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0280" indent="99614520">
              <a:lnSpc>
                <a:spcPct val="100000"/>
              </a:lnSpc>
              <a:spcBef>
                <a:spcPts val="499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аждого человека семья – это начало начал, а для общества   важнейшее   звено  его структуры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0280" indent="99614520">
              <a:lnSpc>
                <a:spcPct val="100000"/>
              </a:lnSpc>
              <a:spcBef>
                <a:spcPts val="499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0280" indent="99614520">
              <a:lnSpc>
                <a:spcPct val="100000"/>
              </a:lnSpc>
              <a:spcBef>
                <a:spcPts val="451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, изучающая  повседневную  жизнь семьи, называется семейной экономикой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0280" indent="99614520">
              <a:lnSpc>
                <a:spcPct val="100000"/>
              </a:lnSpc>
              <a:spcBef>
                <a:spcPts val="451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Содержимое 6" descr="FigSemRelFam_B"/>
          <p:cNvPicPr/>
          <p:nvPr/>
        </p:nvPicPr>
        <p:blipFill>
          <a:blip r:embed="rId1"/>
          <a:stretch/>
        </p:blipFill>
        <p:spPr>
          <a:xfrm>
            <a:off x="4429080" y="3500280"/>
            <a:ext cx="4286160" cy="2786400"/>
          </a:xfrm>
          <a:prstGeom prst="rect">
            <a:avLst/>
          </a:prstGeom>
          <a:ln w="0">
            <a:noFill/>
          </a:ln>
        </p:spPr>
      </p:pic>
      <p:sp>
        <p:nvSpPr>
          <p:cNvPr id="211" name="Прямоугольник 4"/>
          <p:cNvSpPr/>
          <p:nvPr/>
        </p:nvSpPr>
        <p:spPr>
          <a:xfrm>
            <a:off x="500040" y="1714680"/>
            <a:ext cx="81439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мья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то группа людей, объединенная брачными или родственными отноше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42920" y="1142640"/>
            <a:ext cx="8858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buClr>
                <a:srgbClr val="8d89a4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оспитание новых граждан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buClr>
                <a:srgbClr val="8d89a4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табилизирующая   и  регулирующая роль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buClr>
                <a:srgbClr val="8d89a4"/>
              </a:buClr>
              <a:buSzPct val="95000"/>
              <a:buFont typeface="Constant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оммуникативная роль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buClr>
                <a:srgbClr val="8d89a4"/>
              </a:buClr>
              <a:buSzPct val="95000"/>
              <a:buFont typeface="Constant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Экономическая роль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spcBef>
                <a:spcPts val="799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Семейная экономика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– наука о повседневной  экономической жизни семь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spcBef>
                <a:spcPts val="700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Constantia"/>
              </a:rPr>
              <a:t>?</a:t>
            </a:r>
            <a:r>
              <a:rPr b="1" lang="ru-RU" sz="4400" spc="-1" strike="noStrike">
                <a:solidFill>
                  <a:srgbClr val="c00000"/>
                </a:solidFill>
                <a:latin typeface="Constant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аковы условия для хорошей работы семейной        экономик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spcBef>
                <a:spcPts val="700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ДОХОДЫ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spcBef>
                <a:spcPts val="700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АСХОДЫ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spcBef>
                <a:spcPts val="700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Прямоугольник 7"/>
          <p:cNvSpPr/>
          <p:nvPr/>
        </p:nvSpPr>
        <p:spPr>
          <a:xfrm>
            <a:off x="785880" y="357120"/>
            <a:ext cx="807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ь семьи в государст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3b3b3b"/>
                </a:solidFill>
                <a:latin typeface="Times New Roman"/>
                <a:ea typeface="Times New Roman"/>
              </a:rPr>
              <a:t>Бюджет семьи:</a:t>
            </a:r>
            <a:endParaRPr b="0" lang="en-US" sz="48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187200" indent="6481440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3b3b3b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3b3b3b"/>
                </a:solidFill>
                <a:latin typeface="Constantia"/>
              </a:rPr>
              <a:t>- </a:t>
            </a:r>
            <a:r>
              <a:rPr b="1" lang="ru-RU" sz="2800" spc="-1" strike="noStrike">
                <a:solidFill>
                  <a:srgbClr val="3b3b3b"/>
                </a:solidFill>
                <a:latin typeface="Constantia"/>
              </a:rPr>
              <a:t>это структура всех доходов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87200" indent="6481440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3b3b3b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3b3b3b"/>
                </a:solidFill>
                <a:latin typeface="Constantia"/>
              </a:rPr>
              <a:t>и расходов з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87200" indent="6481440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3b3b3b"/>
                </a:solidFill>
                <a:latin typeface="Constantia"/>
              </a:rPr>
              <a:t>определенный период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87200" indent="6481440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3b3b3b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3b3b3b"/>
                </a:solidFill>
                <a:latin typeface="Constantia"/>
              </a:rPr>
              <a:t>времен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87200" indent="6481440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3b3b3b"/>
                </a:solidFill>
                <a:latin typeface="Constantia"/>
              </a:rPr>
              <a:t>(месяц, год и т.д.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87200" indent="6481440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87200" indent="6481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оходо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нимают деньг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87200" indent="6481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ьные ценности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87200" indent="6481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аемые от предприятия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87200" indent="6481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ьного лица ил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87200" indent="6481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го- либо рода деятельност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87200" indent="6481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олученные средства составляют совокупные доход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87200" indent="71597880">
              <a:lnSpc>
                <a:spcPct val="100000"/>
              </a:lnSpc>
              <a:spcBef>
                <a:spcPts val="700"/>
              </a:spcBef>
              <a:buClr>
                <a:srgbClr val="8d89a4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Рисунок 4" descr="http://ds4739.ru/uploads/modules/gallery/konkurs-semeynyh-tvorcheskih-rabot-finansovaya-gramotnost-v-moey-seme-my-znaem-zachem-eto-nuzhno---2020./uawqw5dfgy.jpg"/>
          <p:cNvPicPr/>
          <p:nvPr/>
        </p:nvPicPr>
        <p:blipFill>
          <a:blip r:embed="rId1"/>
          <a:stretch/>
        </p:blipFill>
        <p:spPr>
          <a:xfrm>
            <a:off x="5072040" y="1571760"/>
            <a:ext cx="40719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упер</dc:creator>
  <dc:description/>
  <dc:language>en-US</dc:language>
  <cp:lastModifiedBy>МКОУСОШ</cp:lastModifiedBy>
  <dcterms:modified xsi:type="dcterms:W3CDTF">2022-04-06T11:52:14Z</dcterms:modified>
  <cp:revision>103</cp:revision>
  <dc:subject/>
  <dc:title>Семейный бюджет</dc:title>
</cp:coreProperties>
</file>