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Windows%20Logoff%20Sound.wav" ContentType="audio/x-wav"/>
  <Override PartName="/ppt/media/image4.pct" ContentType="image/x-pict"/>
  <Override PartName="/ppt/media/image5.pct" ContentType="image/x-pict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BCA-5EB5-475D-BDD3-2976C4B5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B76-954A-4F2B-AC8A-98335AC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E1F-4B92-4A4A-8865-CE5EB07D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5CC-7B7B-471F-816E-7E853EBE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E61-78AC-4F90-AAC3-DF2CE87A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3BF9-08A8-474F-885B-B80B5047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D70D-302A-41F5-81F6-00967262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F7B1-9ABE-45A6-B0EA-C5F4DB07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D718-D435-4A28-BBCA-BB71667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6200-239C-4473-A350-6E45621E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9D42-75E8-4E89-9F48-A90378B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94F-D39D-4F34-B42A-A432B03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0379-30C4-4D2A-836D-C32C693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26BB-BC0B-4629-B462-1AC6BEE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2D8B-A6E6-4E2D-B834-97BB83B0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0D3E-BB0A-4908-9218-8CBF0EAD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49F3-DF8A-4780-AC51-AA0A545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F9701-123A-4C82-8701-905A237E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1695-8287-4D0E-865D-D6E08FDC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800C-B0F6-4AA6-AA88-239CAF3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E08E-1BB9-45FB-8B73-2167E3F8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CC2E-4A3A-4579-83B7-99D0E763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250-B51A-422B-A396-727DE74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1450-5F61-4FD2-81E3-AFC78A4E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A36B-B8CD-47D9-ABE3-E230174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FE3C-51A7-4A31-B261-8DE71A7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08D0-D7F4-4D88-AF54-64E0FE0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103E-7C37-4B1D-B914-F1F6A8F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CBA7-B85D-4C7C-BD36-552D951F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62B6-E0A1-4E32-A261-74B3E9E0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9F76-B51A-4673-8411-91C9174E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070E-9313-4668-8040-2D47B4F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FA8A-8292-4B75-8205-08B3B81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576-6024-4F83-99FA-FE0436E5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CF8E-E59A-40B0-93A0-55A3672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3335-BE87-4638-9E06-D9A0C44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4D0C-D1C7-4624-99B5-C1952D9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55E3-A862-4EEE-9D68-333D6B3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372F-7D6B-4F80-ABFE-B327DCC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C7F4-F914-4004-9CEA-5A38693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0370-1380-41B0-AB21-8E3D9A2C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D3B8-8BFA-4729-BBBB-5A70FEC6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F390-5B1F-4B02-9E2E-3B2342B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DBB3B-0CE6-4C37-A9E4-81F3018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950-AEAF-4AA7-A36E-2B42A1C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CC33-CC42-489F-BC52-10047CB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C63B-B303-4CF2-A338-C20D93D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49BB-6E8B-40BA-989B-9FFC0041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6387-E1AC-4802-98BE-FFF70DF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52D5-8D6A-4164-BE51-817B0160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AEA5-2272-4A32-A18C-7A4FD6A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0AB1-5130-4C98-A00E-B281CCB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16D6-C4FC-4396-A326-2183084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6DFD-6FE5-41EB-8434-2294A09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7C8E-15DD-41E2-BDB7-B6187090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1F0-3888-4A37-854C-D6A602A4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0B32-50D5-4692-8869-9A57ECD9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DA0-A6CF-4FB7-B2F3-0798C9D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B16-A06E-49AE-8FE8-C65002D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3B6-C749-451A-A3B9-E113F0B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B41B-A4E4-468E-AF7C-CF5CF9935F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ADBD-7600-4B61-B833-92DF5765BA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C24-C884-4A03-AC02-F937546BED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005-78A7-40E6-B82D-7214D806E7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DA1-F3B9-46B1-A600-577ADE8DA0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audio" Target="../media/Windows%20Logoff%20Sound.wav"/><Relationship Id="rId4" Type="http://schemas.openxmlformats.org/officeDocument/2006/relationships/audio" Target="../media/Windows%20Logoff%20Sound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 CY"/>
              </a:rPr>
              <a:t>Буква Ё - показатель мягкости согласног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 CY"/>
              </a:rPr>
              <a:t>Зачетная по курсу И.Т. в проектной деятельност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 CY"/>
              </a:rPr>
              <a:t>Автор: Сурбанос Т.Н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"/>
          <p:cNvSpPr/>
          <p:nvPr/>
        </p:nvSpPr>
        <p:spPr>
          <a:xfrm>
            <a:off x="3582360" y="624852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. Зеленоград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0492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й урок в 1 класс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33440" y="507204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440"/>
                <a:gridCol w="1011240"/>
                <a:gridCol w="939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290" name="Овал 9"/>
          <p:cNvSpPr/>
          <p:nvPr/>
        </p:nvSpPr>
        <p:spPr>
          <a:xfrm>
            <a:off x="164304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714760" y="521496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Овал 13"/>
          <p:cNvSpPr/>
          <p:nvPr/>
        </p:nvSpPr>
        <p:spPr>
          <a:xfrm>
            <a:off x="364320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4"/>
          <p:cNvSpPr/>
          <p:nvPr/>
        </p:nvSpPr>
        <p:spPr>
          <a:xfrm>
            <a:off x="3571920" y="2143080"/>
            <a:ext cx="107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143080" y="2142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5643720" y="64296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1357200" y="492912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7500960" y="47862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6500880" y="2857680"/>
            <a:ext cx="107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TextBox 17"/>
          <p:cNvSpPr/>
          <p:nvPr/>
        </p:nvSpPr>
        <p:spPr>
          <a:xfrm>
            <a:off x="1500120" y="271476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Прямоугольник 8"/>
          <p:cNvSpPr/>
          <p:nvPr/>
        </p:nvSpPr>
        <p:spPr>
          <a:xfrm>
            <a:off x="4101480" y="4643280"/>
            <a:ext cx="12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М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433440" y="507204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440"/>
                <a:gridCol w="1011240"/>
                <a:gridCol w="939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719600" y="507204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5"/>
          <p:cNvSpPr/>
          <p:nvPr/>
        </p:nvSpPr>
        <p:spPr>
          <a:xfrm>
            <a:off x="164304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Овал 8"/>
          <p:cNvSpPr/>
          <p:nvPr/>
        </p:nvSpPr>
        <p:spPr>
          <a:xfrm>
            <a:off x="2714760" y="521496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Овал 9"/>
          <p:cNvSpPr/>
          <p:nvPr/>
        </p:nvSpPr>
        <p:spPr>
          <a:xfrm>
            <a:off x="364320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Овал 12"/>
          <p:cNvSpPr/>
          <p:nvPr/>
        </p:nvSpPr>
        <p:spPr>
          <a:xfrm>
            <a:off x="600084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Овал 13"/>
          <p:cNvSpPr/>
          <p:nvPr/>
        </p:nvSpPr>
        <p:spPr>
          <a:xfrm>
            <a:off x="707220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800100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2500200" y="450072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800"/>
                <a:gridCol w="1011240"/>
                <a:gridCol w="93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00200" y="5572080"/>
          <a:ext cx="399600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315" name="Овал 5"/>
          <p:cNvSpPr/>
          <p:nvPr/>
        </p:nvSpPr>
        <p:spPr>
          <a:xfrm>
            <a:off x="3786120" y="464328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Овал 8"/>
          <p:cNvSpPr/>
          <p:nvPr/>
        </p:nvSpPr>
        <p:spPr>
          <a:xfrm>
            <a:off x="4857840" y="464328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Овал 9"/>
          <p:cNvSpPr/>
          <p:nvPr/>
        </p:nvSpPr>
        <p:spPr>
          <a:xfrm>
            <a:off x="5786280" y="464328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Овал 12"/>
          <p:cNvSpPr/>
          <p:nvPr/>
        </p:nvSpPr>
        <p:spPr>
          <a:xfrm>
            <a:off x="3781440" y="571500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Овал 13"/>
          <p:cNvSpPr/>
          <p:nvPr/>
        </p:nvSpPr>
        <p:spPr>
          <a:xfrm>
            <a:off x="4853160" y="571500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Овал 14"/>
          <p:cNvSpPr/>
          <p:nvPr/>
        </p:nvSpPr>
        <p:spPr>
          <a:xfrm>
            <a:off x="5781600" y="571500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500200" y="450072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800"/>
                <a:gridCol w="1011240"/>
                <a:gridCol w="93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500200" y="5572080"/>
          <a:ext cx="399600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325" name="Овал 8"/>
          <p:cNvSpPr/>
          <p:nvPr/>
        </p:nvSpPr>
        <p:spPr>
          <a:xfrm>
            <a:off x="4857840" y="464328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Овал 9"/>
          <p:cNvSpPr/>
          <p:nvPr/>
        </p:nvSpPr>
        <p:spPr>
          <a:xfrm>
            <a:off x="5786280" y="464328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Овал 12"/>
          <p:cNvSpPr/>
          <p:nvPr/>
        </p:nvSpPr>
        <p:spPr>
          <a:xfrm>
            <a:off x="3781440" y="571500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Овал 13"/>
          <p:cNvSpPr/>
          <p:nvPr/>
        </p:nvSpPr>
        <p:spPr>
          <a:xfrm>
            <a:off x="4853160" y="571500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Овал 14"/>
          <p:cNvSpPr/>
          <p:nvPr/>
        </p:nvSpPr>
        <p:spPr>
          <a:xfrm>
            <a:off x="5781600" y="571500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2500200" y="450072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800"/>
                <a:gridCol w="1011240"/>
                <a:gridCol w="93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500200" y="5572080"/>
          <a:ext cx="399600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8"/>
          <p:cNvSpPr/>
          <p:nvPr/>
        </p:nvSpPr>
        <p:spPr>
          <a:xfrm>
            <a:off x="4857840" y="464328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Овал 9"/>
          <p:cNvSpPr/>
          <p:nvPr/>
        </p:nvSpPr>
        <p:spPr>
          <a:xfrm>
            <a:off x="5786280" y="464328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Овал 13"/>
          <p:cNvSpPr/>
          <p:nvPr/>
        </p:nvSpPr>
        <p:spPr>
          <a:xfrm>
            <a:off x="4853160" y="571500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Овал 14"/>
          <p:cNvSpPr/>
          <p:nvPr/>
        </p:nvSpPr>
        <p:spPr>
          <a:xfrm>
            <a:off x="5781600" y="571500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714920" y="5072040"/>
          <a:ext cx="3971880" cy="71424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1009440"/>
                <a:gridCol w="9399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433440" y="507204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998280"/>
                <a:gridCol w="1000080"/>
                <a:gridCol w="998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4"/>
          <p:cNvSpPr/>
          <p:nvPr/>
        </p:nvSpPr>
        <p:spPr>
          <a:xfrm>
            <a:off x="2143080" y="642960"/>
            <a:ext cx="128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6286680" y="285768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344" name="Прямая со стрелкой 7"/>
          <p:cNvCxnSpPr/>
          <p:nvPr/>
        </p:nvCxnSpPr>
        <p:spPr>
          <a:xfrm>
            <a:off x="3142800" y="1143000"/>
            <a:ext cx="300132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5" name="Прямая со стрелкой 9"/>
          <p:cNvCxnSpPr/>
          <p:nvPr/>
        </p:nvCxnSpPr>
        <p:spPr>
          <a:xfrm>
            <a:off x="3071880" y="2214720"/>
            <a:ext cx="30009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Прямая со стрелкой 11"/>
          <p:cNvCxnSpPr/>
          <p:nvPr/>
        </p:nvCxnSpPr>
        <p:spPr>
          <a:xfrm>
            <a:off x="3071880" y="3499920"/>
            <a:ext cx="3000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Прямая со стрелкой 13"/>
          <p:cNvCxnSpPr/>
          <p:nvPr/>
        </p:nvCxnSpPr>
        <p:spPr>
          <a:xfrm flipV="1">
            <a:off x="3142800" y="3714120"/>
            <a:ext cx="300132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Прямая со стрелкой 15"/>
          <p:cNvCxnSpPr/>
          <p:nvPr/>
        </p:nvCxnSpPr>
        <p:spPr>
          <a:xfrm flipV="1">
            <a:off x="3142800" y="3857040"/>
            <a:ext cx="307260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143000" y="42876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ЗЕ-ЛЁ-НА-Я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В   ТЁП-ЛЫХ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В   СЛЁЗ-КАХ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В   БЛЁСТ-КАХ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О-ЗА-РЁН-НА-Я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85880" y="428400"/>
            <a:ext cx="79293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лка в б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стках ледяных,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плых с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зках смоляных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вежая, зе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ная,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олнцем оза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р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нная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21800" y="3684600"/>
            <a:ext cx="79930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1.Проверим д/з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2.Узнаем новое о букве Ё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Cambria"/>
              </a:rPr>
              <a:t>3.Научимся читать слова с буквой Ё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уква  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785880" y="428400"/>
            <a:ext cx="79293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лка в б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стках 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д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яных,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 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плых с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зках смо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яных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жая, 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з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ная,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олнцем оза</a:t>
            </a:r>
            <a:r>
              <a:rPr b="0" lang="ru-RU" sz="4000" spc="-1" strike="noStrike" u="sng">
                <a:solidFill>
                  <a:srgbClr val="92d050"/>
                </a:solidFill>
                <a:uFillTx/>
                <a:latin typeface="Cambria"/>
              </a:rPr>
              <a:t>р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ённая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ree"/>
          <p:cNvSpPr/>
          <p:nvPr/>
        </p:nvSpPr>
        <p:spPr>
          <a:xfrm>
            <a:off x="1714680" y="428760"/>
            <a:ext cx="5929200" cy="6048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016.jpg"/>
          <p:cNvPicPr/>
          <p:nvPr/>
        </p:nvPicPr>
        <p:blipFill>
          <a:blip r:embed="rId1"/>
          <a:stretch/>
        </p:blipFill>
        <p:spPr>
          <a:xfrm>
            <a:off x="304920" y="762120"/>
            <a:ext cx="3749400" cy="50004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004.jpg"/>
          <p:cNvPicPr/>
          <p:nvPr/>
        </p:nvPicPr>
        <p:blipFill>
          <a:blip r:embed="rId2"/>
          <a:stretch/>
        </p:blipFill>
        <p:spPr>
          <a:xfrm>
            <a:off x="4786200" y="500040"/>
            <a:ext cx="37864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iCAEGKN9A.jpg"/>
          <p:cNvPicPr/>
          <p:nvPr/>
        </p:nvPicPr>
        <p:blipFill>
          <a:blip r:embed="rId1"/>
          <a:stretch/>
        </p:blipFill>
        <p:spPr>
          <a:xfrm>
            <a:off x="1928880" y="1214280"/>
            <a:ext cx="522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eli_glena.jpg"/>
          <p:cNvPicPr/>
          <p:nvPr/>
        </p:nvPicPr>
        <p:blipFill>
          <a:blip r:embed="rId1"/>
          <a:stretch/>
        </p:blipFill>
        <p:spPr>
          <a:xfrm>
            <a:off x="2857680" y="209520"/>
            <a:ext cx="33573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4" descr="medherb058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5737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PICT2133.jpg"/>
          <p:cNvPicPr/>
          <p:nvPr/>
        </p:nvPicPr>
        <p:blipFill>
          <a:blip r:embed="rId2"/>
          <a:stretch/>
        </p:blipFill>
        <p:spPr>
          <a:xfrm>
            <a:off x="4500720" y="10717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56400_0.jpg"/>
          <p:cNvPicPr/>
          <p:nvPr/>
        </p:nvPicPr>
        <p:blipFill>
          <a:blip r:embed="rId1"/>
          <a:stretch/>
        </p:blipFill>
        <p:spPr>
          <a:xfrm>
            <a:off x="1428840" y="71424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Буква Ё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6760" y="1143000"/>
            <a:ext cx="403884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означает 2 зву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142880" y="142848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означает мягкость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дыдущего согласног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Прямая соединительная линия 19"/>
          <p:cNvSpPr/>
          <p:nvPr/>
        </p:nvSpPr>
        <p:spPr>
          <a:xfrm flipV="1">
            <a:off x="3429000" y="928800"/>
            <a:ext cx="1143000" cy="1071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Прямая соединительная линия 25"/>
          <p:cNvSpPr/>
          <p:nvPr/>
        </p:nvSpPr>
        <p:spPr>
          <a:xfrm>
            <a:off x="4572000" y="928800"/>
            <a:ext cx="1214280" cy="10000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Прямая соединительная линия 27"/>
          <p:cNvSpPr/>
          <p:nvPr/>
        </p:nvSpPr>
        <p:spPr>
          <a:xfrm flipH="1" flipV="1">
            <a:off x="1714680" y="3714480"/>
            <a:ext cx="714240" cy="1143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Прямая соединительная линия 29"/>
          <p:cNvSpPr/>
          <p:nvPr/>
        </p:nvSpPr>
        <p:spPr>
          <a:xfrm flipV="1">
            <a:off x="2428200" y="3785760"/>
            <a:ext cx="857160" cy="1071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TextBox 30"/>
          <p:cNvSpPr/>
          <p:nvPr/>
        </p:nvSpPr>
        <p:spPr>
          <a:xfrm>
            <a:off x="1285920" y="3000240"/>
            <a:ext cx="385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[ j ]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[ o ]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3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3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Улыбающееся лицо 1"/>
          <p:cNvSpPr/>
          <p:nvPr/>
        </p:nvSpPr>
        <p:spPr>
          <a:xfrm>
            <a:off x="857160" y="1630440"/>
            <a:ext cx="1857600" cy="1571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Улыбающееся лицо 3"/>
          <p:cNvSpPr/>
          <p:nvPr/>
        </p:nvSpPr>
        <p:spPr>
          <a:xfrm>
            <a:off x="6215040" y="1500120"/>
            <a:ext cx="1857240" cy="157176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Улыбающееся лицо 4"/>
          <p:cNvSpPr/>
          <p:nvPr/>
        </p:nvSpPr>
        <p:spPr>
          <a:xfrm>
            <a:off x="3714840" y="2786040"/>
            <a:ext cx="1857240" cy="1571760"/>
          </a:xfrm>
          <a:prstGeom prst="smileyFace">
            <a:avLst>
              <a:gd name="adj" fmla="val -2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1714680" y="34164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4643280" y="45720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7072200" y="3214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96464"/>
                </a:solidFill>
                <a:latin typeface="Calibri"/>
              </a:rPr>
              <a:t>ЁЖИК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Рисунок 4" descr="1182346186_f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Буква Ё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56760" y="1143000"/>
            <a:ext cx="403884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означает 2 звук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142848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Прямая соединительная линия 19"/>
          <p:cNvSpPr/>
          <p:nvPr/>
        </p:nvSpPr>
        <p:spPr>
          <a:xfrm flipV="1">
            <a:off x="3429000" y="928800"/>
            <a:ext cx="1143000" cy="1071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Прямая соединительная линия 25"/>
          <p:cNvSpPr/>
          <p:nvPr/>
        </p:nvSpPr>
        <p:spPr>
          <a:xfrm>
            <a:off x="4572000" y="928800"/>
            <a:ext cx="1214280" cy="10000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Прямая соединительная линия 27"/>
          <p:cNvSpPr/>
          <p:nvPr/>
        </p:nvSpPr>
        <p:spPr>
          <a:xfrm flipH="1" flipV="1">
            <a:off x="1714680" y="3714480"/>
            <a:ext cx="714240" cy="1143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Прямая соединительная линия 29"/>
          <p:cNvSpPr/>
          <p:nvPr/>
        </p:nvSpPr>
        <p:spPr>
          <a:xfrm flipV="1">
            <a:off x="2428200" y="3785760"/>
            <a:ext cx="857160" cy="1071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1285920" y="3000240"/>
            <a:ext cx="385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й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]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[ o ]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433440" y="507204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440"/>
                <a:gridCol w="1011240"/>
                <a:gridCol w="939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719600" y="507204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Logoff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Logoff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3440" y="507204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440"/>
                <a:gridCol w="1011240"/>
                <a:gridCol w="939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719600" y="507204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Овал 5"/>
          <p:cNvSpPr/>
          <p:nvPr/>
        </p:nvSpPr>
        <p:spPr>
          <a:xfrm>
            <a:off x="71424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Овал 10"/>
          <p:cNvSpPr/>
          <p:nvPr/>
        </p:nvSpPr>
        <p:spPr>
          <a:xfrm>
            <a:off x="171468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278604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371484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433440" y="507204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440"/>
                <a:gridCol w="1011240"/>
                <a:gridCol w="939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19600" y="507204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260" name="Овал 5"/>
          <p:cNvSpPr/>
          <p:nvPr/>
        </p:nvSpPr>
        <p:spPr>
          <a:xfrm>
            <a:off x="71424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Овал 10"/>
          <p:cNvSpPr/>
          <p:nvPr/>
        </p:nvSpPr>
        <p:spPr>
          <a:xfrm>
            <a:off x="171468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278604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Овал 12"/>
          <p:cNvSpPr/>
          <p:nvPr/>
        </p:nvSpPr>
        <p:spPr>
          <a:xfrm>
            <a:off x="371484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Овал 13"/>
          <p:cNvSpPr/>
          <p:nvPr/>
        </p:nvSpPr>
        <p:spPr>
          <a:xfrm>
            <a:off x="4929120" y="5214960"/>
            <a:ext cx="428760" cy="42876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Овал 15"/>
          <p:cNvSpPr/>
          <p:nvPr/>
        </p:nvSpPr>
        <p:spPr>
          <a:xfrm>
            <a:off x="7000920" y="521496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Овал 16"/>
          <p:cNvSpPr/>
          <p:nvPr/>
        </p:nvSpPr>
        <p:spPr>
          <a:xfrm>
            <a:off x="7929720" y="5214960"/>
            <a:ext cx="42840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643120" y="5715000"/>
          <a:ext cx="397188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09800"/>
                <a:gridCol w="1011240"/>
                <a:gridCol w="939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643120" y="4714920"/>
          <a:ext cx="3995640" cy="685800"/>
        </p:xfrm>
        <a:graphic>
          <a:graphicData uri="http://schemas.openxmlformats.org/drawingml/2006/table">
            <a:tbl>
              <a:tblPr/>
              <a:tblGrid>
                <a:gridCol w="998640"/>
                <a:gridCol w="1000080"/>
                <a:gridCol w="998640"/>
                <a:gridCol w="998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5" descr="C:\Users\Пользователь\Pictures\Организатор клипов (Microsoft)\j0428229.wmf"/>
          <p:cNvPicPr/>
          <p:nvPr/>
        </p:nvPicPr>
        <p:blipFill>
          <a:blip r:embed="rId1"/>
          <a:stretch/>
        </p:blipFill>
        <p:spPr>
          <a:xfrm>
            <a:off x="5857920" y="1357200"/>
            <a:ext cx="1785960" cy="347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Users\Пользователь\Pictures\Организатор клипов (Microsoft)\j0428227.wmf"/>
          <p:cNvPicPr/>
          <p:nvPr/>
        </p:nvPicPr>
        <p:blipFill>
          <a:blip r:embed="rId2"/>
          <a:stretch/>
        </p:blipFill>
        <p:spPr>
          <a:xfrm>
            <a:off x="1357200" y="1571760"/>
            <a:ext cx="1955880" cy="300024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5"/>
          <p:cNvSpPr/>
          <p:nvPr/>
        </p:nvSpPr>
        <p:spPr>
          <a:xfrm>
            <a:off x="2928960" y="5857920"/>
            <a:ext cx="42876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Овал 10"/>
          <p:cNvSpPr/>
          <p:nvPr/>
        </p:nvSpPr>
        <p:spPr>
          <a:xfrm>
            <a:off x="3929040" y="585792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Овал 11"/>
          <p:cNvSpPr/>
          <p:nvPr/>
        </p:nvSpPr>
        <p:spPr>
          <a:xfrm>
            <a:off x="5000760" y="5857920"/>
            <a:ext cx="428400" cy="428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Овал 12"/>
          <p:cNvSpPr/>
          <p:nvPr/>
        </p:nvSpPr>
        <p:spPr>
          <a:xfrm>
            <a:off x="5929200" y="5857920"/>
            <a:ext cx="42876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Овал 13"/>
          <p:cNvSpPr/>
          <p:nvPr/>
        </p:nvSpPr>
        <p:spPr>
          <a:xfrm>
            <a:off x="2928960" y="4857840"/>
            <a:ext cx="428760" cy="4284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Овал 14"/>
          <p:cNvSpPr/>
          <p:nvPr/>
        </p:nvSpPr>
        <p:spPr>
          <a:xfrm>
            <a:off x="3929040" y="4857840"/>
            <a:ext cx="428760" cy="42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Овал 15"/>
          <p:cNvSpPr/>
          <p:nvPr/>
        </p:nvSpPr>
        <p:spPr>
          <a:xfrm>
            <a:off x="5000760" y="4857840"/>
            <a:ext cx="428400" cy="42840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Овал 16"/>
          <p:cNvSpPr/>
          <p:nvPr/>
        </p:nvSpPr>
        <p:spPr>
          <a:xfrm>
            <a:off x="5929200" y="4857840"/>
            <a:ext cx="428760" cy="42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6929280" y="300024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714680" y="4714920"/>
            <a:ext cx="12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714680" y="2571840"/>
            <a:ext cx="52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М 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3786120" y="50004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7215120" y="5000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TextBox 15"/>
          <p:cNvSpPr/>
          <p:nvPr/>
        </p:nvSpPr>
        <p:spPr>
          <a:xfrm>
            <a:off x="1071720" y="928800"/>
            <a:ext cx="107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4786200" y="235728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mbria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8:44:23Z</dcterms:created>
  <dc:creator>Пользователь</dc:creator>
  <dc:description/>
  <dc:language>en-US</dc:language>
  <cp:lastModifiedBy>User</cp:lastModifiedBy>
  <dcterms:modified xsi:type="dcterms:W3CDTF">2008-03-12T14:14:50Z</dcterms:modified>
  <cp:revision>76</cp:revision>
  <dc:subject/>
  <dc:title>Слайд 1</dc:title>
</cp:coreProperties>
</file>