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6.jpeg" ContentType="image/jpeg"/>
  <Override PartName="/ppt/media/image1.jpeg" ContentType="image/jpeg"/>
  <Override PartName="/ppt/media/image35.jpeg" ContentType="image/jpeg"/>
  <Override PartName="/ppt/media/image58.jpeg" ContentType="image/jpeg"/>
  <Override PartName="/ppt/media/image14.wmf" ContentType="image/x-wmf"/>
  <Override PartName="/ppt/media/image64.png" ContentType="image/png"/>
  <Override PartName="/ppt/media/image15.jpeg" ContentType="image/jpeg"/>
  <Override PartName="/ppt/media/image60.png" ContentType="image/png"/>
  <Override PartName="/ppt/media/image6.jpeg" ContentType="image/jpeg"/>
  <Override PartName="/ppt/media/image24.jpeg" ContentType="image/jpeg"/>
  <Override PartName="/ppt/media/image59.png" ContentType="image/png"/>
  <Override PartName="/ppt/media/image25.jpeg" ContentType="image/jpeg"/>
  <Override PartName="/ppt/media/image62.wmf" ContentType="image/x-wmf"/>
  <Override PartName="/ppt/media/image22.png" ContentType="image/png"/>
  <Override PartName="/ppt/media/image5.jpeg" ContentType="image/jpeg"/>
  <Override PartName="/ppt/media/image61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3.wmf" ContentType="image/x-wmf"/>
  <Override PartName="/ppt/media/image50.jpeg" ContentType="image/jpeg"/>
  <Override PartName="/ppt/media/image63.wmf" ContentType="image/x-wmf"/>
  <Override PartName="/ppt/media/image65.png" ContentType="image/png"/>
  <Override PartName="/ppt/media/image21.jpeg" ContentType="image/jpeg"/>
  <Override PartName="/ppt/media/image49.jpeg" ContentType="image/jpeg"/>
  <Override PartName="/ppt/media/image28.jpeg" ContentType="image/jpeg"/>
  <Override PartName="/ppt/media/image51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9.jpeg" ContentType="image/jpeg"/>
  <Override PartName="/ppt/media/image42.jpeg" ContentType="image/jpeg"/>
  <Override PartName="/ppt/media/image11.png" ContentType="image/png"/>
  <Override PartName="/ppt/media/image9.png" ContentType="image/pn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7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66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5545BD-FBB9-4E97-BB2C-D8C939921B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EE42A-A7C1-4999-8E75-D165A18CAB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00E56D-A80F-4D1E-82A1-90A148919B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A8E772-58DB-4AE3-83D7-4668B8EA00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7C6C5-C8A6-4A74-942E-1F086A54B4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CFD930-55D8-4066-8FAA-E4EF008527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77A65E-B2E9-4179-A1D6-4FCD9590A6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2A4191-2B63-40AE-B4BA-DAFF0540B9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65991-B2AB-421E-850A-A0CD776A74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1DF127-9331-4349-B4DE-269A0FCC57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F4DB1-E1C6-4FAA-8D8E-3686D69FF4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A97E1-974E-4BDE-AF83-8EB0F6066F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80B12B-3129-40DF-890F-C7D21171F2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54EF7E-1D04-40A4-8911-C943DA754E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652B21-5A87-4257-9730-724A6E0380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913455-C8D6-4296-BB58-612829632D5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CF72EC-4DF0-4FA2-A519-0396C1F376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BF8BF4-4F63-41EE-BEC3-F6F6EB525B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F48-4EEA-4DDC-BC06-DE097D8E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4B0-8323-4223-B6DF-B8CFDA3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3B9-035A-47A1-A007-82AC1C14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333-6F78-4BD8-BE74-2A7323C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6C9-6B2F-4A26-BBFF-5D38B271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83F-62C3-43B8-BA45-5C5E6F1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E79-14BD-41DE-802A-6282DCE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D6F-2AF6-4D2E-834D-FFE4CD5B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E9B-3B35-4E37-9385-8E6957D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6FFE-DDC3-44A4-8757-2F073E6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5901-CDF6-4788-A85B-AF4E067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7C9-C809-4B36-BDA5-904E49F0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433-D503-4819-99FA-6A50B05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A89-F6E3-4D5D-BDFE-0274585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8FE6-274A-4E13-9119-2F95C45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F25-2062-4AA4-BB39-D227BD1F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F14-5606-498D-997A-C3BE16D7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C08A-D42D-4596-84C6-479137B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EB22-EC22-4192-A578-5C2E254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FB20-2A0D-48B4-83B9-B9098E6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555E-CA5D-43D8-B9F1-DFCDE03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0CC1-1802-4ED2-80C6-A93DA4CB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854-A6F0-424B-92A4-A23C445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9949-E067-402D-9E62-DA8998F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2D9B-05C3-4CAC-83B2-97CE5FA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93E2-3B0B-479B-9CB3-0ED153B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0226-0C3E-4355-807E-0365212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A4F4-59AE-4242-9FBD-B3C6DD9C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6509-32C9-419E-ABB1-2A424EE0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81C2-3FEF-4DC1-AE25-31846ADF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E23E-D7BA-4911-AED5-9A89A2B9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4397-EAE3-4D4F-80E2-78E19181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6FA6-765A-46C1-A110-1E7FC29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92D-CFB1-42FE-B337-073113E1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23B5-0C59-4862-8950-69BCF76E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6C69-3CA8-4540-8A38-D9357934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F234-4034-4793-ABEC-4D25D4F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078B-B5AD-47F0-8810-7A53677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A739-B750-4E89-BF87-0E0F916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DD38-6A42-4F3F-BDF7-DC627EA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41D6-1F47-494B-B158-AC713D3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4D5E-0317-4405-BF72-3C9D833F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E03D-05C5-4A2A-83C5-E037C1F8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5BFC-F296-4CB0-9BA6-8E17D5C7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3B3-858E-45B6-B7BD-4A6CFAA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7B84-2410-4275-B445-14614D7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AAAD-B031-4FCB-920B-B06A253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11DA-A8FE-4927-9A85-C6E2477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99EC-B8D5-49DA-B4DB-F4CD139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A3E2-3317-4B90-95C2-2AA7193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EE09-CFCE-4D23-B898-419FCDE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D016-8C06-42C8-AE22-EEC3663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5A32-EDC9-4AA0-B1B6-C35E4E4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AD74-4A40-4C3B-8299-3B56D005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6CCD-333B-4110-B44B-DC86DD5E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9B1-D66C-489E-94A7-F234111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B851-ABF7-420B-9473-5BCABC40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FF4-0F4B-4842-A028-6787EBA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DA3-AE22-44AB-BDAD-7523441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AA2-F7F1-45B8-B59B-45322A7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5D3380-899D-4F55-911F-6874174EB8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CFD19E-0F6B-469B-BBE9-E070BD7B0D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61E40B-5485-4581-81A5-40C6F9E6B7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CE288D-417C-4289-875B-0A5BB27886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4D6A76-F8BF-42DC-9EE1-592408435A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ский сад № 115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овского района города Нижний Новг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908000" y="141300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ире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я Пет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5435640" y="1268280"/>
            <a:ext cx="3529080" cy="216072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фессиональное кред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Научить ребенка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это создать ему у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ля полного овла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воими собственными способностям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L:\Documents and Settings\Оксана.MDOU115\Мои документы\ФОТО\Коллектив\Башкирева Е.П\vs27.jpg"/>
          <p:cNvPicPr/>
          <p:nvPr/>
        </p:nvPicPr>
        <p:blipFill>
          <a:blip r:embed="rId1"/>
          <a:stretch/>
        </p:blipFill>
        <p:spPr>
          <a:xfrm>
            <a:off x="201600" y="987480"/>
            <a:ext cx="1981080" cy="2803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Башкирева Е.П. 2015 г."/>
          <p:cNvPicPr/>
          <p:nvPr/>
        </p:nvPicPr>
        <p:blipFill>
          <a:blip r:embed="rId2"/>
          <a:stretch/>
        </p:blipFill>
        <p:spPr>
          <a:xfrm>
            <a:off x="324000" y="3933720"/>
            <a:ext cx="1908000" cy="2754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Башкирева Е.П.0001"/>
          <p:cNvPicPr/>
          <p:nvPr/>
        </p:nvPicPr>
        <p:blipFill>
          <a:blip r:embed="rId3"/>
          <a:stretch/>
        </p:blipFill>
        <p:spPr>
          <a:xfrm>
            <a:off x="2556000" y="3933720"/>
            <a:ext cx="1909800" cy="272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http://detsadik115.nnov.ru/wp-content/uploads/2014/08/%D0%91%D0%B0%D1%88%D0%BA%D0%B8%D1%80%D0%B5%D0%B2%D0%B0-%D0%95.%D0%9F.-%D0%9F%D0%93-%D0%94%D0%9E-2017-%D0%B3.t.jpg"/>
          <p:cNvPicPr/>
          <p:nvPr/>
        </p:nvPicPr>
        <p:blipFill>
          <a:blip r:embed="rId4"/>
          <a:stretch/>
        </p:blipFill>
        <p:spPr>
          <a:xfrm>
            <a:off x="4788000" y="3933720"/>
            <a:ext cx="1871640" cy="2703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http://detsadik115.nnov.ru/wp-content/uploads/2014/08/%D0%91%D0%9F-%D0%93%D0%90-%D0%9C%D0%A0-%D0%91%D0%B0%D1%88%D0%BA%D0%B8%D1%80%D0%B5%D0%B2%D0%B0-%D0%95.%D0%9F.-2018-%D0%B3..jpg"/>
          <p:cNvPicPr/>
          <p:nvPr/>
        </p:nvPicPr>
        <p:blipFill>
          <a:blip r:embed="rId5"/>
          <a:stretch/>
        </p:blipFill>
        <p:spPr>
          <a:xfrm>
            <a:off x="6948360" y="3933720"/>
            <a:ext cx="187164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500720" y="907920"/>
            <a:ext cx="30524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утешествие капель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0" y="407664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, внимание, память, лабиринты, счет, ориентировка в пространств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79280" y="134136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ные и плоскостные  геометрические формы, цвет, величина, сч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4140360" y="1268280"/>
            <a:ext cx="50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окружающим, времена года, ориентация во времени, установление закономерностей, мини- лаборатор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24000" y="3645000"/>
            <a:ext cx="237636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эпбук«Корабл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187280" y="907920"/>
            <a:ext cx="20448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убар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8" descr=""/>
          <p:cNvPicPr/>
          <p:nvPr/>
        </p:nvPicPr>
        <p:blipFill>
          <a:blip r:embed="rId1"/>
          <a:stretch/>
        </p:blipFill>
        <p:spPr>
          <a:xfrm>
            <a:off x="3803760" y="1994040"/>
            <a:ext cx="1738080" cy="1839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F:\РАБОЧАЯ\Аттестация\Аттестация 2021-2022 уч.г\Аттестация Октябрь 2021 г\IMG-f05b2a03c66a06fefa0b17c0e4ff22f9-V.jpg"/>
          <p:cNvPicPr/>
          <p:nvPr/>
        </p:nvPicPr>
        <p:blipFill>
          <a:blip r:embed="rId2"/>
          <a:stretch/>
        </p:blipFill>
        <p:spPr>
          <a:xfrm>
            <a:off x="5364000" y="1773360"/>
            <a:ext cx="3554640" cy="1726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F:\РАБОЧАЯ\Аттестация\Аттестация 2021-2022 уч.г\Аттестация Октябрь 2021 г\IMG-1e5da75d1def98e297eb945c2df2256d-V.jpg"/>
          <p:cNvPicPr/>
          <p:nvPr/>
        </p:nvPicPr>
        <p:blipFill>
          <a:blip r:embed="rId3"/>
          <a:stretch/>
        </p:blipFill>
        <p:spPr>
          <a:xfrm>
            <a:off x="179280" y="1844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F:\РАБОЧАЯ\Аттестация\Аттестация 2021-2022 уч.г\Аттестация Октябрь 2021 г\IMG-a89589f3fdcc1493d81e7902a4882a13-V.jpg"/>
          <p:cNvPicPr/>
          <p:nvPr/>
        </p:nvPicPr>
        <p:blipFill>
          <a:blip r:embed="rId4"/>
          <a:stretch/>
        </p:blipFill>
        <p:spPr>
          <a:xfrm>
            <a:off x="2556000" y="1773360"/>
            <a:ext cx="1189080" cy="1800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5364000" y="3645000"/>
            <a:ext cx="35560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эпбу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жний Новгород 800 л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4" descr="F:\РАБОЧАЯ\Аттестация\Аттестация 2021-2022 уч.г\Аттестация Октябрь 2021 г\IMG-409d75decc4912a2bc113b8c2bb75884-V.jpg"/>
          <p:cNvPicPr/>
          <p:nvPr/>
        </p:nvPicPr>
        <p:blipFill>
          <a:blip r:embed="rId5"/>
          <a:stretch/>
        </p:blipFill>
        <p:spPr>
          <a:xfrm>
            <a:off x="1403280" y="4869000"/>
            <a:ext cx="2973600" cy="1728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F:\РАБОЧАЯ\Аттестация\Аттестация 2021-2022 уч.г\Аттестация Октябрь 2021 г\IMG-b55c63338451674d5227d5182044907c-V.jpg"/>
          <p:cNvPicPr/>
          <p:nvPr/>
        </p:nvPicPr>
        <p:blipFill>
          <a:blip r:embed="rId6"/>
          <a:stretch/>
        </p:blipFill>
        <p:spPr>
          <a:xfrm>
            <a:off x="179280" y="4581360"/>
            <a:ext cx="1440000" cy="1478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ный аспект личного вклада педаго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вити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, апробация и сертификация авторских дидактических иг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17" descr="F:\РАБОЧАЯ\Аттестация\Аттестация 2021-2022 уч.г\Аттестация Октябрь 2021 г\IMG-912948fd6cf6be451cf0276fd3467cd6-V.jpg"/>
          <p:cNvPicPr/>
          <p:nvPr/>
        </p:nvPicPr>
        <p:blipFill>
          <a:blip r:embed="rId7"/>
          <a:stretch/>
        </p:blipFill>
        <p:spPr>
          <a:xfrm>
            <a:off x="5364000" y="4941720"/>
            <a:ext cx="3554640" cy="1727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F:\РАБОЧАЯ\Аттестация\Аттестация 2021-2022 уч.г\Аттестация Октябрь 2021 г\IMG-38df9ade84de9c4c14a19a14dd714388-V.jpg"/>
          <p:cNvPicPr/>
          <p:nvPr/>
        </p:nvPicPr>
        <p:blipFill>
          <a:blip r:embed="rId8"/>
          <a:stretch/>
        </p:blipFill>
        <p:spPr>
          <a:xfrm>
            <a:off x="4427640" y="4149720"/>
            <a:ext cx="166536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8" descr="6.jpg"/>
          <p:cNvPicPr/>
          <p:nvPr/>
        </p:nvPicPr>
        <p:blipFill>
          <a:blip r:embed="rId9"/>
          <a:stretch/>
        </p:blipFill>
        <p:spPr>
          <a:xfrm>
            <a:off x="2916360" y="4365720"/>
            <a:ext cx="1224000" cy="42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3" name="Рисунок 19" descr=""/>
          <p:cNvPicPr/>
          <p:nvPr/>
        </p:nvPicPr>
        <p:blipFill>
          <a:blip r:embed="rId10"/>
          <a:stretch/>
        </p:blipFill>
        <p:spPr>
          <a:xfrm>
            <a:off x="7888320" y="798480"/>
            <a:ext cx="1011240" cy="11224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6156360" y="4149720"/>
            <a:ext cx="28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, память, лабиринты, счет, ориентировка на плоскости, геометрические фигу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39528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Деятельностный аспект личного вклада педагога в развитие обра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1143000" y="3227400"/>
            <a:ext cx="48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201080" cy="5616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F:\РАБОЧАЯ\Аттестация\Аттестация 2021-2022 уч.г\Аттестация Октябрь 2021 г\IMG-bbfd84126142db3d4262b4c777c447af-V.jpg"/>
          <p:cNvPicPr/>
          <p:nvPr/>
        </p:nvPicPr>
        <p:blipFill>
          <a:blip r:embed="rId2"/>
          <a:stretch/>
        </p:blipFill>
        <p:spPr>
          <a:xfrm>
            <a:off x="7308720" y="3860640"/>
            <a:ext cx="1616040" cy="1305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F:\РАБОЧАЯ\Аттестация\Аттестация 2021-2022 уч.г\Аттестация Октябрь 2021 г\IMG-a90da71e646fd3ed6e2518c20fe308a5-V.jpg"/>
          <p:cNvPicPr/>
          <p:nvPr/>
        </p:nvPicPr>
        <p:blipFill>
          <a:blip r:embed="rId3"/>
          <a:stretch/>
        </p:blipFill>
        <p:spPr>
          <a:xfrm>
            <a:off x="7164360" y="249228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F:\РАБОЧАЯ\Аттестация\Аттестация 2021-2022 уч.г\Аттестация Октябрь 2021 г\IMG-1e9ce327862e6b4de7e11cba5fa1baff-V.jpg"/>
          <p:cNvPicPr/>
          <p:nvPr/>
        </p:nvPicPr>
        <p:blipFill>
          <a:blip r:embed="rId4"/>
          <a:stretch/>
        </p:blipFill>
        <p:spPr>
          <a:xfrm>
            <a:off x="7008840" y="981000"/>
            <a:ext cx="2135160" cy="1224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F:\РАБОЧАЯ\Аттестация\Аттестация 2021-2022 уч.г\Аттестация Октябрь 2021 г\IMG-365431e20e4c15b1a0427f2b58036c7a-V.jpg"/>
          <p:cNvPicPr/>
          <p:nvPr/>
        </p:nvPicPr>
        <p:blipFill>
          <a:blip r:embed="rId5"/>
          <a:stretch/>
        </p:blipFill>
        <p:spPr>
          <a:xfrm>
            <a:off x="7308720" y="5300640"/>
            <a:ext cx="1008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187280" y="0"/>
            <a:ext cx="813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Деятельностный аспект личного вклада педагога  в развитие образ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79280" y="3284640"/>
            <a:ext cx="295272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прошу, а ты отв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-1440"/>
            <a:ext cx="1403280" cy="622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0" y="476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 правил игры, знакомство с общими способами 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Рисунок 7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808360" cy="2340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F:\РАБОЧАЯ\Аттестация\Аттестация 2021-2022 уч.г\Аттестация Октябрь 2021 г\IMG-b573711cea41d6a9551b1bb2ffd916ed-V.jpg"/>
          <p:cNvPicPr/>
          <p:nvPr/>
        </p:nvPicPr>
        <p:blipFill>
          <a:blip r:embed="rId2"/>
          <a:stretch/>
        </p:blipFill>
        <p:spPr>
          <a:xfrm>
            <a:off x="3564000" y="765000"/>
            <a:ext cx="3128760" cy="38307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6"/>
          <p:cNvSpPr/>
          <p:nvPr/>
        </p:nvSpPr>
        <p:spPr>
          <a:xfrm>
            <a:off x="3132000" y="4653000"/>
            <a:ext cx="1871640" cy="365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9" descr="F:\РАБОЧАЯ\Аттестация\Аттестация 2021-2022 уч.г\Аттестация Октябрь 2021 г\IMG-53e1b36ffadef8b02ae1cfe1b687d3e9-V.jpg"/>
          <p:cNvPicPr/>
          <p:nvPr/>
        </p:nvPicPr>
        <p:blipFill>
          <a:blip r:embed="rId3"/>
          <a:stretch/>
        </p:blipFill>
        <p:spPr>
          <a:xfrm>
            <a:off x="5076720" y="3429000"/>
            <a:ext cx="2629080" cy="272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4"/>
          <a:stretch/>
        </p:blipFill>
        <p:spPr>
          <a:xfrm>
            <a:off x="7164360" y="836640"/>
            <a:ext cx="1584360" cy="160956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8"/>
          <p:cNvSpPr/>
          <p:nvPr/>
        </p:nvSpPr>
        <p:spPr>
          <a:xfrm>
            <a:off x="6732720" y="2421000"/>
            <a:ext cx="2209680" cy="417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и-лабора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7451640" y="5229360"/>
            <a:ext cx="1476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и уз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5" descr="F:\РАБОЧАЯ\Аттестация\Аттестация 2021-2022 уч.г\Аттестация Октябрь 2021 г\IMG-37bdcb33fd34cdb6b0f76b89b60b46f2-V.jpg"/>
          <p:cNvPicPr/>
          <p:nvPr/>
        </p:nvPicPr>
        <p:blipFill>
          <a:blip r:embed="rId5"/>
          <a:stretch/>
        </p:blipFill>
        <p:spPr>
          <a:xfrm>
            <a:off x="7236000" y="2924280"/>
            <a:ext cx="1633320" cy="12081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4"/>
          <p:cNvSpPr/>
          <p:nvPr/>
        </p:nvSpPr>
        <p:spPr>
          <a:xfrm>
            <a:off x="7816680" y="4365720"/>
            <a:ext cx="1155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по образцу,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по инструкци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по памя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по желанию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11" descr="F:\РАБОЧАЯ\Аттестация\Аттестация 2021-2022 уч.г\Аттестация Октябрь 2021 г\IMG-4359096cbdecb8b2e79c61d41f144c78-V.jpg"/>
          <p:cNvPicPr/>
          <p:nvPr/>
        </p:nvPicPr>
        <p:blipFill>
          <a:blip r:embed="rId6"/>
          <a:stretch/>
        </p:blipFill>
        <p:spPr>
          <a:xfrm>
            <a:off x="250920" y="4076640"/>
            <a:ext cx="2841480" cy="252108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6"/>
          <p:cNvSpPr/>
          <p:nvPr/>
        </p:nvSpPr>
        <p:spPr>
          <a:xfrm>
            <a:off x="3132000" y="5445000"/>
            <a:ext cx="19209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17"/>
          <p:cNvSpPr/>
          <p:nvPr/>
        </p:nvSpPr>
        <p:spPr>
          <a:xfrm>
            <a:off x="3059280" y="6211800"/>
            <a:ext cx="60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и совместная деятельность воспитателя с ребёнком, подгруппой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еятельностный аспект личного вклада педаг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 развитие 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6300720" y="1268280"/>
            <a:ext cx="2514600" cy="1089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Развивающие задания с использование авторских дидактических иг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250920" y="1341360"/>
            <a:ext cx="3770280" cy="735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роблемной ситуации в задании «Нади дорогу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0" y="0"/>
            <a:ext cx="128736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сновной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оспитателем проблемно-поисковой ситуации в организованной и совместной с ребёнком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Рисунок 9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592360" cy="26370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7"/>
          <p:cNvSpPr/>
          <p:nvPr/>
        </p:nvSpPr>
        <p:spPr>
          <a:xfrm>
            <a:off x="5724360" y="6021360"/>
            <a:ext cx="2967120" cy="44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ческая олимпи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13" descr="F:\РАБОЧАЯ\Аттестация\Аттестация 2021-2022 уч.г\Аттестация Октябрь 2021 г\IMG-2d998540f0144e1a6e0e8025a7f75cea-V.jpg"/>
          <p:cNvPicPr/>
          <p:nvPr/>
        </p:nvPicPr>
        <p:blipFill>
          <a:blip r:embed="rId2"/>
          <a:stretch/>
        </p:blipFill>
        <p:spPr>
          <a:xfrm>
            <a:off x="6372360" y="2492280"/>
            <a:ext cx="2598480" cy="331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F:\РАБОЧАЯ\Аттестация\Аттестация 2021-2022 уч.г\Аттестация Октябрь 2021 г\IMG-4bc70f5272276b7da539f9455a1273ad-V.jpg"/>
          <p:cNvPicPr/>
          <p:nvPr/>
        </p:nvPicPr>
        <p:blipFill>
          <a:blip r:embed="rId3"/>
          <a:stretch/>
        </p:blipFill>
        <p:spPr>
          <a:xfrm>
            <a:off x="4067280" y="3716280"/>
            <a:ext cx="2160360" cy="2133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F:\РАБОЧАЯ\Аттестация\Аттестация 2021-2022 уч.г\Аттестация Октябрь 2021 г\IMG-05131921dcdf94c09a47e59c2f48b273-V.jpg"/>
          <p:cNvPicPr/>
          <p:nvPr/>
        </p:nvPicPr>
        <p:blipFill>
          <a:blip r:embed="rId4"/>
          <a:stretch/>
        </p:blipFill>
        <p:spPr>
          <a:xfrm>
            <a:off x="4067280" y="1341360"/>
            <a:ext cx="2136600" cy="2303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2268360" y="3860640"/>
            <a:ext cx="151776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риме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1" descr="F:\РАБОЧАЯ\Аттестация\Аттестация 2021-2022 уч.г\Аттестация Октябрь 2021 г\IMG-365431e20e4c15b1a0427f2b58036c7a-V.jpg"/>
          <p:cNvPicPr/>
          <p:nvPr/>
        </p:nvPicPr>
        <p:blipFill>
          <a:blip r:embed="rId5"/>
          <a:stretch/>
        </p:blipFill>
        <p:spPr>
          <a:xfrm>
            <a:off x="2340000" y="4724280"/>
            <a:ext cx="136836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36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33520" y="685800"/>
            <a:ext cx="75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в совместной игре детей, взаимное обучение игре одних детей другими, самостоятельная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64960" y="1143000"/>
            <a:ext cx="1600200" cy="646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Основной эта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7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944720" cy="15782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195640" cy="17366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1832040" cy="1685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"/>
          <p:cNvPicPr/>
          <p:nvPr/>
        </p:nvPicPr>
        <p:blipFill>
          <a:blip r:embed="rId4"/>
          <a:stretch/>
        </p:blipFill>
        <p:spPr>
          <a:xfrm>
            <a:off x="6732720" y="3716280"/>
            <a:ext cx="2232000" cy="295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F:\РАБОЧАЯ\Аттестация\Аттестация 2021-2022 уч.г\Аттестация Октябрь 2021 г\IMG-68c9eea1ef1127e2d146bbc34a631251-V.jpg"/>
          <p:cNvPicPr/>
          <p:nvPr/>
        </p:nvPicPr>
        <p:blipFill>
          <a:blip r:embed="rId5"/>
          <a:stretch/>
        </p:blipFill>
        <p:spPr>
          <a:xfrm>
            <a:off x="4211640" y="1341360"/>
            <a:ext cx="4738680" cy="230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1" descr="F:\РАБОЧАЯ\Аттестация\Аттестация 2021-2022 уч.г\Аттестация Октябрь 2021 г\IMG-6d99eeb0d51f565691e45eb3bc5d4169-V.jpg"/>
          <p:cNvPicPr/>
          <p:nvPr/>
        </p:nvPicPr>
        <p:blipFill>
          <a:blip r:embed="rId6"/>
          <a:stretch/>
        </p:blipFill>
        <p:spPr>
          <a:xfrm>
            <a:off x="2484360" y="3141720"/>
            <a:ext cx="1760760" cy="23670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"/>
          <p:cNvPicPr/>
          <p:nvPr/>
        </p:nvPicPr>
        <p:blipFill>
          <a:blip r:embed="rId7"/>
          <a:stretch/>
        </p:blipFill>
        <p:spPr>
          <a:xfrm>
            <a:off x="3492360" y="486900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F:\РАБОЧАЯ\Аттестация\Аттестация 2021-2022 уч.г\Аттестация Октябрь 2021 г\IMG-431f87fac534739120df4ce49dc24ddf-V.jpg"/>
          <p:cNvPicPr/>
          <p:nvPr/>
        </p:nvPicPr>
        <p:blipFill>
          <a:blip r:embed="rId8"/>
          <a:stretch/>
        </p:blipFill>
        <p:spPr>
          <a:xfrm>
            <a:off x="1619280" y="4797360"/>
            <a:ext cx="1368360" cy="186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7" descr="F:\РАБОЧАЯ\Аттестация\Аттестация 2021-2022 уч.г\Аттестация Октябрь 2021 г\IMG-17f90bf2e39a3b1c51cdfc2b8192e83e-V.jpg"/>
          <p:cNvPicPr/>
          <p:nvPr/>
        </p:nvPicPr>
        <p:blipFill>
          <a:blip r:embed="rId9"/>
          <a:stretch/>
        </p:blipFill>
        <p:spPr>
          <a:xfrm>
            <a:off x="4788000" y="5116680"/>
            <a:ext cx="1224000" cy="1565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F:\РАБОЧАЯ\Аттестация\Аттестация 2021-2022 уч.г\Аттестация Октябрь 2021 г\IMG-46cafeee7c670e54eb2d9d519eb05d4b-V.jpg"/>
          <p:cNvPicPr/>
          <p:nvPr/>
        </p:nvPicPr>
        <p:blipFill>
          <a:blip r:embed="rId10"/>
          <a:stretch/>
        </p:blipFill>
        <p:spPr>
          <a:xfrm>
            <a:off x="5508720" y="3716280"/>
            <a:ext cx="1079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0" y="549360"/>
            <a:ext cx="68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модействие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ными представителями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1125360"/>
            <a:ext cx="51483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ормы работы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</a:t>
            </a:r>
            <a:r>
              <a:rPr b="0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навательное развитие детей группы», «Формирование элементарных математических представлений» и т.д.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сультации, рекомендации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грать вместе», «Математика дома» и т.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тер- класс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имся играя»; «Игра своими руками»; «Логические задачи» и др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кум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пользование  занимательного математического  материала»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рытые  просмотры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й по  математическому развитию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осы 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ознавательному и математическому развитию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й опыт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ознавательному развитию  дете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йт ДОО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станционное взаимодействие, рекомендац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ятельностный аспект личного вклада педаг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развитие 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7" descr="F:\РАБОЧАЯ\Аттестация\Аттестация 2021-2022 уч.г\Аттестация Октябрь 2021 г\IMG-39572331b532ab3a6c69a2362a8b809b-V.jpg"/>
          <p:cNvPicPr/>
          <p:nvPr/>
        </p:nvPicPr>
        <p:blipFill>
          <a:blip r:embed="rId1"/>
          <a:stretch/>
        </p:blipFill>
        <p:spPr>
          <a:xfrm>
            <a:off x="4788000" y="1413000"/>
            <a:ext cx="2133360" cy="2735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744720" cy="23860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9"/>
          <p:cNvSpPr/>
          <p:nvPr/>
        </p:nvSpPr>
        <p:spPr>
          <a:xfrm>
            <a:off x="5580000" y="62118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http://detsadik115.nnov.ru/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Arial"/>
              </a:rPr>
              <a:t>группа-№6-корпус-1.</a:t>
            </a:r>
            <a:r>
              <a:rPr b="0" lang="en-US" sz="1800" spc="-1" strike="noStrike" u="sng">
                <a:solidFill>
                  <a:srgbClr val="0070c0"/>
                </a:solidFill>
                <a:uFillTx/>
                <a:latin typeface="Arial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380360" y="2205000"/>
            <a:ext cx="1512720" cy="1224000"/>
          </a:xfrm>
          <a:prstGeom prst="wedgeRectCallout">
            <a:avLst>
              <a:gd name="adj1" fmla="val 907"/>
              <a:gd name="adj2" fmla="val 1810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истанционное взаимодействие с родителями (законными представителям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652400" cy="10810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4643280" y="692280"/>
            <a:ext cx="4321440" cy="720720"/>
          </a:xfrm>
          <a:prstGeom prst="wedgeRectCallout">
            <a:avLst>
              <a:gd name="adj1" fmla="val -14523"/>
              <a:gd name="adj2" fmla="val 203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Консультации о значении математического развития в мышлении ребенка, о занимательном  математическом материале, о вариантах развивающих игр по познавательному развитию, ФЭМ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79280" y="836640"/>
            <a:ext cx="878544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 комплекс игр с детьми 5-6, 6-7 лет по развитию познавательной активности средствами занимательного математического материал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 серия занятий и конспектов по математическому  развитию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460023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460023"/>
                </a:solidFill>
                <a:latin typeface="Times New Roman"/>
                <a:ea typeface="Times New Roman"/>
              </a:rPr>
              <a:t>Конспект занятия «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 на планету Математика»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занятия: «Плоские и объёмные геометрические фигуры»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занятия: «Путешествие в мир живой природы»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: «В гости к Почемучке»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памятки и консультации для родителей (законных представителей): «Играем вместе», «Математика дома», «Познаем и развиваемся»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5840" indent="-15840"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готовлены игровые материалы, дидактические пособия (лепбук «Кораблик», лепбук «Нижний Новгород 800 лет»,  дидактические игровые пособия «Путешествие Капельки», дидактическая игра «Кубарик»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апазон личного вклада педагога в развитие образования и степень его новиз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Object 1" descr=""/>
          <p:cNvPicPr/>
          <p:nvPr/>
        </p:nvPicPr>
        <p:blipFill>
          <a:blip r:embed="rId1"/>
          <a:stretch/>
        </p:blipFill>
        <p:spPr>
          <a:xfrm>
            <a:off x="-181080" y="1916280"/>
            <a:ext cx="5616720" cy="38257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39528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ивность профессиональ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6806520" y="12682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ос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179280" y="836640"/>
            <a:ext cx="878544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9" descr="http://xn--700-5ddo2cpoj.xn--p1ai/web/upload/cke/5e09a4b0e957f3bbcb483521b2607969.jpeg"/>
          <p:cNvPicPr/>
          <p:nvPr/>
        </p:nvPicPr>
        <p:blipFill>
          <a:blip r:embed="rId2"/>
          <a:stretch/>
        </p:blipFill>
        <p:spPr>
          <a:xfrm>
            <a:off x="6156360" y="765000"/>
            <a:ext cx="2160720" cy="1498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4716360" y="2349360"/>
            <a:ext cx="42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по образовате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навательное развитие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Э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ользуется порядковыми количественными числительными до 10, уравнивает 2 группы предметов (+1 и 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ет круг, квадрат, треугольник, прямоугольник, овал. Соотносит объемные и плоскостные фиг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адывает ряд предметов по длине, ширине, высоте, сравнивает на глаз, проверяет приложением и нало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11"/>
          <p:cNvSpPr/>
          <p:nvPr/>
        </p:nvSpPr>
        <p:spPr>
          <a:xfrm>
            <a:off x="179280" y="836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едагогического процесса дошкольной образовательной организации. – СПб.: ООО «ИЗДАТЕЛЬСТВО «ДЕТСТВО-ПРЕС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39528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ивность профессиональ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2" name="Object 3"/>
          <p:cNvGraphicFramePr/>
          <p:nvPr/>
        </p:nvGraphicFramePr>
        <p:xfrm>
          <a:off x="4716360" y="3573360"/>
          <a:ext cx="4029120" cy="30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573360"/>
                    <a:ext cx="402912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4"/>
          <p:cNvGraphicFramePr/>
          <p:nvPr/>
        </p:nvGraphicFramePr>
        <p:xfrm>
          <a:off x="395280" y="3645000"/>
          <a:ext cx="3998880" cy="295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645000"/>
                    <a:ext cx="399888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2"/>
          <p:cNvGraphicFramePr/>
          <p:nvPr/>
        </p:nvGraphicFramePr>
        <p:xfrm>
          <a:off x="4716360" y="765000"/>
          <a:ext cx="3998880" cy="272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765000"/>
                    <a:ext cx="399888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324000" y="765000"/>
          <a:ext cx="3998880" cy="272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765000"/>
                    <a:ext cx="399888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179280" y="2781360"/>
            <a:ext cx="878544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спективы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гащение развивающей предметно-пространственной среды группы и прогулочного участка, создание авторских дидактических игр и игрового материала по ФЭМП, изготовление лэпбука «Математика с Кубариком и Томатиком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лжать работу по развитию познавательной активности и интереса в математическом развитии детей (создание головоломок, математических фокусов и ребусы т.д.), систематизация, создание картоте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гащение медиатеки, разработка комплекса интерактивных игр по познавательному развитию и ФЭМП с использованием И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лжать взаимодействие с родителями (законными представителями) по данному направл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79280" y="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созданы условия для  развития познавательной активности  детей старшего дошкольного возраста в процессе формирования элементарных математических представлений средствами авторских дидактических и игр и игров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ие интереса детей к игровому и дидактическому материалу, мотивация к его использован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познавательной  активнос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творческих, познавательных и математических спосо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ание  навыков сотрудни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0" y="18900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ей старш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роцессе форм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арных математически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использовании авторских дидактических пособ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904000" cy="38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"/>
          <p:cNvPicPr/>
          <p:nvPr/>
        </p:nvPicPr>
        <p:blipFill>
          <a:blip r:embed="rId1"/>
          <a:stretch/>
        </p:blipFill>
        <p:spPr>
          <a:xfrm>
            <a:off x="30240" y="835200"/>
            <a:ext cx="2243160" cy="4492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2371680" y="841320"/>
            <a:ext cx="2776680" cy="4486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24320" y="835200"/>
            <a:ext cx="3740400" cy="45288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2484360" y="923760"/>
            <a:ext cx="259236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СЕРТИФИКАЦИ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методического пособия на Экспертно-методическом совете Управления образования администрации  Московского р-на г. Нижнего Новгорода –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Кубарик» (2018 г.), «Путешествие капельки» (2019 г.), лэпбук  «Нижний Новгород 800 лет» (2021 г.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КОНКУР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частие и победа (1 место) в районном конкурсе лэпбуков «От идеи до воплощения» -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Лэпбук «Кораблик» (2018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сто в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ластном конкурсе «Педагогические технологии в ДОУ и школах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Лэпбук «Кораблик» (2018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08000" y="836640"/>
            <a:ext cx="211284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ЫСТУП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едсоветах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индивидуально – дифференцированного подхода в работе по развитию основных движений при проведении подвижных игр в старшем дошкольном возрасте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19-2020 уч.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спользование занимательного математического материала в формировании элементарных математических представлений детей старшего дошкольного возра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20-2021 уч.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967440" y="858960"/>
            <a:ext cx="206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228600" y="131760"/>
            <a:ext cx="7696080" cy="47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Транслируемость практических дости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895320" y="5391000"/>
            <a:ext cx="365040" cy="397080"/>
          </a:xfrm>
          <a:prstGeom prst="upArrow">
            <a:avLst>
              <a:gd name="adj1" fmla="val 50000"/>
              <a:gd name="adj2" fmla="val 50037"/>
            </a:avLst>
          </a:prstGeom>
          <a:solidFill>
            <a:srgbClr val="f1f9f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3522600" y="5391000"/>
            <a:ext cx="366840" cy="3970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1f9f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7148520" y="5383080"/>
            <a:ext cx="365040" cy="39852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1f9f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96840" y="5948280"/>
            <a:ext cx="1960560" cy="78912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базе учре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2340000" y="5950080"/>
            <a:ext cx="2879640" cy="78876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муниципальном и областном уров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5867280" y="5938920"/>
            <a:ext cx="2881440" cy="78876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федеральном уров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5292720" y="858960"/>
            <a:ext cx="3527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ПУБЛИКАЦИИ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урнал «Педагог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 в процессе формирования элементарных математических представлений у детей старшего дошкольного возраста» (2020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российский проект «Дошкольник.РФ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разработка по ФЭМП «Авторское дидактическое пособие «КУБАРИК» (2020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йт «Инфоурок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ЭМП как средство познания окружающего мира» (2021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российский образовательный портал «Просвещение»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нспект НОД «Математическое путешествие с Кубариком» (2021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</a:rPr>
              <a:t>КОНКУР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конкурс  «Самая востребованная статья месяца» «В гости к «КУБАРИКУ» (2021 г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457200" y="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79280" y="333360"/>
            <a:ext cx="8856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ГОС ДО. Приказ Министерства образования и науки РФ от 17 октября 2013 г. N 1155 «Об утверждении федерального государственного образовательного стандарта дошкольного образования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едеральный закон "Об образовании в Российской Федерации" от 29.12.2012 N 273-ФЗ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 РОЖДЕНИЯ ДО ШКОЛЫ. /Под ред. Н.Е. Вераксы, Т.С. Комаровой, М.А. Васильевой. - МОЗАИКА- СИНТЕЗ, 2014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мораева И.А., Позина В.А. Формирование элементарных математических представлений: Старшая группа. – М.: МОЗАИКА-СИНТЕЗ, 2014. – 64 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мораева И.А., Позина В.А. Формирование элементарных математических представлений Подготовительная группа. – М.: МОЗАИКА-СИНТЕЗ, 2016. – 163 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елошистая А.В. Формирование и развитие математических способностей дошкольников. - М.: ВЛАДОС, 2003.- 400 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ыготский Л.С. История развития высших психических функций. Собр. соч. Т.3/ Л.С. Выготский - М.: Педагогика, 1983.-423 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енгер Л.А., О.М. Дьяченко Игры и упражнения по развитию умственных способностей у детей дошкольного возраста.- М.: Просвещение, 1989.127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Григорьева И. А., Грузинцева Т. А. Развитие логического мышления у детей старшего дошкольного возраста посредством дидактических игр // Молодой ученый. — 2016. — №12.6. — С. 28-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асабуцкий Н. И. [и др.]. Давайте поиграем: Математические игры для детей 5–6 лет  — М.: Просвещение, 1991. — 80 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Михайлова З. А. Игровые занимательные задачи для дошкольников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ДЕТСТВО-ПРЕСС 2016.- 144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ханева М.Д. Математическое развитие детей 5-7 лет / М.Д. Маханева, Г.И. Ширяева. - М.: ТЦ Сфера, 2012. - 64 c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 Никулина Ф.Х.: Формирование познавательной сферы у детей 5-7 лет. Развивающие игровые занятия. ФГОС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. Учитель, 2016г., 140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Стародубцева И.В., Завьялова Т.П. Игровые занятия по развитию памяти, внимания, мышления и воображения у дошкольников. –М.: Аркти, 2008.-72с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цына М.М. Формирование элементарных математических представлений у детей старшего дошкольного возраста. -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vospitatelds.ru/categories/2/articles/15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математического развития детей старшего дошкольного возраста. -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infourok.ru/statya-na-temu-osobennosti-matematicheskogo-razvitiya-detej-starshego-doshkolnogo-vozrasta-4998015.htm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ва В.Ф. Методика математического образования детей дошкольного возраста. -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iur.ru/upk/DocLib24/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%20Петровой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f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324000" y="4653000"/>
            <a:ext cx="871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539640" y="28440"/>
            <a:ext cx="8515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формирования личного вклад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развитие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кругленный прямоугольник 25"/>
          <p:cNvSpPr/>
          <p:nvPr/>
        </p:nvSpPr>
        <p:spPr>
          <a:xfrm>
            <a:off x="179280" y="1539720"/>
            <a:ext cx="3529080" cy="525312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5253120"/>
              <a:gd name="textAreaBottom" fmla="*/ 5081040 h 5253120"/>
            </a:gdLst>
            <a:ahLst/>
            <a:rect l="textAreaLeft" t="textAreaTop" r="textAreaRight" b="textAreaBottom"/>
            <a:pathLst>
              <a:path w="21600" h="32151">
                <a:moveTo>
                  <a:pt x="3600" y="0"/>
                </a:moveTo>
                <a:arcTo wR="3600" hR="3600" stAng="16200000" swAng="-5400000"/>
                <a:lnTo>
                  <a:pt x="0" y="28551"/>
                </a:lnTo>
                <a:arcTo wR="3600" hR="3600" stAng="10800000" swAng="-5400000"/>
                <a:lnTo>
                  <a:pt x="18000" y="32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0bad7"/>
              </a:gs>
              <a:gs pos="100000">
                <a:srgbClr val="bfe1e9"/>
              </a:gs>
            </a:gsLst>
            <a:lin ang="5400000"/>
          </a:gradFill>
          <a:ln w="1260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.Фреб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ть высшая ступень детского развития, развития человека этого периода…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. Монтессори, Ф. Фребель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ли, что создание развивающей среды является важным условием полноценно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ого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. Венгера, З. А. Михайловой, А. А. Смоленцевой, А. А. Столяра, Л. И. Тихоново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 показана целесообразнос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я различных иг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учении детей математике и развитии интереса к обуче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: скругленные углы 4"/>
          <p:cNvSpPr/>
          <p:nvPr/>
        </p:nvSpPr>
        <p:spPr>
          <a:xfrm>
            <a:off x="3851280" y="1341360"/>
            <a:ext cx="514188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bad7"/>
              </a:gs>
              <a:gs pos="100000">
                <a:srgbClr val="bfe1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РОЖДЕНИЯ ДО ШКОЛЫ. /Под ред. Н.Е. Вераксы, Т.С. Комаровой, М.А. Васильевой. - МОЗАИКА- СИНТЕЗ, 201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раева И.А., Позина В.А. Формирование элементарных математических представлений: Старшая группа. – М.: МОЗАИКА-СИНТЕЗ, 2014. – 6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раева И.А., Позина В.А. Форм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х математических представл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группа. – М.: МОЗАИКА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, 2016. – 163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: скругленные углы 5"/>
          <p:cNvSpPr/>
          <p:nvPr/>
        </p:nvSpPr>
        <p:spPr>
          <a:xfrm>
            <a:off x="3851280" y="4581360"/>
            <a:ext cx="49705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bad7"/>
              </a:gs>
              <a:gs pos="100000">
                <a:srgbClr val="bfe1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РМО, участие в работе творческой группы, вебинаров и семинаров по ФЭМП, участие в работе профессиональных педагогических сооб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179280" y="785880"/>
            <a:ext cx="3961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4572000" y="836640"/>
            <a:ext cx="38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3924360" y="3716280"/>
            <a:ext cx="49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82520" y="204840"/>
            <a:ext cx="8767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уальность личного вклада в развитие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53800" y="61912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8585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58920" y="1125360"/>
            <a:ext cx="87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ФГОС ДО: познавательное развитие 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640720" cy="4449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&amp;Ocy;&amp;bcy;&amp;rcy;&amp;acy;&amp;zcy;&amp;ocy;&amp;vcy;&amp;acy;&amp;tcy;&amp;iecy;&amp;lcy;&amp;softcy;&amp;ncy;&amp;ycy;&amp;iecy; &amp;scy;&amp;tcy;&amp;acy;&amp;ncy;&amp;dcy;&amp;acy;&amp;rcy;&amp;tcy;&amp;ycy; - &amp;Dcy;&amp;iecy;&amp;tcy;&amp;scy;&amp;kcy;&amp;icy;&amp;jcy; &amp;scy;&amp;acy;&amp;dcy; &amp;kcy;&amp;ocy;&amp;mcy;&amp;pcy;&amp;iecy;&amp;ncy;&amp;scy;&amp;icy;&amp;rcy;&amp;ucy;&amp;yucy;&amp;shchcy;&amp;iecy;&amp;gcy;&amp;ocy; &amp;vcy;&amp;icy;&amp;dcy;&amp;acy; 53 &quot;&amp;CHcy;&amp;acy;&amp;jcy;&amp;kcy;&amp;acy;&quot;"/>
          <p:cNvPicPr/>
          <p:nvPr/>
        </p:nvPicPr>
        <p:blipFill>
          <a:blip r:embed="rId2"/>
          <a:stretch/>
        </p:blipFill>
        <p:spPr>
          <a:xfrm>
            <a:off x="250920" y="620640"/>
            <a:ext cx="150804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68436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оретическое обоснование личного вкл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развитие 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920" y="728640"/>
            <a:ext cx="8732880" cy="4681440"/>
          </a:xfrm>
          <a:prstGeom prst="rect">
            <a:avLst/>
          </a:prstGeom>
          <a:ln w="0">
            <a:noFill/>
          </a:ln>
        </p:spPr>
      </p:pic>
      <p:sp>
        <p:nvSpPr>
          <p:cNvPr id="260" name="Oval 3"/>
          <p:cNvSpPr/>
          <p:nvPr/>
        </p:nvSpPr>
        <p:spPr>
          <a:xfrm>
            <a:off x="2490840" y="3749760"/>
            <a:ext cx="4543200" cy="1439640"/>
          </a:xfrm>
          <a:prstGeom prst="ellipse">
            <a:avLst/>
          </a:prstGeom>
          <a:solidFill>
            <a:srgbClr val="faae7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е пособ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убарик», «Путешествие капельки», «Кораблик»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ижний Новгород 800 ле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Прямая со стрелкой 11"/>
          <p:cNvCxnSpPr/>
          <p:nvPr/>
        </p:nvCxnSpPr>
        <p:spPr>
          <a:xfrm>
            <a:off x="7041960" y="4463640"/>
            <a:ext cx="6483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Прямоугольник 14"/>
          <p:cNvSpPr/>
          <p:nvPr/>
        </p:nvSpPr>
        <p:spPr>
          <a:xfrm>
            <a:off x="109440" y="4281480"/>
            <a:ext cx="1790640" cy="1146240"/>
          </a:xfrm>
          <a:prstGeom prst="rect">
            <a:avLst/>
          </a:prstGeom>
          <a:solidFill>
            <a:srgbClr val="fdd7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Стих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рассказы, загадки.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1789200" y="5672160"/>
            <a:ext cx="1442880" cy="914400"/>
          </a:xfrm>
          <a:prstGeom prst="rect">
            <a:avLst/>
          </a:prstGeom>
          <a:solidFill>
            <a:srgbClr val="fdd7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Игры с числами и циф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6"/>
          <p:cNvSpPr/>
          <p:nvPr/>
        </p:nvSpPr>
        <p:spPr>
          <a:xfrm>
            <a:off x="3635280" y="5754600"/>
            <a:ext cx="1873440" cy="914400"/>
          </a:xfrm>
          <a:prstGeom prst="rect">
            <a:avLst/>
          </a:prstGeom>
          <a:solidFill>
            <a:srgbClr val="fdd7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Игры ориентировка 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7"/>
          <p:cNvSpPr/>
          <p:nvPr/>
        </p:nvSpPr>
        <p:spPr>
          <a:xfrm>
            <a:off x="5850000" y="5410080"/>
            <a:ext cx="1674720" cy="1198800"/>
          </a:xfrm>
          <a:prstGeom prst="rect">
            <a:avLst/>
          </a:prstGeom>
          <a:solidFill>
            <a:srgbClr val="fdd7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Игры с геометрическими форм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8"/>
          <p:cNvSpPr/>
          <p:nvPr/>
        </p:nvSpPr>
        <p:spPr>
          <a:xfrm>
            <a:off x="7655040" y="4840200"/>
            <a:ext cx="1488960" cy="914400"/>
          </a:xfrm>
          <a:prstGeom prst="rect">
            <a:avLst/>
          </a:prstGeom>
          <a:solidFill>
            <a:srgbClr val="fdd7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Arial"/>
              </a:rPr>
              <a:t>Логическое мыш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Прямая со стрелкой 21"/>
          <p:cNvCxnSpPr>
            <a:stCxn id="260" idx="2"/>
          </p:cNvCxnSpPr>
          <p:nvPr/>
        </p:nvCxnSpPr>
        <p:spPr>
          <a:xfrm flipH="1">
            <a:off x="1959840" y="4470120"/>
            <a:ext cx="531000" cy="25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Прямая со стрелкой 24"/>
          <p:cNvCxnSpPr>
            <a:stCxn id="260" idx="3"/>
          </p:cNvCxnSpPr>
          <p:nvPr/>
        </p:nvCxnSpPr>
        <p:spPr>
          <a:xfrm flipH="1">
            <a:off x="2700000" y="4978440"/>
            <a:ext cx="4564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Прямая со стрелкой 26"/>
          <p:cNvCxnSpPr>
            <a:stCxn id="260" idx="4"/>
          </p:cNvCxnSpPr>
          <p:nvPr/>
        </p:nvCxnSpPr>
        <p:spPr>
          <a:xfrm>
            <a:off x="4762080" y="5189040"/>
            <a:ext cx="97560" cy="54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Прямая со стрелкой 28"/>
          <p:cNvCxnSpPr/>
          <p:nvPr/>
        </p:nvCxnSpPr>
        <p:spPr>
          <a:xfrm>
            <a:off x="6156000" y="5013360"/>
            <a:ext cx="53244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7928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35436a"/>
                </a:solidFill>
                <a:latin typeface="Times New Roman"/>
              </a:rPr>
              <a:t>Создание условий для  развития познавательной активности  детей старшего дошкольного возраста в процессе формирования элементарных математических представ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97960" cy="46083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2"/>
          <p:cNvSpPr/>
          <p:nvPr/>
        </p:nvSpPr>
        <p:spPr>
          <a:xfrm>
            <a:off x="539640" y="189000"/>
            <a:ext cx="80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 и задачи педагог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241560" y="1700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4932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УРОВЕНЬ СОЦИАЛЬНО-КОММУНИКАТИВНОГО РАЗВИТИЯ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ЭТАПЕ КОНСТАТИРУЮЩЕГО ЭКСПЕРИ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395280" y="4005360"/>
          <a:ext cx="3998880" cy="27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39988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3"/>
          <p:cNvSpPr/>
          <p:nvPr/>
        </p:nvSpPr>
        <p:spPr>
          <a:xfrm>
            <a:off x="0" y="28764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95280" y="0"/>
            <a:ext cx="6697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ценка профессиональ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4788000" y="3645000"/>
          <a:ext cx="3998880" cy="302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645000"/>
                    <a:ext cx="39988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Прямоугольник 8"/>
          <p:cNvSpPr/>
          <p:nvPr/>
        </p:nvSpPr>
        <p:spPr>
          <a:xfrm>
            <a:off x="4140360" y="981000"/>
            <a:ext cx="5003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по образователь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навательное развитие»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ЭМ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груп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ользуется порядковыми количественными числительными до 10, уравнивает 2 группы предметов (+1 и -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ет кург, квадрат, треугольник, прямоугольник, овал. Соотносит объемные и плоскостные фигу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адывает ряд предметов по длине, ширине, высоте, сравнивает на глаз, проверяет приложением и наложе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179280" y="765000"/>
            <a:ext cx="69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едагогического процесса дошкольной образовательной организации. – СПб.: ООО «ИЗДАТЕЛЬСТВО «ДЕТСТВО-ПРЕ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9" descr="http://xn--700-5ddo2cpoj.xn--p1ai/web/upload/cke/5e09a4b0e957f3bbcb483521b2607969.jpeg"/>
          <p:cNvPicPr/>
          <p:nvPr/>
        </p:nvPicPr>
        <p:blipFill>
          <a:blip r:embed="rId5"/>
          <a:stretch/>
        </p:blipFill>
        <p:spPr>
          <a:xfrm>
            <a:off x="7164360" y="260280"/>
            <a:ext cx="1800360" cy="124956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1" descr=""/>
          <p:cNvPicPr/>
          <p:nvPr/>
        </p:nvPicPr>
        <p:blipFill>
          <a:blip r:embed="rId6"/>
          <a:stretch/>
        </p:blipFill>
        <p:spPr>
          <a:xfrm>
            <a:off x="-50760" y="1074600"/>
            <a:ext cx="46735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1"/>
          <p:cNvGrpSpPr/>
          <p:nvPr/>
        </p:nvGrpSpPr>
        <p:grpSpPr>
          <a:xfrm>
            <a:off x="212760" y="1036800"/>
            <a:ext cx="8624880" cy="1638000"/>
            <a:chOff x="212760" y="1036800"/>
            <a:chExt cx="8624880" cy="1638000"/>
          </a:xfrm>
        </p:grpSpPr>
        <p:pic>
          <p:nvPicPr>
            <p:cNvPr id="287" name="Picture 2" descr=""/>
            <p:cNvPicPr/>
            <p:nvPr/>
          </p:nvPicPr>
          <p:blipFill>
            <a:blip r:embed="rId1"/>
            <a:stretch/>
          </p:blipFill>
          <p:spPr>
            <a:xfrm>
              <a:off x="212760" y="1036800"/>
              <a:ext cx="862488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"/>
            <p:cNvSpPr/>
            <p:nvPr/>
          </p:nvSpPr>
          <p:spPr>
            <a:xfrm>
              <a:off x="317520" y="1144440"/>
              <a:ext cx="841212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</a:rPr>
                <a:t>Использование  авторских  пособий в совместной с воспитателем  и самостоятельной деятельности воспитанников будет способствовать  развитию познавательной активности в процессе формирования элементарных математических представл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182880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ущая педагогическая ид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Блок-схема: альтернативный процесс 6"/>
          <p:cNvSpPr/>
          <p:nvPr/>
        </p:nvSpPr>
        <p:spPr>
          <a:xfrm>
            <a:off x="611280" y="2924280"/>
            <a:ext cx="3097080" cy="1441440"/>
          </a:xfrm>
          <a:prstGeom prst="flowChartAlternateProcess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ирует  умствен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Блок-схема: альтернативный процесс 7"/>
          <p:cNvSpPr/>
          <p:nvPr/>
        </p:nvSpPr>
        <p:spPr>
          <a:xfrm>
            <a:off x="5292720" y="2924280"/>
            <a:ext cx="3311640" cy="1368360"/>
          </a:xfrm>
          <a:prstGeom prst="flowChartAlternateProcess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ывает математическим материалом и увлекает и развлекает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Блок-схема: альтернативный процесс 8"/>
          <p:cNvSpPr/>
          <p:nvPr/>
        </p:nvSpPr>
        <p:spPr>
          <a:xfrm>
            <a:off x="539640" y="4797360"/>
            <a:ext cx="3095640" cy="15699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ует установлени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еских взаимо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Блок-схема: альтернативный процесс 9"/>
          <p:cNvSpPr/>
          <p:nvPr/>
        </p:nvSpPr>
        <p:spPr>
          <a:xfrm>
            <a:off x="5292720" y="4797360"/>
            <a:ext cx="3311640" cy="1569960"/>
          </a:xfrm>
          <a:prstGeom prst="flowChartAlternateProcess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яет и углубляет математические представления, закрепляет полученные знания и ум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Блок-схема: альтернативный процесс 10"/>
          <p:cNvSpPr/>
          <p:nvPr/>
        </p:nvSpPr>
        <p:spPr>
          <a:xfrm>
            <a:off x="2843280" y="3693960"/>
            <a:ext cx="2881080" cy="1656000"/>
          </a:xfrm>
          <a:prstGeom prst="flowChartAlternateProcess">
            <a:avLst/>
          </a:prstGeom>
          <a:solidFill>
            <a:srgbClr val="faf8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ские пособ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ущность занимате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изна. Необы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жиданность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1"/>
          <p:cNvSpPr/>
          <p:nvPr/>
        </p:nvSpPr>
        <p:spPr>
          <a:xfrm>
            <a:off x="6337440" y="119160"/>
            <a:ext cx="2614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79280" y="616572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ломки : настольный тетрис, Пифагор, колумбово яйцо,  танграмм, соты Кайя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4572000" y="4292640"/>
            <a:ext cx="43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цветок,  игры на временные представления, состав числа ит.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79280" y="134136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 «Посчитай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484360" y="1197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ный матери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6875640" y="638172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-ходи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ный аспект личного вклада педаго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вити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РППС группы и прогулочного участ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занимательного игров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3" descr="F:\РАБОЧАЯ\Аттестация\Аттестация 2021-2022 уч.г\Аттестация Октябрь 2021 г\IMG-3f2c90612e0d2d8d7fbb400cd1409e4c-V.jpg"/>
          <p:cNvPicPr/>
          <p:nvPr/>
        </p:nvPicPr>
        <p:blipFill>
          <a:blip r:embed="rId1"/>
          <a:stretch/>
        </p:blipFill>
        <p:spPr>
          <a:xfrm>
            <a:off x="179280" y="1628640"/>
            <a:ext cx="2664000" cy="171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F:\РАБОЧАЯ\Аттестация\Аттестация 2021-2022 уч.г\Аттестация Октябрь 2021 г\IMG-4a320b5ea013cf519caf4338b700d2ef-V.jpg"/>
          <p:cNvPicPr/>
          <p:nvPr/>
        </p:nvPicPr>
        <p:blipFill>
          <a:blip r:embed="rId2"/>
          <a:stretch/>
        </p:blipFill>
        <p:spPr>
          <a:xfrm>
            <a:off x="179280" y="3429000"/>
            <a:ext cx="4332240" cy="2717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F:\РАБОЧАЯ\Аттестация\Аттестация 2021-2022 уч.г\Аттестация Октябрь 2021 г\IMG-9eda347bd1b065d06c528fad12eaa20e-V.jpg"/>
          <p:cNvPicPr/>
          <p:nvPr/>
        </p:nvPicPr>
        <p:blipFill>
          <a:blip r:embed="rId3"/>
          <a:stretch/>
        </p:blipFill>
        <p:spPr>
          <a:xfrm>
            <a:off x="4572000" y="1197000"/>
            <a:ext cx="4321080" cy="3076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F:\РАБОЧАЯ\Аттестация\Аттестация 2021-2022 уч.г\Аттестация Октябрь 2021 г\IMG-04834877adbc35aec0fea242244f1b08-V.jpg"/>
          <p:cNvPicPr/>
          <p:nvPr/>
        </p:nvPicPr>
        <p:blipFill>
          <a:blip r:embed="rId4"/>
          <a:stretch/>
        </p:blipFill>
        <p:spPr>
          <a:xfrm>
            <a:off x="4643280" y="4797360"/>
            <a:ext cx="38084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шка;Тюрина Е.Е.</dc:creator>
  <dc:description/>
  <dc:language>en-US</dc:language>
  <cp:lastModifiedBy>115</cp:lastModifiedBy>
  <dcterms:modified xsi:type="dcterms:W3CDTF">2021-10-05T04:50:24Z</dcterms:modified>
  <cp:revision>2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