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8.gif" ContentType="image/gif"/>
  <Override PartName="/ppt/media/image30.jpeg" ContentType="image/jpeg"/>
  <Override PartName="/ppt/media/image56.png" ContentType="image/png"/>
  <Override PartName="/ppt/media/image4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4.jpeg" ContentType="image/jpeg"/>
  <Override PartName="/ppt/media/image43.jpeg" ContentType="image/jpeg"/>
  <Override PartName="/ppt/media/image41.png" ContentType="image/pn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24.jpeg" ContentType="image/jpeg"/>
  <Override PartName="/ppt/media/image83.jpeg" ContentType="image/jpeg"/>
  <Override PartName="/ppt/media/image10.gif" ContentType="image/gif"/>
  <Override PartName="/ppt/media/image13.png" ContentType="image/png"/>
  <Override PartName="/ppt/media/image16.jpeg" ContentType="image/jpeg"/>
  <Override PartName="/ppt/media/image9.gif" ContentType="image/gif"/>
  <Override PartName="/ppt/media/image69.jpeg" ContentType="image/jpeg"/>
  <Override PartName="/ppt/media/image18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50.png" ContentType="image/png"/>
  <Override PartName="/ppt/media/image21.jpeg" ContentType="image/jpeg"/>
  <Override PartName="/ppt/media/image52.png" ContentType="image/png"/>
  <Override PartName="/ppt/media/image15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87.gif" ContentType="image/gif"/>
  <Override PartName="/ppt/media/image63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74.jpeg" ContentType="image/jpeg"/>
  <Override PartName="/ppt/media/image29.jpeg" ContentType="image/jpeg"/>
  <Override PartName="/ppt/media/image73.jpeg" ContentType="image/jpeg"/>
  <Override PartName="/ppt/media/image79.png" ContentType="image/pn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39.jpeg" ContentType="image/jpeg"/>
  <Override PartName="/ppt/media/image67.jpeg" ContentType="image/jpeg"/>
  <Override PartName="/ppt/media/image61.jpeg" ContentType="image/jpeg"/>
  <Override PartName="/ppt/media/image78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49.gif" ContentType="image/gif"/>
  <Override PartName="/ppt/media/image80.png" ContentType="image/png"/>
  <Override PartName="/ppt/media/image12.gif" ContentType="image/gif"/>
  <Override PartName="/ppt/media/image3.png" ContentType="image/png"/>
  <Override PartName="/ppt/media/image84.jpeg" ContentType="image/jpeg"/>
  <Override PartName="/ppt/media/image25.jpeg" ContentType="image/jpeg"/>
  <Override PartName="/ppt/media/image26.jpeg" ContentType="image/jpeg"/>
  <Override PartName="/ppt/media/image85.jpeg" ContentType="image/jpeg"/>
  <Override PartName="/ppt/media/image72.jpeg" ContentType="image/jpeg"/>
  <Override PartName="/ppt/media/image11.gif" ContentType="image/gif"/>
  <Override PartName="/ppt/media/image28.jpeg" ContentType="image/jpeg"/>
  <Override PartName="/ppt/media/image7.jpeg" ContentType="image/jpeg"/>
  <Override PartName="/ppt/media/image38.jpeg" ContentType="image/jpeg"/>
  <Override PartName="/ppt/media/image14.jpeg" ContentType="image/jpeg"/>
  <Override PartName="/ppt/media/image54.png" ContentType="image/png"/>
  <Override PartName="/ppt/media/image76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57.gif" ContentType="image/gif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4902-81F1-4D1F-89B1-1EEDE8AA35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F397-112B-4CE4-84A7-3D923DD31E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3A3-B32C-4122-9861-37D59DB6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879-166D-48DE-8FD0-10A58A41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EE8-C8F3-43DD-B62F-AC468249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247-EFC8-4D3C-8499-BD6EFA91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694-0F9D-45DE-842B-5B90EC29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C51-EFC9-4D1B-8B35-4A19C7E1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F25-A5F8-48EA-8192-87B794DC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90E-FA0D-4087-A5D8-A2153AE1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C17-A564-47BC-BF58-5191C81F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DB5-17BE-4CD9-9CA6-D6E7812A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FDB-E0BD-4CF9-A95B-F5B0ED5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2AC-88E3-4C69-9849-8B1377D1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BD13-6BD4-4475-8F7E-05831D7A9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gif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gif"/><Relationship Id="rId13" Type="http://schemas.openxmlformats.org/officeDocument/2006/relationships/image" Target="../media/image58.gif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0.jpeg"/><Relationship Id="rId5" Type="http://schemas.openxmlformats.org/officeDocument/2006/relationships/image" Target="../media/image70.jpeg"/><Relationship Id="rId6" Type="http://schemas.openxmlformats.org/officeDocument/2006/relationships/image" Target="../media/image70.jpeg"/><Relationship Id="rId7" Type="http://schemas.openxmlformats.org/officeDocument/2006/relationships/image" Target="../media/image70.jpeg"/><Relationship Id="rId8" Type="http://schemas.openxmlformats.org/officeDocument/2006/relationships/image" Target="../media/image70.jpeg"/><Relationship Id="rId9" Type="http://schemas.openxmlformats.org/officeDocument/2006/relationships/image" Target="../media/image70.jpe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74.jpeg"/><Relationship Id="rId15" Type="http://schemas.openxmlformats.org/officeDocument/2006/relationships/image" Target="../media/image75.jpeg"/><Relationship Id="rId16" Type="http://schemas.openxmlformats.org/officeDocument/2006/relationships/image" Target="../media/image76.jpeg"/><Relationship Id="rId17" Type="http://schemas.openxmlformats.org/officeDocument/2006/relationships/image" Target="../media/image77.jpeg"/><Relationship Id="rId18" Type="http://schemas.openxmlformats.org/officeDocument/2006/relationships/image" Target="../media/image78.jpeg"/><Relationship Id="rId19" Type="http://schemas.openxmlformats.org/officeDocument/2006/relationships/slide" Target="slide6.xml"/><Relationship Id="rId2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41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928800" y="4857840"/>
            <a:ext cx="7429320" cy="1618560"/>
          </a:xfrm>
          <a:prstGeom prst="rect">
            <a:avLst/>
          </a:prstGeom>
          <a:solidFill>
            <a:srgbClr val="ddd9c3"/>
          </a:solidFill>
          <a:ln w="93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к по курсу ОКРУЖАЮЩИ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есенние изменения в неживой и живой природ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 Щавелёва Ольг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429000" y="6396120"/>
            <a:ext cx="235728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20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000080" y="142920"/>
            <a:ext cx="760896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У Подозерская средня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олна 8"/>
          <p:cNvSpPr/>
          <p:nvPr/>
        </p:nvSpPr>
        <p:spPr>
          <a:xfrm>
            <a:off x="857160" y="1357200"/>
            <a:ext cx="7429680" cy="3071880"/>
          </a:xfrm>
          <a:custGeom>
            <a:avLst/>
            <a:gdLst>
              <a:gd name="textAreaLeft" fmla="*/ 0 w 7429680"/>
              <a:gd name="textAreaRight" fmla="*/ 7430040 w 7429680"/>
              <a:gd name="textAreaTop" fmla="*/ 767880 h 3071880"/>
              <a:gd name="textAreaBottom" fmla="*/ 230400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7d866b"/>
              </a:gs>
              <a:gs pos="100000">
                <a:srgbClr val="d8e7ba"/>
              </a:gs>
            </a:gsLst>
            <a:lin ang="162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928800" y="2357280"/>
            <a:ext cx="72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mic Sans MS"/>
              </a:rPr>
              <a:t>В ГОСТИ К ВЕС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Змейка"/>
          <p:cNvPicPr/>
          <p:nvPr/>
        </p:nvPicPr>
        <p:blipFill>
          <a:blip r:embed="rId1"/>
          <a:stretch/>
        </p:blipFill>
        <p:spPr>
          <a:xfrm>
            <a:off x="0" y="-14400"/>
            <a:ext cx="4572000" cy="478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45-web"/>
          <p:cNvPicPr/>
          <p:nvPr/>
        </p:nvPicPr>
        <p:blipFill>
          <a:blip r:embed="rId2"/>
          <a:stretch/>
        </p:blipFill>
        <p:spPr>
          <a:xfrm>
            <a:off x="3857760" y="2786040"/>
            <a:ext cx="5286240" cy="4071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42920" y="6000840"/>
            <a:ext cx="885816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марте сыреет под ногами снег, в тени – ещё зима, а на солнышке – капель, лужи, потому называют март ещё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«капельник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март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Мартовские пословиц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14200" y="1500120"/>
            <a:ext cx="3857760" cy="39333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арт зиму конч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арт невер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арт словно мачех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рач на г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шнее солны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786200" y="1500120"/>
            <a:ext cx="4357800" cy="39333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о хмурится, то смеё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емлю воскреш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сна на дв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сну начи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о плачет, то смеё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6"/>
          <p:cNvCxnSpPr/>
          <p:nvPr/>
        </p:nvCxnSpPr>
        <p:spPr>
          <a:xfrm>
            <a:off x="3429000" y="1857240"/>
            <a:ext cx="2858400" cy="250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8"/>
          <p:cNvCxnSpPr/>
          <p:nvPr/>
        </p:nvCxnSpPr>
        <p:spPr>
          <a:xfrm>
            <a:off x="2857680" y="2714760"/>
            <a:ext cx="2643840" cy="235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10"/>
          <p:cNvCxnSpPr/>
          <p:nvPr/>
        </p:nvCxnSpPr>
        <p:spPr>
          <a:xfrm flipV="1">
            <a:off x="3643200" y="1928520"/>
            <a:ext cx="1501200" cy="16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12"/>
          <p:cNvCxnSpPr/>
          <p:nvPr/>
        </p:nvCxnSpPr>
        <p:spPr>
          <a:xfrm flipV="1">
            <a:off x="2642760" y="3499920"/>
            <a:ext cx="3644280" cy="858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14"/>
          <p:cNvCxnSpPr/>
          <p:nvPr/>
        </p:nvCxnSpPr>
        <p:spPr>
          <a:xfrm flipV="1">
            <a:off x="3285000" y="2642760"/>
            <a:ext cx="2500920" cy="25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2" descr="ледоход"/>
          <p:cNvPicPr/>
          <p:nvPr/>
        </p:nvPicPr>
        <p:blipFill>
          <a:blip r:embed="rId1"/>
          <a:stretch/>
        </p:blipFill>
        <p:spPr>
          <a:xfrm>
            <a:off x="3000240" y="1785960"/>
            <a:ext cx="5897520" cy="4870440"/>
          </a:xfrm>
          <a:prstGeom prst="rect">
            <a:avLst/>
          </a:prstGeom>
          <a:ln w="0">
            <a:noFill/>
          </a:ln>
        </p:spPr>
      </p:pic>
      <p:sp>
        <p:nvSpPr>
          <p:cNvPr id="93" name="Заголовок 1"/>
          <p:cNvSpPr/>
          <p:nvPr/>
        </p:nvSpPr>
        <p:spPr>
          <a:xfrm>
            <a:off x="42876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тгадай весенний месяц, назови признаки этого месяц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85840" y="1428840"/>
            <a:ext cx="4429080" cy="22885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Яростно река рев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разламывает л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домик свой скворец вер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в лесу медведь просну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небе жаворонка тр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то же к нам пришё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таяние снега1"/>
          <p:cNvPicPr/>
          <p:nvPr/>
        </p:nvPicPr>
        <p:blipFill>
          <a:blip r:embed="rId1"/>
          <a:stretch/>
        </p:blipFill>
        <p:spPr>
          <a:xfrm>
            <a:off x="785880" y="963720"/>
            <a:ext cx="7858080" cy="5751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прель - снегого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142920" y="5929200"/>
            <a:ext cx="878688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оё название месяц получил от латинского слова «аперир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означает – откры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000393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4200" y="5643720"/>
            <a:ext cx="8715600" cy="100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ши предки называли апрел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«снегогоно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непостоянство погоды, её изменчивый характер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капризник», «обманщ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ледох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85840" y="5857920"/>
            <a:ext cx="8643960" cy="703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 реках начинаетс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ледох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льдины, большие и маленькие, быстро плывут по течению, сталкиваются, разбив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071720" y="1928880"/>
            <a:ext cx="6929280" cy="1373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МНИ! Весной на водоёмах опасно ходить по льду. Подтаявший лёд может пролом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половодь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214200" y="5929200"/>
            <a:ext cx="8572680" cy="703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т растаявшего снега и льда река переполняется водой и выходит из берегов. Такой разлив реки называетс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ловодь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ледоход.MP3" descr=""/>
          <p:cNvPicPr/>
          <p:nvPr/>
        </p:nvPicPr>
        <p:blipFill>
          <a:blip r:embed="rId2"/>
          <a:stretch/>
        </p:blipFill>
        <p:spPr>
          <a:xfrm>
            <a:off x="428760" y="5286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907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Осторожно, сосульки"/>
          <p:cNvPicPr/>
          <p:nvPr/>
        </p:nvPicPr>
        <p:blipFill>
          <a:blip r:embed="rId1"/>
          <a:stretch/>
        </p:blipFill>
        <p:spPr>
          <a:xfrm>
            <a:off x="428760" y="857160"/>
            <a:ext cx="4744800" cy="5000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214200" y="1429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Опасности, которые подстерегают нас ве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сулька"/>
          <p:cNvPicPr/>
          <p:nvPr/>
        </p:nvPicPr>
        <p:blipFill>
          <a:blip r:embed="rId2"/>
          <a:stretch/>
        </p:blipFill>
        <p:spPr>
          <a:xfrm>
            <a:off x="4286160" y="3143160"/>
            <a:ext cx="4667400" cy="3500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ледоход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Апрельские пословиц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14200" y="1357200"/>
            <a:ext cx="4143600" cy="4480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прельский цв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прельские руч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прель начинается при сне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прельский скворец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786200" y="1357200"/>
            <a:ext cx="4143600" cy="4480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 кончается при зел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есны г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землю бу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ломает снеж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786280" y="2428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8"/>
          <p:cNvCxnSpPr/>
          <p:nvPr/>
        </p:nvCxnSpPr>
        <p:spPr>
          <a:xfrm>
            <a:off x="3857760" y="1714320"/>
            <a:ext cx="2071800" cy="38581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5" name="Прямая со стрелкой 9"/>
          <p:cNvCxnSpPr/>
          <p:nvPr/>
        </p:nvCxnSpPr>
        <p:spPr>
          <a:xfrm>
            <a:off x="3642840" y="3143160"/>
            <a:ext cx="2715480" cy="1000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6" name="Прямая со стрелкой 12"/>
          <p:cNvCxnSpPr/>
          <p:nvPr/>
        </p:nvCxnSpPr>
        <p:spPr>
          <a:xfrm flipV="1">
            <a:off x="3786120" y="1713960"/>
            <a:ext cx="2215440" cy="25722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7" name="Прямая со стрелкой 14"/>
          <p:cNvCxnSpPr/>
          <p:nvPr/>
        </p:nvCxnSpPr>
        <p:spPr>
          <a:xfrm flipV="1">
            <a:off x="4285080" y="3142440"/>
            <a:ext cx="2143800" cy="2429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4116"/>
          <p:cNvPicPr/>
          <p:nvPr/>
        </p:nvPicPr>
        <p:blipFill>
          <a:blip r:embed="rId1"/>
          <a:stretch/>
        </p:blipFill>
        <p:spPr>
          <a:xfrm>
            <a:off x="2286000" y="1643040"/>
            <a:ext cx="6667560" cy="5000760"/>
          </a:xfrm>
          <a:prstGeom prst="rect">
            <a:avLst/>
          </a:prstGeom>
          <a:ln w="0">
            <a:noFill/>
          </a:ln>
        </p:spPr>
      </p:pic>
      <p:sp>
        <p:nvSpPr>
          <p:cNvPr id="119" name="Заголовок 1"/>
          <p:cNvSpPr/>
          <p:nvPr/>
        </p:nvSpPr>
        <p:spPr>
          <a:xfrm>
            <a:off x="42876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тгадай весенний месяц, назови признаки этого месяц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85840" y="1428840"/>
            <a:ext cx="4000320" cy="22885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еленеет даль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певает солов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белый цвет оделся с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чёлы первые лет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ром грохочет. Угад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то за месяц это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ледоход"/>
          <p:cNvPicPr/>
          <p:nvPr/>
        </p:nvPicPr>
        <p:blipFill>
          <a:blip r:embed="rId1"/>
          <a:stretch/>
        </p:blipFill>
        <p:spPr>
          <a:xfrm>
            <a:off x="285840" y="642960"/>
            <a:ext cx="858024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14200" y="214200"/>
            <a:ext cx="392904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сли речка голуб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будилась ото 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бежит, в полях сверкая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начит к нам приш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леск речных волн.MP3" descr=""/>
          <p:cNvPicPr/>
          <p:nvPr/>
        </p:nvPicPr>
        <p:blipFill>
          <a:blip r:embed="rId2"/>
          <a:stretch/>
        </p:blipFill>
        <p:spPr>
          <a:xfrm>
            <a:off x="2142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ай - травен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4" descr="май"/>
          <p:cNvPicPr/>
          <p:nvPr/>
        </p:nvPicPr>
        <p:blipFill>
          <a:blip r:embed="rId1"/>
          <a:stretch/>
        </p:blipFill>
        <p:spPr>
          <a:xfrm>
            <a:off x="642960" y="1143000"/>
            <a:ext cx="7929720" cy="5540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14200" y="6143760"/>
            <a:ext cx="871560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есяц май назван в честь мифической богини гор Майи, дочери Зев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цветение деревьев"/>
          <p:cNvPicPr/>
          <p:nvPr/>
        </p:nvPicPr>
        <p:blipFill>
          <a:blip r:embed="rId1"/>
          <a:stretch/>
        </p:blipFill>
        <p:spPr>
          <a:xfrm>
            <a:off x="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луг в мае"/>
          <p:cNvPicPr/>
          <p:nvPr/>
        </p:nvPicPr>
        <p:blipFill>
          <a:blip r:embed="rId2"/>
          <a:stretch/>
        </p:blipFill>
        <p:spPr>
          <a:xfrm>
            <a:off x="4500720" y="2928960"/>
            <a:ext cx="464328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20046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0354586_0_17ebe_5e54430c_XL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428760" y="3143160"/>
            <a:ext cx="850104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ши предки называли ма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«травником», «птичьим пересвистом»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ай – конец весны, преддверие 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ма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214200" y="5929200"/>
            <a:ext cx="871560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мае ветер поёт, а земля надевает свой лучший наряд. Земля покрывается зелёным ков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май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Майские пословиц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85840" y="1643040"/>
            <a:ext cx="4357440" cy="39344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ай леса принаряж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айская травка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ай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929120" y="1643040"/>
            <a:ext cx="4000680" cy="39344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д каждым кустиком р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лето в гости ожида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олодного корми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 стрелкой 7"/>
          <p:cNvCxnSpPr/>
          <p:nvPr/>
        </p:nvCxnSpPr>
        <p:spPr>
          <a:xfrm>
            <a:off x="2714760" y="1928880"/>
            <a:ext cx="4001040" cy="19296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36" name="Прямая со стрелкой 8"/>
          <p:cNvCxnSpPr/>
          <p:nvPr/>
        </p:nvCxnSpPr>
        <p:spPr>
          <a:xfrm>
            <a:off x="4070880" y="3571920"/>
            <a:ext cx="1429560" cy="164376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37" name="Прямая со стрелкой 10"/>
          <p:cNvCxnSpPr/>
          <p:nvPr/>
        </p:nvCxnSpPr>
        <p:spPr>
          <a:xfrm flipV="1">
            <a:off x="1785960" y="2214360"/>
            <a:ext cx="4572720" cy="307224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138" name="Управляющая кнопка: домой 9">
            <a:hlinkClick r:id="rId2" action="ppaction://hlinksldjump"/>
          </p:cNvPr>
          <p:cNvSpPr/>
          <p:nvPr/>
        </p:nvSpPr>
        <p:spPr>
          <a:xfrm>
            <a:off x="800100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птицы"/>
          <p:cNvPicPr/>
          <p:nvPr/>
        </p:nvPicPr>
        <p:blipFill>
          <a:blip r:embed="rId1"/>
          <a:stretch/>
        </p:blipFill>
        <p:spPr>
          <a:xfrm>
            <a:off x="214200" y="1000080"/>
            <a:ext cx="8710560" cy="564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гнездов4"/>
          <p:cNvPicPr/>
          <p:nvPr/>
        </p:nvPicPr>
        <p:blipFill>
          <a:blip r:embed="rId2"/>
          <a:stretch/>
        </p:blipFill>
        <p:spPr>
          <a:xfrm>
            <a:off x="642960" y="142920"/>
            <a:ext cx="3674880" cy="25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гнезд5"/>
          <p:cNvPicPr/>
          <p:nvPr/>
        </p:nvPicPr>
        <p:blipFill>
          <a:blip r:embed="rId3"/>
          <a:stretch/>
        </p:blipFill>
        <p:spPr>
          <a:xfrm>
            <a:off x="4929120" y="142920"/>
            <a:ext cx="3357720" cy="25192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42920" y="6072120"/>
            <a:ext cx="878688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ерелётные птицы возвращаются, несут на крыльях из тёплых стран весну на Род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птичий гомон.MP3" descr=""/>
          <p:cNvPicPr/>
          <p:nvPr/>
        </p:nvPicPr>
        <p:blipFill>
          <a:blip r:embed="rId4"/>
          <a:stretch/>
        </p:blipFill>
        <p:spPr>
          <a:xfrm>
            <a:off x="500040" y="5357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868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набухание почек"/>
          <p:cNvPicPr/>
          <p:nvPr/>
        </p:nvPicPr>
        <p:blipFill>
          <a:blip r:embed="rId1"/>
          <a:stretch/>
        </p:blipFill>
        <p:spPr>
          <a:xfrm>
            <a:off x="4643280" y="3429000"/>
            <a:ext cx="4500720" cy="3551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развёртывание листьев"/>
          <p:cNvPicPr/>
          <p:nvPr/>
        </p:nvPicPr>
        <p:blipFill>
          <a:blip r:embed="rId2"/>
          <a:stretch/>
        </p:blipFill>
        <p:spPr>
          <a:xfrm>
            <a:off x="0" y="350028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Siren"/>
          <p:cNvPicPr/>
          <p:nvPr/>
        </p:nvPicPr>
        <p:blipFill>
          <a:blip r:embed="rId3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verb"/>
          <p:cNvPicPr/>
          <p:nvPr/>
        </p:nvPicPr>
        <p:blipFill>
          <a:blip r:embed="rId4"/>
          <a:stretch/>
        </p:blipFill>
        <p:spPr>
          <a:xfrm>
            <a:off x="4667400" y="0"/>
            <a:ext cx="4476600" cy="3500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642960" y="3214800"/>
            <a:ext cx="8001000" cy="703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а мног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еревьях и кустах уже набухли  почки. Еще немного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  появятся  первые  клейкие лис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105"/>
          <p:cNvPicPr/>
          <p:nvPr/>
        </p:nvPicPr>
        <p:blipFill>
          <a:blip r:embed="rId1"/>
          <a:stretch/>
        </p:blipFill>
        <p:spPr>
          <a:xfrm>
            <a:off x="0" y="0"/>
            <a:ext cx="4286160" cy="3714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Первые цыеты"/>
          <p:cNvPicPr/>
          <p:nvPr/>
        </p:nvPicPr>
        <p:blipFill>
          <a:blip r:embed="rId2"/>
          <a:stretch/>
        </p:blipFill>
        <p:spPr>
          <a:xfrm>
            <a:off x="4286160" y="3143160"/>
            <a:ext cx="4857840" cy="37148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Картинка 4 из 84000"/>
          <p:cNvPicPr/>
          <p:nvPr/>
        </p:nvPicPr>
        <p:blipFill>
          <a:blip r:embed="rId3"/>
          <a:stretch/>
        </p:blipFill>
        <p:spPr>
          <a:xfrm>
            <a:off x="4286160" y="0"/>
            <a:ext cx="4857840" cy="321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первоцветы"/>
          <p:cNvPicPr/>
          <p:nvPr/>
        </p:nvPicPr>
        <p:blipFill>
          <a:blip r:embed="rId4"/>
          <a:stretch/>
        </p:blipFill>
        <p:spPr>
          <a:xfrm>
            <a:off x="0" y="3214800"/>
            <a:ext cx="4357800" cy="36432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1357200" y="2928960"/>
            <a:ext cx="6429600" cy="6426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ПОЯВИЛИСЬ ПЕРВОЦ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C:\C&amp;M\CMGE07_3\мур.bmp"/>
          <p:cNvPicPr/>
          <p:nvPr/>
        </p:nvPicPr>
        <p:blipFill>
          <a:blip r:embed="rId1"/>
          <a:stretch/>
        </p:blipFill>
        <p:spPr>
          <a:xfrm>
            <a:off x="0" y="3571920"/>
            <a:ext cx="4500720" cy="3286080"/>
          </a:xfrm>
          <a:prstGeom prst="rect">
            <a:avLst/>
          </a:prstGeom>
          <a:ln w="0">
            <a:noFill/>
          </a:ln>
        </p:spPr>
      </p:pic>
      <p:pic>
        <p:nvPicPr>
          <p:cNvPr id="155" name="павлиний глаз.mpg" descr="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535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BUG"/>
          <p:cNvPicPr/>
          <p:nvPr/>
        </p:nvPicPr>
        <p:blipFill>
          <a:blip r:embed="rId3"/>
          <a:stretch/>
        </p:blipFill>
        <p:spPr>
          <a:xfrm>
            <a:off x="0" y="0"/>
            <a:ext cx="4429080" cy="3571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004"/>
          <p:cNvPicPr/>
          <p:nvPr/>
        </p:nvPicPr>
        <p:blipFill>
          <a:blip r:embed="rId4"/>
          <a:stretch/>
        </p:blipFill>
        <p:spPr>
          <a:xfrm>
            <a:off x="4357800" y="3429000"/>
            <a:ext cx="478620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500040" y="3214800"/>
            <a:ext cx="842976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живают муравейники, бабочки собирают нектар с первых весенних цветов. И всюду щебет, весёлый пересвист птиц, приветствующих теп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правляющая кнопка: фильм 7"/>
          <p:cNvSpPr/>
          <p:nvPr/>
        </p:nvSpPr>
        <p:spPr>
          <a:xfrm>
            <a:off x="8072280" y="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7301"/>
                </a:moveTo>
                <a:lnTo>
                  <a:pt x="17046" y="7301"/>
                </a:lnTo>
                <a:lnTo>
                  <a:pt x="17429" y="7667"/>
                </a:lnTo>
                <a:lnTo>
                  <a:pt x="26637" y="7667"/>
                </a:lnTo>
                <a:lnTo>
                  <a:pt x="27194" y="8224"/>
                </a:lnTo>
                <a:lnTo>
                  <a:pt x="27194" y="8772"/>
                </a:lnTo>
                <a:lnTo>
                  <a:pt x="29040" y="8772"/>
                </a:lnTo>
                <a:lnTo>
                  <a:pt x="29405" y="8224"/>
                </a:lnTo>
                <a:lnTo>
                  <a:pt x="30145" y="8224"/>
                </a:lnTo>
                <a:lnTo>
                  <a:pt x="30145" y="13376"/>
                </a:lnTo>
                <a:lnTo>
                  <a:pt x="29405" y="13376"/>
                </a:lnTo>
                <a:lnTo>
                  <a:pt x="29040" y="12828"/>
                </a:lnTo>
                <a:lnTo>
                  <a:pt x="27194" y="12828"/>
                </a:lnTo>
                <a:lnTo>
                  <a:pt x="27194" y="14107"/>
                </a:lnTo>
                <a:lnTo>
                  <a:pt x="17612" y="14107"/>
                </a:lnTo>
                <a:lnTo>
                  <a:pt x="17612" y="9877"/>
                </a:lnTo>
                <a:lnTo>
                  <a:pt x="17429" y="9877"/>
                </a:lnTo>
                <a:lnTo>
                  <a:pt x="17046" y="10243"/>
                </a:lnTo>
                <a:lnTo>
                  <a:pt x="16132" y="10243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" descr="00039281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" descr="3488.gif"/>
          <p:cNvPicPr/>
          <p:nvPr/>
        </p:nvPicPr>
        <p:blipFill>
          <a:blip r:embed="rId2"/>
          <a:stretch/>
        </p:blipFill>
        <p:spPr>
          <a:xfrm>
            <a:off x="5357880" y="1857240"/>
            <a:ext cx="1009440" cy="9432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3502.gif"/>
          <p:cNvPicPr/>
          <p:nvPr/>
        </p:nvPicPr>
        <p:blipFill>
          <a:blip r:embed="rId3"/>
          <a:stretch/>
        </p:blipFill>
        <p:spPr>
          <a:xfrm>
            <a:off x="928800" y="92880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4362.gif"/>
          <p:cNvPicPr/>
          <p:nvPr/>
        </p:nvPicPr>
        <p:blipFill>
          <a:blip r:embed="rId4"/>
          <a:stretch/>
        </p:blipFill>
        <p:spPr>
          <a:xfrm flipH="1">
            <a:off x="857160" y="24289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4736.gif"/>
          <p:cNvPicPr/>
          <p:nvPr/>
        </p:nvPicPr>
        <p:blipFill>
          <a:blip r:embed="rId5"/>
          <a:stretch/>
        </p:blipFill>
        <p:spPr>
          <a:xfrm>
            <a:off x="4786200" y="5429160"/>
            <a:ext cx="838440" cy="12096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6161.gif"/>
          <p:cNvPicPr/>
          <p:nvPr/>
        </p:nvPicPr>
        <p:blipFill>
          <a:blip r:embed="rId6"/>
          <a:stretch/>
        </p:blipFill>
        <p:spPr>
          <a:xfrm>
            <a:off x="7286760" y="3214800"/>
            <a:ext cx="1171440" cy="11142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6243.gif"/>
          <p:cNvPicPr/>
          <p:nvPr/>
        </p:nvPicPr>
        <p:blipFill>
          <a:blip r:embed="rId7"/>
          <a:stretch/>
        </p:blipFill>
        <p:spPr>
          <a:xfrm>
            <a:off x="4071960" y="3714840"/>
            <a:ext cx="1542960" cy="1104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6409.gif"/>
          <p:cNvPicPr/>
          <p:nvPr/>
        </p:nvPicPr>
        <p:blipFill>
          <a:blip r:embed="rId8"/>
          <a:stretch/>
        </p:blipFill>
        <p:spPr>
          <a:xfrm>
            <a:off x="428760" y="5429160"/>
            <a:ext cx="1724040" cy="10288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7126.gif"/>
          <p:cNvPicPr/>
          <p:nvPr/>
        </p:nvPicPr>
        <p:blipFill>
          <a:blip r:embed="rId9"/>
          <a:stretch/>
        </p:blipFill>
        <p:spPr>
          <a:xfrm>
            <a:off x="3071880" y="5786280"/>
            <a:ext cx="761760" cy="590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7471.gif"/>
          <p:cNvPicPr/>
          <p:nvPr/>
        </p:nvPicPr>
        <p:blipFill>
          <a:blip r:embed="rId10"/>
          <a:stretch/>
        </p:blipFill>
        <p:spPr>
          <a:xfrm>
            <a:off x="3071880" y="2286000"/>
            <a:ext cx="809640" cy="7430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7885.gif"/>
          <p:cNvPicPr/>
          <p:nvPr/>
        </p:nvPicPr>
        <p:blipFill>
          <a:blip r:embed="rId11"/>
          <a:stretch/>
        </p:blipFill>
        <p:spPr>
          <a:xfrm>
            <a:off x="3571920" y="214200"/>
            <a:ext cx="1724040" cy="1695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2" descr="6729.gif"/>
          <p:cNvPicPr/>
          <p:nvPr/>
        </p:nvPicPr>
        <p:blipFill>
          <a:blip r:embed="rId12"/>
          <a:stretch/>
        </p:blipFill>
        <p:spPr>
          <a:xfrm>
            <a:off x="7072200" y="5143680"/>
            <a:ext cx="1395360" cy="14284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3" descr="5879.gif"/>
          <p:cNvPicPr/>
          <p:nvPr/>
        </p:nvPicPr>
        <p:blipFill>
          <a:blip r:embed="rId13"/>
          <a:stretch/>
        </p:blipFill>
        <p:spPr>
          <a:xfrm flipH="1">
            <a:off x="857160" y="4071960"/>
            <a:ext cx="1959120" cy="125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9" descr="C:\C&amp;M\CMGE07_3\ящ.bmp"/>
          <p:cNvPicPr/>
          <p:nvPr/>
        </p:nvPicPr>
        <p:blipFill>
          <a:blip r:embed="rId1"/>
          <a:stretch/>
        </p:blipFill>
        <p:spPr>
          <a:xfrm>
            <a:off x="6143760" y="3429000"/>
            <a:ext cx="3000240" cy="342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C&amp;M\CMGE07_3\еж.bmp"/>
          <p:cNvPicPr/>
          <p:nvPr/>
        </p:nvPicPr>
        <p:blipFill>
          <a:blip r:embed="rId2"/>
          <a:stretch/>
        </p:blipFill>
        <p:spPr>
          <a:xfrm>
            <a:off x="0" y="3429000"/>
            <a:ext cx="292896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" descr="00015782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131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" descr="00015583.jpg"/>
          <p:cNvPicPr/>
          <p:nvPr/>
        </p:nvPicPr>
        <p:blipFill>
          <a:blip r:embed="rId4"/>
          <a:stretch/>
        </p:blipFill>
        <p:spPr>
          <a:xfrm>
            <a:off x="2928960" y="3429000"/>
            <a:ext cx="3214800" cy="3429000"/>
          </a:xfrm>
          <a:prstGeom prst="rect">
            <a:avLst/>
          </a:prstGeom>
          <a:ln w="0">
            <a:noFill/>
          </a:ln>
        </p:spPr>
      </p:pic>
      <p:pic>
        <p:nvPicPr>
          <p:cNvPr id="177" name="просн ляг.mpg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78" name="Управляющая кнопка: фильм 5"/>
          <p:cNvSpPr/>
          <p:nvPr/>
        </p:nvSpPr>
        <p:spPr>
          <a:xfrm>
            <a:off x="8072280" y="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7301"/>
                </a:moveTo>
                <a:lnTo>
                  <a:pt x="17046" y="7301"/>
                </a:lnTo>
                <a:lnTo>
                  <a:pt x="17429" y="7667"/>
                </a:lnTo>
                <a:lnTo>
                  <a:pt x="26637" y="7667"/>
                </a:lnTo>
                <a:lnTo>
                  <a:pt x="27194" y="8224"/>
                </a:lnTo>
                <a:lnTo>
                  <a:pt x="27194" y="8772"/>
                </a:lnTo>
                <a:lnTo>
                  <a:pt x="29040" y="8772"/>
                </a:lnTo>
                <a:lnTo>
                  <a:pt x="29405" y="8224"/>
                </a:lnTo>
                <a:lnTo>
                  <a:pt x="30145" y="8224"/>
                </a:lnTo>
                <a:lnTo>
                  <a:pt x="30145" y="13376"/>
                </a:lnTo>
                <a:lnTo>
                  <a:pt x="29405" y="13376"/>
                </a:lnTo>
                <a:lnTo>
                  <a:pt x="29040" y="12828"/>
                </a:lnTo>
                <a:lnTo>
                  <a:pt x="27194" y="12828"/>
                </a:lnTo>
                <a:lnTo>
                  <a:pt x="27194" y="14107"/>
                </a:lnTo>
                <a:lnTo>
                  <a:pt x="17612" y="14107"/>
                </a:lnTo>
                <a:lnTo>
                  <a:pt x="17612" y="9877"/>
                </a:lnTo>
                <a:lnTo>
                  <a:pt x="17429" y="9877"/>
                </a:lnTo>
                <a:lnTo>
                  <a:pt x="17046" y="10243"/>
                </a:lnTo>
                <a:lnTo>
                  <a:pt x="16132" y="10243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571680" y="3143160"/>
            <a:ext cx="8215200" cy="703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есной после долгого зимнего сна просыпаются медведи, ежи, змеи, лягушки, ящерицы, ры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Картинка 4 из 84000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286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42920" y="142920"/>
            <a:ext cx="371484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сли снег везде растая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трава в лесу вид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поёт пичужек стая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начит к нам приш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лисята"/>
          <p:cNvPicPr/>
          <p:nvPr/>
        </p:nvPicPr>
        <p:blipFill>
          <a:blip r:embed="rId1"/>
          <a:stretch/>
        </p:blipFill>
        <p:spPr>
          <a:xfrm>
            <a:off x="0" y="0"/>
            <a:ext cx="4753080" cy="351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медвежонок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522680" y="3568680"/>
            <a:ext cx="4621320" cy="32893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324000" y="47242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берлоги -  медвеж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5003640" y="1197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ираются из норы  лис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7" descr="djkr b djkxfnf"/>
          <p:cNvPicPr/>
          <p:nvPr/>
        </p:nvPicPr>
        <p:blipFill>
          <a:blip r:embed="rId1"/>
          <a:stretch/>
        </p:blipFill>
        <p:spPr>
          <a:xfrm>
            <a:off x="5143680" y="142920"/>
            <a:ext cx="3762360" cy="30877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500040" y="4143240"/>
            <a:ext cx="385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няют зимнюю шубку на летню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3" descr="00014970.jpg"/>
          <p:cNvPicPr/>
          <p:nvPr/>
        </p:nvPicPr>
        <p:blipFill>
          <a:blip r:embed="rId2"/>
          <a:stretch/>
        </p:blipFill>
        <p:spPr>
          <a:xfrm>
            <a:off x="5214960" y="3357720"/>
            <a:ext cx="3579840" cy="32860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6" descr="00018342.jpg"/>
          <p:cNvPicPr/>
          <p:nvPr/>
        </p:nvPicPr>
        <p:blipFill>
          <a:blip r:embed="rId3"/>
          <a:stretch/>
        </p:blipFill>
        <p:spPr>
          <a:xfrm>
            <a:off x="214200" y="142920"/>
            <a:ext cx="4627800" cy="300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9"/>
          <p:cNvSpPr txBox="1"/>
          <p:nvPr/>
        </p:nvSpPr>
        <p:spPr>
          <a:xfrm>
            <a:off x="1619280" y="333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авила друзей прир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89" name="Diagram 2"/>
          <p:cNvGrpSpPr/>
          <p:nvPr/>
        </p:nvGrpSpPr>
        <p:grpSpPr>
          <a:xfrm>
            <a:off x="2454480" y="1813320"/>
            <a:ext cx="4309920" cy="4309920"/>
            <a:chOff x="2454480" y="1813320"/>
            <a:chExt cx="4309920" cy="4309920"/>
          </a:xfrm>
        </p:grpSpPr>
        <p:sp>
          <p:nvSpPr>
            <p:cNvPr id="190" name="_s1028"/>
            <p:cNvSpPr/>
            <p:nvPr/>
          </p:nvSpPr>
          <p:spPr>
            <a:xfrm flipH="1" flipV="1">
              <a:off x="3846240" y="320508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>
              <a:off x="2927520" y="2286360"/>
              <a:ext cx="1077840" cy="1077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H="1">
              <a:off x="3530880" y="396756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>
              <a:off x="2454480" y="3429360"/>
              <a:ext cx="1077840" cy="10778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H="1">
              <a:off x="3846240" y="434664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33"/>
            <p:cNvSpPr/>
            <p:nvPr/>
          </p:nvSpPr>
          <p:spPr>
            <a:xfrm>
              <a:off x="2927520" y="4572360"/>
              <a:ext cx="1077840" cy="1077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34"/>
            <p:cNvSpPr/>
            <p:nvPr/>
          </p:nvSpPr>
          <p:spPr>
            <a:xfrm>
              <a:off x="4608720" y="450396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35"/>
            <p:cNvSpPr/>
            <p:nvPr/>
          </p:nvSpPr>
          <p:spPr>
            <a:xfrm>
              <a:off x="4070520" y="5045400"/>
              <a:ext cx="1077840" cy="1077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36"/>
            <p:cNvSpPr/>
            <p:nvPr/>
          </p:nvSpPr>
          <p:spPr>
            <a:xfrm>
              <a:off x="4988160" y="434664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37"/>
            <p:cNvSpPr/>
            <p:nvPr/>
          </p:nvSpPr>
          <p:spPr>
            <a:xfrm>
              <a:off x="5213520" y="4572360"/>
              <a:ext cx="1077840" cy="10778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38"/>
            <p:cNvSpPr/>
            <p:nvPr/>
          </p:nvSpPr>
          <p:spPr>
            <a:xfrm>
              <a:off x="5145120" y="396756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39"/>
            <p:cNvSpPr/>
            <p:nvPr/>
          </p:nvSpPr>
          <p:spPr>
            <a:xfrm>
              <a:off x="5686560" y="3429360"/>
              <a:ext cx="1077840" cy="10778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040"/>
            <p:cNvSpPr/>
            <p:nvPr/>
          </p:nvSpPr>
          <p:spPr>
            <a:xfrm flipV="1">
              <a:off x="4988160" y="320508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1041"/>
            <p:cNvSpPr/>
            <p:nvPr/>
          </p:nvSpPr>
          <p:spPr>
            <a:xfrm>
              <a:off x="5213520" y="2286360"/>
              <a:ext cx="1077840" cy="10778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042"/>
            <p:cNvSpPr/>
            <p:nvPr/>
          </p:nvSpPr>
          <p:spPr>
            <a:xfrm flipV="1">
              <a:off x="4608720" y="288936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043"/>
            <p:cNvSpPr/>
            <p:nvPr/>
          </p:nvSpPr>
          <p:spPr>
            <a:xfrm>
              <a:off x="4070520" y="1813320"/>
              <a:ext cx="1077840" cy="10778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044"/>
            <p:cNvSpPr/>
            <p:nvPr/>
          </p:nvSpPr>
          <p:spPr>
            <a:xfrm>
              <a:off x="4070520" y="3430800"/>
              <a:ext cx="1077840" cy="107784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Помн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88" descr="img015"/>
          <p:cNvPicPr/>
          <p:nvPr/>
        </p:nvPicPr>
        <p:blipFill>
          <a:blip r:embed="rId11"/>
          <a:stretch/>
        </p:blipFill>
        <p:spPr>
          <a:xfrm>
            <a:off x="4067280" y="1773360"/>
            <a:ext cx="1152360" cy="11160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08" name="Picture 89" descr="img016"/>
          <p:cNvPicPr/>
          <p:nvPr/>
        </p:nvPicPr>
        <p:blipFill>
          <a:blip r:embed="rId12"/>
          <a:stretch/>
        </p:blipFill>
        <p:spPr>
          <a:xfrm>
            <a:off x="5292720" y="2205000"/>
            <a:ext cx="1152360" cy="10731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09" name="Picture 90" descr="img014"/>
          <p:cNvPicPr/>
          <p:nvPr/>
        </p:nvPicPr>
        <p:blipFill>
          <a:blip r:embed="rId13"/>
          <a:stretch/>
        </p:blipFill>
        <p:spPr>
          <a:xfrm>
            <a:off x="5651640" y="3357720"/>
            <a:ext cx="1081080" cy="12222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10" name="Picture 91" descr="img018"/>
          <p:cNvPicPr/>
          <p:nvPr/>
        </p:nvPicPr>
        <p:blipFill>
          <a:blip r:embed="rId14"/>
          <a:stretch/>
        </p:blipFill>
        <p:spPr>
          <a:xfrm>
            <a:off x="5219640" y="4653000"/>
            <a:ext cx="1116000" cy="12240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11" name="Picture 92" descr="img012"/>
          <p:cNvPicPr/>
          <p:nvPr/>
        </p:nvPicPr>
        <p:blipFill>
          <a:blip r:embed="rId15"/>
          <a:stretch/>
        </p:blipFill>
        <p:spPr>
          <a:xfrm>
            <a:off x="2916360" y="2205000"/>
            <a:ext cx="1076040" cy="10810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12" name="Picture 93" descr="img017"/>
          <p:cNvPicPr/>
          <p:nvPr/>
        </p:nvPicPr>
        <p:blipFill>
          <a:blip r:embed="rId16"/>
          <a:stretch/>
        </p:blipFill>
        <p:spPr>
          <a:xfrm>
            <a:off x="2411280" y="3357720"/>
            <a:ext cx="1081080" cy="10983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13" name="Picture 94" descr="img013"/>
          <p:cNvPicPr/>
          <p:nvPr/>
        </p:nvPicPr>
        <p:blipFill>
          <a:blip r:embed="rId17"/>
          <a:stretch/>
        </p:blipFill>
        <p:spPr>
          <a:xfrm>
            <a:off x="2916360" y="4581360"/>
            <a:ext cx="1079280" cy="11052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14" name="Picture 95" descr="img011"/>
          <p:cNvPicPr/>
          <p:nvPr/>
        </p:nvPicPr>
        <p:blipFill>
          <a:blip r:embed="rId18"/>
          <a:stretch/>
        </p:blipFill>
        <p:spPr>
          <a:xfrm>
            <a:off x="4067280" y="5084640"/>
            <a:ext cx="1077840" cy="12970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sp>
        <p:nvSpPr>
          <p:cNvPr id="215" name="Text Box 96"/>
          <p:cNvSpPr/>
          <p:nvPr/>
        </p:nvSpPr>
        <p:spPr>
          <a:xfrm rot="21061200">
            <a:off x="5724360" y="1700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жигай костр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7"/>
          <p:cNvSpPr/>
          <p:nvPr/>
        </p:nvSpPr>
        <p:spPr>
          <a:xfrm rot="505200">
            <a:off x="6622560" y="285228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ломай ветки деревье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8"/>
          <p:cNvSpPr/>
          <p:nvPr/>
        </p:nvSpPr>
        <p:spPr>
          <a:xfrm rot="20845200">
            <a:off x="6877080" y="4005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ви мухомор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9"/>
          <p:cNvSpPr/>
          <p:nvPr/>
        </p:nvSpPr>
        <p:spPr>
          <a:xfrm rot="685200">
            <a:off x="6443280" y="501300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оряй муравейник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0"/>
          <p:cNvSpPr/>
          <p:nvPr/>
        </p:nvSpPr>
        <p:spPr>
          <a:xfrm rot="321000">
            <a:off x="5508360" y="6165360"/>
            <a:ext cx="33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трогай животн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1"/>
          <p:cNvSpPr/>
          <p:nvPr/>
        </p:nvSpPr>
        <p:spPr>
          <a:xfrm rot="21177600">
            <a:off x="755640" y="5876640"/>
            <a:ext cx="23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оряй гнезда птиц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2"/>
          <p:cNvSpPr/>
          <p:nvPr/>
        </p:nvSpPr>
        <p:spPr>
          <a:xfrm rot="20616600">
            <a:off x="395280" y="378936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наступай на цветы и насеком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3"/>
          <p:cNvSpPr/>
          <p:nvPr/>
        </p:nvSpPr>
        <p:spPr>
          <a:xfrm rot="20880000">
            <a:off x="610560" y="198612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ви полевые цвет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Управляющая кнопка: домой 19">
            <a:hlinkClick r:id="rId19" action="ppaction://hlinksldjump"/>
          </p:cNvPr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огие растения, которые растут рядом с нами, являются лекарственными. Отгадай, о каких растениях идёт реч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C:\C&amp;M\CMGE07_3\кал.bmp"/>
          <p:cNvPicPr/>
          <p:nvPr/>
        </p:nvPicPr>
        <p:blipFill>
          <a:blip r:embed="rId1"/>
          <a:stretch/>
        </p:blipFill>
        <p:spPr>
          <a:xfrm>
            <a:off x="3429000" y="3929040"/>
            <a:ext cx="2286000" cy="2544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C&amp;M\CMGE07_3\кл.bmp"/>
          <p:cNvPicPr/>
          <p:nvPr/>
        </p:nvPicPr>
        <p:blipFill>
          <a:blip r:embed="rId2"/>
          <a:stretch/>
        </p:blipFill>
        <p:spPr>
          <a:xfrm>
            <a:off x="642960" y="3429000"/>
            <a:ext cx="2311200" cy="2571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D:\Фото\Фото оз.Селигер\����������� 116.jpg"/>
          <p:cNvPicPr/>
          <p:nvPr/>
        </p:nvPicPr>
        <p:blipFill>
          <a:blip r:embed="rId3"/>
          <a:stretch/>
        </p:blipFill>
        <p:spPr>
          <a:xfrm>
            <a:off x="6357960" y="3357720"/>
            <a:ext cx="209556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500040" y="17146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сть ягоды прекрасна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ёлтая иль красна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достать её боюсь -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шипы уколюс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уважаю с детств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ечное сред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286240" y="564372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C&amp;M\CMGE07_3\БО.bmp"/>
          <p:cNvPicPr/>
          <p:nvPr/>
        </p:nvPicPr>
        <p:blipFill>
          <a:blip r:embed="rId1"/>
          <a:stretch/>
        </p:blipFill>
        <p:spPr>
          <a:xfrm>
            <a:off x="5000760" y="1500120"/>
            <a:ext cx="3357360" cy="373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642960" y="164304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на, как коготк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ёлто-красные цветк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орла помогают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же их не зн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C&amp;M\CMGE07_3\кал.bmp"/>
          <p:cNvPicPr/>
          <p:nvPr/>
        </p:nvPicPr>
        <p:blipFill>
          <a:blip r:embed="rId1"/>
          <a:stretch/>
        </p:blipFill>
        <p:spPr>
          <a:xfrm>
            <a:off x="4857840" y="1428840"/>
            <a:ext cx="3357360" cy="3736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5286240" y="564372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АЛЕНД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5286240" y="564372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ШИП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642960" y="1785960"/>
            <a:ext cx="400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дит на палочк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расной рубашке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юшко сыто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мешками набит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C&amp;M\CMGE07_3\ШИП.bmp"/>
          <p:cNvPicPr/>
          <p:nvPr/>
        </p:nvPicPr>
        <p:blipFill>
          <a:blip r:embed="rId1"/>
          <a:stretch/>
        </p:blipFill>
        <p:spPr>
          <a:xfrm>
            <a:off x="5000760" y="1571760"/>
            <a:ext cx="3273120" cy="36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5572080" y="571500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ЛЕ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714240" y="1643040"/>
            <a:ext cx="4214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оси телёнка и барашка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ка вкусней на свете не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ь не случайн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й кашко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зовут за вкус и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C&amp;M\CMGE07_3\кл.bmp"/>
          <p:cNvPicPr/>
          <p:nvPr/>
        </p:nvPicPr>
        <p:blipFill>
          <a:blip r:embed="rId1"/>
          <a:stretch/>
        </p:blipFill>
        <p:spPr>
          <a:xfrm>
            <a:off x="5214960" y="1571760"/>
            <a:ext cx="3273480" cy="36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5712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5214960" y="564372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285840" y="1714680"/>
            <a:ext cx="442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го модника как это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ё не видела земл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чень любит среди ле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уховой шапке щеголя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C:\C&amp;M\CMGE07_3\од.bmp"/>
          <p:cNvPicPr/>
          <p:nvPr/>
        </p:nvPicPr>
        <p:blipFill>
          <a:blip r:embed="rId1"/>
          <a:stretch/>
        </p:blipFill>
        <p:spPr>
          <a:xfrm>
            <a:off x="5143680" y="1571760"/>
            <a:ext cx="3273120" cy="36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5643720" y="542916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57120" y="1500120"/>
            <a:ext cx="485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анил ты в походе ногу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лость не даёт идти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нись: солдатик у дорог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 помочь тебе в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C&amp;M\CMGE07_3\ПОД.bmp"/>
          <p:cNvPicPr/>
          <p:nvPr/>
        </p:nvPicPr>
        <p:blipFill>
          <a:blip r:embed="rId1"/>
          <a:stretch/>
        </p:blipFill>
        <p:spPr>
          <a:xfrm>
            <a:off x="5214960" y="1500120"/>
            <a:ext cx="333864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Картинка 17 из 84000"/>
          <p:cNvPicPr/>
          <p:nvPr/>
        </p:nvPicPr>
        <p:blipFill>
          <a:blip r:embed="rId1"/>
          <a:stretch/>
        </p:blipFill>
        <p:spPr>
          <a:xfrm>
            <a:off x="428760" y="500040"/>
            <a:ext cx="8286480" cy="5857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142920" y="142920"/>
            <a:ext cx="400032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сли солнце разрумя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ши щёки докрас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м ещё приятней станет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начит к нам пришл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2"/>
          <a:stretch/>
        </p:blipFill>
        <p:spPr>
          <a:xfrm>
            <a:off x="438120" y="1822320"/>
            <a:ext cx="8547120" cy="275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2" descr="00039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1071720" y="1428840"/>
            <a:ext cx="72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коро гости к тебе соберу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колько гнёзд понавьют, по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Что за звуки, за песни по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День-деньской от зари до зари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. Ники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егодня на уроке я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Рисунок 3" descr="23196.gif"/>
          <p:cNvPicPr/>
          <p:nvPr/>
        </p:nvPicPr>
        <p:blipFill>
          <a:blip r:embed="rId1"/>
          <a:stretch/>
        </p:blipFill>
        <p:spPr>
          <a:xfrm>
            <a:off x="2643120" y="178596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285840" y="185724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572080" y="43578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УДИ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5929200" y="200016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У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214200" y="400068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ЗАДУМ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текст учебн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гадать кроссворд «Какого цвета весн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500040" y="28584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Book Antiqua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428760" y="1357200"/>
            <a:ext cx="8358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shky.ru  c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6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энциклопедия Кирилла и Мефодия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воспитательная работа в начальной школе – Ростов-н/Д: Творческий центр «Учитель»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иду на урок в начальную школу: Природоведение: Книга для учителя. – М.: Издательство «Первое сентября»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Картинка 4 из 84000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6429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2000160" y="21420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нова птицы летят издалё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 берегам, расторгающим лё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лнце тёплое ходит выс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душистого ландыша ж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071720" y="5857920"/>
            <a:ext cx="721512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Какие признаки весны назвал автор в своём стихотвор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хема 1" descr=""/>
          <p:cNvPicPr/>
          <p:nvPr/>
        </p:nvPicPr>
        <p:blipFill>
          <a:blip r:embed="rId1"/>
          <a:stretch/>
        </p:blipFill>
        <p:spPr>
          <a:xfrm>
            <a:off x="133200" y="895320"/>
            <a:ext cx="8802720" cy="461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Рисунок4"/>
          <p:cNvPicPr/>
          <p:nvPr/>
        </p:nvPicPr>
        <p:blipFill>
          <a:blip r:embed="rId2"/>
          <a:stretch/>
        </p:blipFill>
        <p:spPr>
          <a:xfrm>
            <a:off x="285840" y="5500800"/>
            <a:ext cx="1441440" cy="1141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23209.gif"/>
          <p:cNvPicPr/>
          <p:nvPr/>
        </p:nvPicPr>
        <p:blipFill>
          <a:blip r:embed="rId3"/>
          <a:stretch/>
        </p:blipFill>
        <p:spPr>
          <a:xfrm>
            <a:off x="7215120" y="5286240"/>
            <a:ext cx="1214640" cy="1430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6422.gif"/>
          <p:cNvPicPr/>
          <p:nvPr/>
        </p:nvPicPr>
        <p:blipFill>
          <a:blip r:embed="rId4"/>
          <a:stretch/>
        </p:blipFill>
        <p:spPr>
          <a:xfrm>
            <a:off x="5286240" y="4929120"/>
            <a:ext cx="1533600" cy="165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Рисунок143"/>
          <p:cNvPicPr/>
          <p:nvPr/>
        </p:nvPicPr>
        <p:blipFill>
          <a:blip r:embed="rId5"/>
          <a:stretch/>
        </p:blipFill>
        <p:spPr>
          <a:xfrm>
            <a:off x="2428920" y="5072040"/>
            <a:ext cx="1627200" cy="143028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571680" y="2142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ЕГОДНЯ НА 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гадай весенний месяц, назови признаки этого месяц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5" descr="март в лесу"/>
          <p:cNvPicPr/>
          <p:nvPr/>
        </p:nvPicPr>
        <p:blipFill>
          <a:blip r:embed="rId1"/>
          <a:stretch/>
        </p:blipFill>
        <p:spPr>
          <a:xfrm>
            <a:off x="3214800" y="1785960"/>
            <a:ext cx="5594400" cy="4857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285840" y="1428840"/>
            <a:ext cx="4000320" cy="1922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ет тёплый южный ве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ышко всё ярче све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ег худеет, мякнет, т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ч горластый прилет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за месяц? Кто узн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00039235.jpg"/>
          <p:cNvPicPr/>
          <p:nvPr/>
        </p:nvPicPr>
        <p:blipFill>
          <a:blip r:embed="rId1"/>
          <a:stretch/>
        </p:blipFill>
        <p:spPr>
          <a:xfrm>
            <a:off x="214200" y="928800"/>
            <a:ext cx="8643960" cy="5705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арт-проталь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42920" y="6072120"/>
            <a:ext cx="8858160" cy="703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лово «март» не русское. Оно пришло к нам из Византии. Первый месяц весны назван так по имени бога войны Мар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000391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214200" y="5929200"/>
            <a:ext cx="864396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ши предки называли этот месяц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протальником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-за быстрого таяния снегов и появления прота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леск речных волн.MP3" descr=""/>
          <p:cNvPicPr/>
          <p:nvPr/>
        </p:nvPicPr>
        <p:blipFill>
          <a:blip r:embed="rId2"/>
          <a:stretch/>
        </p:blipFill>
        <p:spPr>
          <a:xfrm>
            <a:off x="285840" y="5429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404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20:24:44Z</dcterms:created>
  <dc:creator>ОЛЬГА</dc:creator>
  <dc:description/>
  <dc:language>en-US</dc:language>
  <cp:lastModifiedBy>КарМаН</cp:lastModifiedBy>
  <dcterms:modified xsi:type="dcterms:W3CDTF">2011-03-03T10:44:08Z</dcterms:modified>
  <cp:revision>46</cp:revision>
  <dc:subject/>
  <dc:title>Слайд 1</dc:title>
</cp:coreProperties>
</file>