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D14-1281-4D30-ADAD-BF625EC6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C07-2442-4349-958E-480EFE7C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7D2-5DB1-4809-B9EF-6F24478D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8E7-0B8D-42D0-AA5E-C211FFE6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2E35-F617-4228-9610-323B18D4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6127-2980-4496-904B-C90FB955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1652-A1AA-4FF5-B799-3CF605C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A011-BF09-4EDB-9B51-B342B17A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9AC8-95F6-4D3F-AB4A-3B851C8A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D8AF-8FA1-4000-BD4F-FFA296C7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7447-7D27-4751-B0C1-755247D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E04-1A84-43E3-BA4F-3CA3A57B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F802-01F2-47BF-8E35-D44926B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51C0-CC19-4D09-BE6C-801B6541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5039-9A17-43BC-9D7A-93535FDE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9C62-66A0-4F91-A241-815E2964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FF9C-7762-4031-93FB-523D6EBD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16D-4786-4E67-905F-C7AD394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8B1-4556-4FE7-BE4C-AFA0D985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0FE-67E2-4D68-AB7E-8BDC7A2E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FF7-CC3A-4CA7-AB96-5BA81B4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9BE-3004-49D4-8F33-D065C385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63E-24D2-473F-82EF-63254204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70D-323B-4258-870E-FD32993B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D812-2269-4957-8E0D-C7F2D0A484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7EEF-F67D-4767-B049-4751A1C254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to.mail.ru/mail/sergey-pa.64/176/" TargetMode="External"/><Relationship Id="rId2" Type="http://schemas.openxmlformats.org/officeDocument/2006/relationships/hyperlink" Target="http://shapovalovka.ucoz.ru/photo/1" TargetMode="External"/><Relationship Id="rId3" Type="http://schemas.openxmlformats.org/officeDocument/2006/relationships/hyperlink" Target="http://gepga.uol.ua/blog/tags/17763/stihi-foto-prirodahmao-yugra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«Югра-мой край родной»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464796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83240" y="228600"/>
            <a:ext cx="469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"/>
              </a:rPr>
              <a:t>Муниципальное дошкольное образовательное бюджетное учрежд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"/>
              </a:rPr>
              <a:t>Детский сад комбинированного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"/>
              </a:rPr>
              <a:t>«Капель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626160" y="5697360"/>
            <a:ext cx="215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"/>
              </a:rPr>
              <a:t>Воспитатель Галимьянова Е.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"/>
              </a:rPr>
              <a:t>г.п. Пойковск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korennye_narody"/>
          <p:cNvPicPr/>
          <p:nvPr/>
        </p:nvPicPr>
        <p:blipFill>
          <a:blip r:embed="rId1"/>
          <a:stretch/>
        </p:blipFill>
        <p:spPr>
          <a:xfrm>
            <a:off x="304920" y="1295280"/>
            <a:ext cx="3352680" cy="2229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10173"/>
          <p:cNvPicPr/>
          <p:nvPr/>
        </p:nvPicPr>
        <p:blipFill>
          <a:blip r:embed="rId2"/>
          <a:stretch/>
        </p:blipFill>
        <p:spPr>
          <a:xfrm>
            <a:off x="5105520" y="1523880"/>
            <a:ext cx="17478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Ber_Kor"/>
          <p:cNvPicPr/>
          <p:nvPr/>
        </p:nvPicPr>
        <p:blipFill>
          <a:blip r:embed="rId3"/>
          <a:stretch/>
        </p:blipFill>
        <p:spPr>
          <a:xfrm>
            <a:off x="914400" y="37339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YunSev"/>
          <p:cNvPicPr/>
          <p:nvPr/>
        </p:nvPicPr>
        <p:blipFill>
          <a:blip r:embed="rId4"/>
          <a:stretch/>
        </p:blipFill>
        <p:spPr>
          <a:xfrm>
            <a:off x="4495680" y="388620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228600" y="2649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Женщины народов ханты и манси, когда шили одежду для всей семьи, они украшали её специальным орнаментом, который соответствовал тому животному, которому они поклонялис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7" descr="rybaki-3"/>
          <p:cNvPicPr/>
          <p:nvPr/>
        </p:nvPicPr>
        <p:blipFill>
          <a:blip r:embed="rId1"/>
          <a:stretch/>
        </p:blipFill>
        <p:spPr>
          <a:xfrm>
            <a:off x="5181480" y="3352680"/>
            <a:ext cx="3581640" cy="3097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tradic_8"/>
          <p:cNvPicPr/>
          <p:nvPr/>
        </p:nvPicPr>
        <p:blipFill>
          <a:blip r:embed="rId2"/>
          <a:stretch/>
        </p:blipFill>
        <p:spPr>
          <a:xfrm>
            <a:off x="685800" y="1447920"/>
            <a:ext cx="3890880" cy="5029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441360" y="417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93640" y="5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284480" y="569880"/>
            <a:ext cx="53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А мужчины занимались охотой и рыбалк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x_d069fa6d"/>
          <p:cNvPicPr/>
          <p:nvPr/>
        </p:nvPicPr>
        <p:blipFill>
          <a:blip r:embed="rId1"/>
          <a:stretch/>
        </p:blipFill>
        <p:spPr>
          <a:xfrm>
            <a:off x="1066680" y="18288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52280" y="341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А ещё народы севера считают березу кусочком небесной жизни. Это дерево святое. Священное дерево. Они повязывают на березку разноцветные, красивые ленточки и загадывают желания. Эти желания обязательно сбыва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foto.mail.ru/mail/sergey-pa.64/176/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e9ce8"/>
                </a:solidFill>
                <a:latin typeface="Arial"/>
              </a:rPr>
              <a:t>http://surgut.bezformata.ru/listnews/fotovistavka-irini-zabrodinoj-priroda/6611704/</a:t>
            </a:r>
            <a:br>
              <a:rPr sz="2000"/>
            </a:br>
            <a:br>
              <a:rPr sz="2000"/>
            </a:br>
            <a:r>
              <a:rPr b="1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shapovalovka.ucoz.ru/photo/1</a:t>
            </a:r>
            <a:br>
              <a:rPr sz="1800"/>
            </a:br>
            <a:br>
              <a:rPr sz="1800"/>
            </a:br>
            <a:r>
              <a:rPr b="1" lang="ru-RU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gepga.uol.ua/blog/tags/17763/stihi-foto-prirodahmao-yugra/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990720" y="1581840"/>
            <a:ext cx="551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ь твоих степей венчают 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 тайгой – морей студеный ле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оплывая над твоим прос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аже солнце за день у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елика ты, Родина, красив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Берега суровые лю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кеаны грозные не в си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ключить в объятия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ойти тебя не хватит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Хоть шагай упрямо день за д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к же ты, великая Отчиз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ердце умещаешься мо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reindeer1"/>
          <p:cNvPicPr/>
          <p:nvPr/>
        </p:nvPicPr>
        <p:blipFill>
          <a:blip r:embed="rId1"/>
          <a:stretch/>
        </p:blipFill>
        <p:spPr>
          <a:xfrm>
            <a:off x="4876920" y="3276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Основную часть территории округа занимает заболоченная тайга с большим количеством рек и озер. По территории округа с юга на север протекают две крупнейшие реки России и округа. </a:t>
            </a:r>
            <a:br>
              <a:rPr sz="1400"/>
            </a:b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 Как они называются? (Обь и Иртыш).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7543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- Ребята, как называют коренных жителей нашего округа? (Ханты и Манси.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294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ХМАО играет большую роль в жизни нашей общей родины – России. </a:t>
            </a:r>
            <a:br>
              <a:rPr sz="1600"/>
            </a:b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- Скажите, а чем богат наш округ? (ответы детей.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Picture 3" descr="ed905cea35ae59e2d1e49643584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0023ae9bcfe60ec70d8607"/>
          <p:cNvPicPr/>
          <p:nvPr/>
        </p:nvPicPr>
        <p:blipFill>
          <a:blip r:embed="rId2"/>
          <a:stretch/>
        </p:blipFill>
        <p:spPr>
          <a:xfrm>
            <a:off x="4800600" y="1523880"/>
            <a:ext cx="297180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information_items_40583"/>
          <p:cNvPicPr/>
          <p:nvPr/>
        </p:nvPicPr>
        <p:blipFill>
          <a:blip r:embed="rId3"/>
          <a:stretch/>
        </p:blipFill>
        <p:spPr>
          <a:xfrm>
            <a:off x="4419720" y="3657600"/>
            <a:ext cx="3962160" cy="2641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v66_19_3"/>
          <p:cNvPicPr/>
          <p:nvPr/>
        </p:nvPicPr>
        <p:blipFill>
          <a:blip r:embed="rId4"/>
          <a:stretch/>
        </p:blipFill>
        <p:spPr>
          <a:xfrm>
            <a:off x="762120" y="4495680"/>
            <a:ext cx="293688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0_12bec_e0353815_XL"/>
          <p:cNvPicPr/>
          <p:nvPr/>
        </p:nvPicPr>
        <p:blipFill>
          <a:blip r:embed="rId1"/>
          <a:stretch/>
        </p:blipFill>
        <p:spPr>
          <a:xfrm>
            <a:off x="152280" y="2286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08_brusnika"/>
          <p:cNvPicPr/>
          <p:nvPr/>
        </p:nvPicPr>
        <p:blipFill>
          <a:blip r:embed="rId2"/>
          <a:stretch/>
        </p:blipFill>
        <p:spPr>
          <a:xfrm>
            <a:off x="3962520" y="228600"/>
            <a:ext cx="3848040" cy="266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Грибы, ягоды"/>
          <p:cNvPicPr/>
          <p:nvPr/>
        </p:nvPicPr>
        <p:blipFill>
          <a:blip r:embed="rId3"/>
          <a:stretch/>
        </p:blipFill>
        <p:spPr>
          <a:xfrm>
            <a:off x="1066680" y="327672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0b0601f869a546b5000b9fa4c30fc1f8"/>
          <p:cNvPicPr/>
          <p:nvPr/>
        </p:nvPicPr>
        <p:blipFill>
          <a:blip r:embed="rId4"/>
          <a:stretch/>
        </p:blipFill>
        <p:spPr>
          <a:xfrm>
            <a:off x="4038480" y="3429000"/>
            <a:ext cx="37339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2301019"/>
          <p:cNvPicPr/>
          <p:nvPr/>
        </p:nvPicPr>
        <p:blipFill>
          <a:blip r:embed="rId1"/>
          <a:stretch/>
        </p:blipFill>
        <p:spPr>
          <a:xfrm>
            <a:off x="304920" y="228600"/>
            <a:ext cx="4419360" cy="2965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1647691"/>
          <p:cNvPicPr/>
          <p:nvPr/>
        </p:nvPicPr>
        <p:blipFill>
          <a:blip r:embed="rId2"/>
          <a:stretch/>
        </p:blipFill>
        <p:spPr>
          <a:xfrm>
            <a:off x="4800600" y="3505320"/>
            <a:ext cx="4152960" cy="3022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5"/>
          <p:cNvPicPr/>
          <p:nvPr/>
        </p:nvPicPr>
        <p:blipFill>
          <a:blip r:embed="rId3"/>
          <a:stretch/>
        </p:blipFill>
        <p:spPr>
          <a:xfrm>
            <a:off x="228600" y="3581280"/>
            <a:ext cx="4381560" cy="299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0_6bb91_319ace56_XL"/>
          <p:cNvPicPr/>
          <p:nvPr/>
        </p:nvPicPr>
        <p:blipFill>
          <a:blip r:embed="rId4"/>
          <a:stretch/>
        </p:blipFill>
        <p:spPr>
          <a:xfrm>
            <a:off x="5029200" y="304920"/>
            <a:ext cx="3657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301337469_1"/>
          <p:cNvPicPr/>
          <p:nvPr/>
        </p:nvPicPr>
        <p:blipFill>
          <a:blip r:embed="rId1"/>
          <a:stretch/>
        </p:blipFill>
        <p:spPr>
          <a:xfrm>
            <a:off x="4572000" y="3886200"/>
            <a:ext cx="345456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593835-1"/>
          <p:cNvPicPr/>
          <p:nvPr/>
        </p:nvPicPr>
        <p:blipFill>
          <a:blip r:embed="rId2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457200" y="341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а протяжении веков основным занятием хантов и манси были охотничий и рыбный промыс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tradic_8"/>
          <p:cNvPicPr/>
          <p:nvPr/>
        </p:nvPicPr>
        <p:blipFill>
          <a:blip r:embed="rId3"/>
          <a:stretch/>
        </p:blipFill>
        <p:spPr>
          <a:xfrm>
            <a:off x="1066680" y="121932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rybaki-3"/>
          <p:cNvPicPr/>
          <p:nvPr/>
        </p:nvPicPr>
        <p:blipFill>
          <a:blip r:embed="rId4"/>
          <a:stretch/>
        </p:blipFill>
        <p:spPr>
          <a:xfrm>
            <a:off x="4572000" y="1143000"/>
            <a:ext cx="29718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0518752"/>
          <p:cNvPicPr/>
          <p:nvPr/>
        </p:nvPicPr>
        <p:blipFill>
          <a:blip r:embed="rId1"/>
          <a:stretch/>
        </p:blipFill>
        <p:spPr>
          <a:xfrm>
            <a:off x="228600" y="2286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animal-photo-gallery-270"/>
          <p:cNvPicPr/>
          <p:nvPr/>
        </p:nvPicPr>
        <p:blipFill>
          <a:blip r:embed="rId2"/>
          <a:stretch/>
        </p:blipFill>
        <p:spPr>
          <a:xfrm>
            <a:off x="380880" y="36576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4019691"/>
          <p:cNvPicPr/>
          <p:nvPr/>
        </p:nvPicPr>
        <p:blipFill>
          <a:blip r:embed="rId3"/>
          <a:stretch/>
        </p:blipFill>
        <p:spPr>
          <a:xfrm>
            <a:off x="4038480" y="3808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reindeer1"/>
          <p:cNvPicPr/>
          <p:nvPr/>
        </p:nvPicPr>
        <p:blipFill>
          <a:blip r:embed="rId4"/>
          <a:stretch/>
        </p:blipFill>
        <p:spPr>
          <a:xfrm>
            <a:off x="4343400" y="36576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6:33:11Z</dcterms:created>
  <dc:creator>Алексей</dc:creator>
  <dc:description/>
  <dc:language>en-US</dc:language>
  <cp:lastModifiedBy>Елена</cp:lastModifiedBy>
  <dcterms:modified xsi:type="dcterms:W3CDTF">2018-11-28T06:08:4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d0000000000010243100207f6000400038000</vt:lpwstr>
  </property>
  <property fmtid="{D5CDD505-2E9C-101B-9397-08002B2CF9AE}" pid="3" name="Version">
    <vt:r8>1</vt:r8>
  </property>
</Properties>
</file>