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E44-33D3-4193-AAF0-94F0E667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7E8-943E-4C0D-B759-BFED738C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B31-E51F-4FE8-BA6A-0D140D1A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ACB-8E2B-40B5-87FB-72F708E1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7ABD-B7B4-48F8-8A57-03FCBD10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CF06-2A8D-45E0-B705-EBE86C01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7E29-7A83-4BB8-9856-7A1B270D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4D06-FC4E-4A94-AA14-7924719B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159B-A9AF-45AE-8E6B-4398BD46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8A15-D6C4-4C33-B7A3-F229F07A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1932-57EF-4213-B29A-D5F4CF8C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7A4-4984-4196-B34E-9F55775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E5E0-155C-4F57-A95C-4130DE84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D3FC-7B2C-4112-8C2B-BCF469C5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AA50-44B2-4411-8682-4367C3A4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184B-B275-4429-A771-3ECCD7E9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B8C3-8BD8-4FDC-80CF-34F152D3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F8C-FA2E-4333-96EE-47D34236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6CF7-A351-4377-B54A-BA9A3BCA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D46-F189-47BE-BDDD-CB968774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9E3-1915-444E-967D-7EFE5E06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23C-CD7A-4EDB-BF93-E9E604A2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E3B-8348-4C17-93DC-EB08F3F5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0CA-4036-497F-BCF6-687B7784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9C4B-0563-4FF8-BC35-F533DFF8A45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AD7E-807D-4F60-8C1E-9FF22C2FCB9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38120" y="3943440"/>
            <a:ext cx="8834400" cy="1805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1857240"/>
            <a:ext cx="640080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-142920" y="785880"/>
            <a:ext cx="8064720" cy="369720"/>
          </a:xfrm>
          <a:prstGeom prst="rect">
            <a:avLst/>
          </a:prstGeom>
          <a:noFill/>
          <a:ln w="93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9360">
            <a:solidFill>
              <a:srgbClr val="009dd9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ичины движения крови по сосудам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2428560"/>
            <a:ext cx="79930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азность давления крови в сосуда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личие клапанов в вена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окращение близлежащих скелетных мышц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абота сердц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азность давления в грудной и брюшной полостях при вдохе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Сердце - насос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Автофигура 9"/>
          <p:cNvSpPr/>
          <p:nvPr/>
        </p:nvSpPr>
        <p:spPr>
          <a:xfrm>
            <a:off x="857160" y="2000160"/>
            <a:ext cx="5394240" cy="1224000"/>
          </a:xfrm>
          <a:prstGeom prst="roundRect">
            <a:avLst>
              <a:gd name="adj" fmla="val 16667"/>
            </a:avLst>
          </a:prstGeom>
          <a:solidFill>
            <a:srgbClr val="6bdb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истола -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сокращение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Автофигура 10"/>
          <p:cNvSpPr/>
          <p:nvPr/>
        </p:nvSpPr>
        <p:spPr>
          <a:xfrm>
            <a:off x="2071800" y="4000680"/>
            <a:ext cx="5605200" cy="12967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иастола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(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расслабление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</a:rPr>
              <a:t>Скорость движения крови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332000" y="1916280"/>
            <a:ext cx="655308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   аорте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           50 см/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 полых венах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25 см/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 капиллярах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0,05 мм/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39640" y="692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ровяное давление – это давление крови на стенки  кровеносных сосудов и камер сердца, возникающее в результате сокращения сердца, нагнетающего кровь в сосудистую систему, и сопротивления сосуд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Кровяно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давлени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аиболее высоко в аорте; по мере продвижения крови по сосудам оно постепенно уменьшается, достигая наименьшей величины в верхней и нижней полых вен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-Артериальный пульс – ритмическое колебание стенки артерии в период систолы желудочков сердц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Каждый удар пульса соответствует одному сердечному сокращен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Кровяное давлени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42920" y="1928880"/>
            <a:ext cx="820728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2428"/>
                </a:solidFill>
                <a:latin typeface="Times New Roman"/>
              </a:rPr>
              <a:t>Артериальное давление зависит от многих фактор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724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2428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72428"/>
                </a:solidFill>
                <a:latin typeface="Times New Roman"/>
              </a:rPr>
              <a:t>времени сут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724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2428"/>
                </a:solidFill>
                <a:latin typeface="Times New Roman"/>
              </a:rPr>
              <a:t>психологического состояния человека (при стрессе давление повышается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724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2428"/>
                </a:solidFill>
                <a:latin typeface="Times New Roman"/>
              </a:rPr>
              <a:t>приёма различных стимулирующих веществ (кофе, чай, амфетамины повышают давление) или медика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ульс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28760" y="1357200"/>
            <a:ext cx="82803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5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а частоту пульса влияет рост (обратная зависимость - чем выше рост, тем меньше как правило количество сердечных сокращений в минуту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л (у мужчин в среднем пульс несколько ниже, чем у женщин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атренированность организма (при подверженности организма постоянным активным физическим нагрузкам пульс в состоянии покоя уменьшае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ульс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928880" y="1484280"/>
            <a:ext cx="69292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Частота пульса зависит от возра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* Ребенок в лоне матери – 160 ударов в мину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* Ребенок после рождения –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* От рождения до года –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* От года до двух лет –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* От трех до семи лет –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* От 8 до 14 лет –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* Средний возраст –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* Преклонный возраст –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* При болезни –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* Время смерти – 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Определение пуль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411280" y="1413000"/>
            <a:ext cx="648180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Пульс проверяется тремя пальца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указательным, средним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безымян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2643120" y="3286080"/>
            <a:ext cx="5286600" cy="3357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14731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70689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Приборы для измерения пульс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1562040" cy="1655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1474920" cy="165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1908000" y="1413000"/>
            <a:ext cx="1573560" cy="157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4"/>
          <a:stretch/>
        </p:blipFill>
        <p:spPr>
          <a:xfrm>
            <a:off x="250920" y="4970520"/>
            <a:ext cx="1873080" cy="1546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5"/>
          <a:stretch/>
        </p:blipFill>
        <p:spPr>
          <a:xfrm>
            <a:off x="3635280" y="1413000"/>
            <a:ext cx="1635120" cy="1635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6"/>
          <a:stretch/>
        </p:blipFill>
        <p:spPr>
          <a:xfrm>
            <a:off x="7093080" y="1413000"/>
            <a:ext cx="1657080" cy="165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7"/>
          <a:stretch/>
        </p:blipFill>
        <p:spPr>
          <a:xfrm>
            <a:off x="6084720" y="3068640"/>
            <a:ext cx="2899080" cy="1808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"/>
          <p:cNvPicPr/>
          <p:nvPr/>
        </p:nvPicPr>
        <p:blipFill>
          <a:blip r:embed="rId8"/>
          <a:stretch/>
        </p:blipFill>
        <p:spPr>
          <a:xfrm>
            <a:off x="250920" y="3068640"/>
            <a:ext cx="1788840" cy="1789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9"/>
          <a:stretch/>
        </p:blipFill>
        <p:spPr>
          <a:xfrm>
            <a:off x="2268360" y="314172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10"/>
          <a:stretch/>
        </p:blipFill>
        <p:spPr>
          <a:xfrm>
            <a:off x="4284720" y="4724280"/>
            <a:ext cx="2448000" cy="1832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"/>
          <p:cNvPicPr/>
          <p:nvPr/>
        </p:nvPicPr>
        <p:blipFill>
          <a:blip r:embed="rId11"/>
          <a:stretch/>
        </p:blipFill>
        <p:spPr>
          <a:xfrm>
            <a:off x="4356000" y="3141720"/>
            <a:ext cx="1905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Функциональная сердечно-сосудистая проба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341000"/>
            <a:ext cx="482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СС в состоянии покоя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СС после физической нагрузки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мин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мин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мин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мин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79280" y="3789360"/>
            <a:ext cx="3745080" cy="24480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ЧСС увеличилась меньш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 на 1/3, - результаты хорош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больше – то пло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V="1">
            <a:off x="4643280" y="3429000"/>
            <a:ext cx="0" cy="244800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4643280" y="5877000"/>
            <a:ext cx="3313440" cy="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4932360" y="58053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292720" y="58053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5651640" y="58053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5940360" y="58053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6300720" y="58053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7020000" y="6021360"/>
            <a:ext cx="1297080" cy="432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ремя (м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3708360" y="3141720"/>
            <a:ext cx="720720" cy="503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788000" y="6021360"/>
            <a:ext cx="194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1    2   3   4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4067280" y="3716280"/>
            <a:ext cx="360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4572000" y="55897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4572000" y="5300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>
            <a:off x="4572000" y="508464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4572000" y="4869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>
            <a:off x="4572000" y="4653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>
            <a:off x="4572000" y="4437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>
            <a:off x="4572000" y="4221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4572000" y="4005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6"/>
          <p:cNvSpPr/>
          <p:nvPr/>
        </p:nvSpPr>
        <p:spPr>
          <a:xfrm>
            <a:off x="4572000" y="3789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4937040" y="285264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 динамики Ч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258920" y="1643040"/>
            <a:ext cx="70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2428"/>
                </a:solidFill>
                <a:latin typeface="Times New Roman"/>
              </a:rPr>
              <a:t>Формирование новых понятий:</a:t>
            </a:r>
            <a:r>
              <a:rPr b="1" i="1" lang="ru-RU" sz="3600" spc="-1" strike="noStrike">
                <a:solidFill>
                  <a:srgbClr val="072428"/>
                </a:solidFill>
                <a:latin typeface="Times New Roman"/>
              </a:rPr>
              <a:t>  лимфатические сосуды, кровеносные сосуды, кровяное давление, пуль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2428"/>
                </a:solidFill>
                <a:latin typeface="Times New Roman"/>
              </a:rPr>
              <a:t>Выяснить: </a:t>
            </a:r>
            <a:r>
              <a:rPr b="1" i="1" lang="ru-RU" sz="3600" spc="-1" strike="noStrike">
                <a:solidFill>
                  <a:srgbClr val="072428"/>
                </a:solidFill>
                <a:latin typeface="Times New Roman"/>
              </a:rPr>
              <a:t>причины движения лимфы и крови, перераспределение в организ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286000" y="928800"/>
            <a:ext cx="4537080" cy="1584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тери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вление кро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 flipH="1">
            <a:off x="2050560" y="2492280"/>
            <a:ext cx="1800360" cy="100800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5003640" y="2492280"/>
            <a:ext cx="1873440" cy="1008000"/>
          </a:xfrm>
          <a:prstGeom prst="line">
            <a:avLst/>
          </a:prstGeom>
          <a:ln w="38160">
            <a:solidFill>
              <a:srgbClr val="009d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3500280"/>
            <a:ext cx="4600440" cy="2286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х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ветствует систоличе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10 – 125 мм.рт.с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714920" y="3429000"/>
            <a:ext cx="4429080" cy="2357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н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ветствует диастоличе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60 – 80 мм.рт.с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Кровяное давлени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9" name="Picture 4" descr="07020405"/>
          <p:cNvPicPr/>
          <p:nvPr/>
        </p:nvPicPr>
        <p:blipFill>
          <a:blip r:embed="rId1"/>
          <a:stretch/>
        </p:blipFill>
        <p:spPr>
          <a:xfrm>
            <a:off x="714240" y="1571760"/>
            <a:ext cx="3816360" cy="4752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4786200" y="1285920"/>
            <a:ext cx="3816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Измерение 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кладываем манжету на плеч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гнетаем воздух в манж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держиваем фонендоскоп на арт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ыпускаем воздух из клап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Фиксируем появление и исчезновение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Нарушения артериального давле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42640" y="2276640"/>
            <a:ext cx="6643800" cy="32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663300"/>
                </a:solidFill>
                <a:latin typeface="Arial"/>
              </a:rPr>
              <a:t>Гипертония 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90000"/>
              </a:lnSpc>
              <a:spcBef>
                <a:spcPts val="1400"/>
              </a:spcBef>
              <a:buClr>
                <a:srgbClr val="0bd0d9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663300"/>
                </a:solidFill>
                <a:latin typeface="Arial"/>
              </a:rPr>
              <a:t>Гипотония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Распределение крови в организм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02920" y="1557360"/>
            <a:ext cx="6255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imes New Roman"/>
              </a:rPr>
              <a:t>1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imes New Roman"/>
              </a:rPr>
              <a:t>Печень – 10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imes New Roman"/>
              </a:rPr>
              <a:t>Мозг – 8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imes New Roman"/>
              </a:rPr>
              <a:t>Сосуды сердца – 4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imes New Roman"/>
              </a:rPr>
              <a:t>Легкие и другие органы –Мышцы – 2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imes New Roman"/>
              </a:rPr>
              <a:t>Почки - 2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Times New Roman"/>
              </a:rPr>
              <a:t>Кишечник –  13%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Опыт Анджело Моссо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6" name="Picture 3" descr="Вес мозга увеличивается"/>
          <p:cNvPicPr/>
          <p:nvPr/>
        </p:nvPicPr>
        <p:blipFill>
          <a:blip r:embed="rId1"/>
          <a:stretch/>
        </p:blipFill>
        <p:spPr>
          <a:xfrm>
            <a:off x="539640" y="1268280"/>
            <a:ext cx="82821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</a:rPr>
              <a:t>Подумайте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714240" y="1785960"/>
            <a:ext cx="813600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-Почему кровь движется медленнее, чем в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-Может ли кровь сменить направление дви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-Почему чем больше учишь, тем выше успеваем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-Можно ли по уровню АД поставить диагно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-Почему взволнованный человек не может уснуть?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1. Страница 102-10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2. Ответить на вопросы 1-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3. Творческое задание (на выбор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Исследовать АД у членов семьи. Сделать вывод о наличии или отсутствии наруше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Сообщение о профилактике нарушений АД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Источники информаци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826920" y="1342800"/>
            <a:ext cx="777744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Д.В.Колесов. Р.Д.Маш. И.Н. Беляев. Биология. Человек. 8.- М.,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Воронин Л.Г., Маш Р.Д. Методика проведения опытов и наблюдений по анатомии, физиологии и гигиене человека. М., 198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Гальперин С.И. Физиология человека и животных. М., 197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Ермолаев Ю.А. Возрастная физиология. М., 198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Никишов А.И., Рохлов В.С., Человек и его здоровье. Дидактический материал. М., 2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http://www.pressfoto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cc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Arial"/>
              </a:rPr>
              <a:t>http://www.8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роверка знаний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1285560"/>
            <a:ext cx="88930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Кровь, межклеточное вещество и лимфа образуют - …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Жидкая соединительная ткань - …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Растворенный в плазме белок, необходимый для свертывания крови, - …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Плазма крови без фибриногена называется - …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Безъядерные форменные элементы крови, содержащие гемоглобин,-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Состояние организма, при котором в крови уменьшается количество эритроцитов либо содержание гемоглобина в них, - …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Человек, дающий свою кровь для переливания, - …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Защитная реакция организма, например, против инфекций - …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Способность организмов защищать себя от болезнетворных микробов и вирусов - 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Культура ослабленных или убитых микробов, вводимых в организм человека, - …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Вещества, вырабатываемые лимфоцитами при контакте с чужеродным организмом или белком, - …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К органам кровообращения относятся - …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Сосуды, по которым кровь течет от сердца - …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Мельчайшие кровеносные сосуды, в которых происходит  обмен веществ между кровью и тканями - …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2303e"/>
                </a:solidFill>
                <a:latin typeface="Arial"/>
              </a:rPr>
              <a:t>Путь крови от левого желудочка до правого предсердия - 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-500040" y="1000080"/>
            <a:ext cx="13068360" cy="36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2428"/>
                </a:solidFill>
                <a:latin typeface="Times New Roman"/>
              </a:rPr>
              <a:t>Известно, что за су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2428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72428"/>
                </a:solidFill>
                <a:latin typeface="Times New Roman"/>
              </a:rPr>
              <a:t>у человека заменя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2428"/>
                </a:solidFill>
                <a:latin typeface="Times New Roman"/>
              </a:rPr>
              <a:t>около 25000 милли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2428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72428"/>
                </a:solidFill>
                <a:latin typeface="Times New Roman"/>
              </a:rPr>
              <a:t>кров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2428"/>
                </a:solidFill>
                <a:latin typeface="Times New Roman"/>
              </a:rPr>
              <a:t>Сколько кров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2428"/>
                </a:solidFill>
                <a:latin typeface="Times New Roman"/>
              </a:rPr>
              <a:t>образуется за 70 лет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s://pptcloud.nyc3.digitaloceanspaces.com/slides/pics/001/263/926/original/Slide5.jpg?1480242884"/>
          <p:cNvPicPr/>
          <p:nvPr/>
        </p:nvPicPr>
        <p:blipFill>
          <a:blip r:embed="rId2"/>
          <a:stretch/>
        </p:blipFill>
        <p:spPr>
          <a:xfrm>
            <a:off x="428760" y="285840"/>
            <a:ext cx="8286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2d050"/>
                </a:solidFill>
                <a:latin typeface="Calibri"/>
              </a:rPr>
              <a:t>лимфа</a:t>
            </a:r>
            <a:endParaRPr b="0" lang="en-US" sz="8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8" name="Содержимое 2" descr=""/>
          <p:cNvPicPr/>
          <p:nvPr/>
        </p:nvPicPr>
        <p:blipFill>
          <a:blip r:embed="rId1"/>
          <a:stretch/>
        </p:blipFill>
        <p:spPr>
          <a:xfrm>
            <a:off x="450720" y="1822320"/>
            <a:ext cx="8242560" cy="45118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"/>
          <p:cNvSpPr/>
          <p:nvPr/>
        </p:nvSpPr>
        <p:spPr>
          <a:xfrm>
            <a:off x="857160" y="3714840"/>
            <a:ext cx="64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684e"/>
                </a:solidFill>
                <a:latin typeface="Arial"/>
              </a:rPr>
              <a:t>Лимфа - представляет с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684e"/>
                </a:solidFill>
                <a:latin typeface="Arial"/>
              </a:rPr>
              <a:t>прозрачную бесцветную жидко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684e"/>
                </a:solidFill>
                <a:latin typeface="Arial"/>
              </a:rPr>
              <a:t>в которой нет эритроцит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684e"/>
                </a:solidFill>
                <a:latin typeface="Arial"/>
              </a:rPr>
              <a:t>тромбоцитов, но м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684e"/>
                </a:solidFill>
                <a:latin typeface="Arial"/>
              </a:rPr>
              <a:t>лимфоци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Лимфатическая система В лимфатическую систему входят: лимфатические капилляры, сосуды, узлы, стволы и протоки.Функции лимфатической системы:а) поддерживает постоянный объем крови;б)возвращает в кровь белки и другие питательные вещества;в) защищает о…"/>
          <p:cNvPicPr/>
          <p:nvPr/>
        </p:nvPicPr>
        <p:blipFill>
          <a:blip r:embed="rId2"/>
          <a:stretch/>
        </p:blipFill>
        <p:spPr>
          <a:xfrm>
            <a:off x="142920" y="214200"/>
            <a:ext cx="86439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Движение лимфыЛимфаЛимфатические капиллярыЛимфатические сосудыЛимфатические узлыЛимфатические протокиВ верхнюю полую вену"/>
          <p:cNvPicPr/>
          <p:nvPr/>
        </p:nvPicPr>
        <p:blipFill>
          <a:blip r:embed="rId2"/>
          <a:stretch/>
        </p:blipFill>
        <p:spPr>
          <a:xfrm>
            <a:off x="214200" y="500040"/>
            <a:ext cx="850104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s://pptcloud.nyc3.digitaloceanspaces.com/html5ppt/93996/data/pres/s8s2.png"/>
          <p:cNvPicPr/>
          <p:nvPr/>
        </p:nvPicPr>
        <p:blipFill>
          <a:blip r:embed="rId2"/>
          <a:stretch/>
        </p:blipFill>
        <p:spPr>
          <a:xfrm>
            <a:off x="714240" y="714240"/>
            <a:ext cx="66484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4:51:58Z</dcterms:created>
  <dc:creator>хосе</dc:creator>
  <dc:description>http://aida.ucoz.ru</dc:description>
  <dc:language>en-US</dc:language>
  <cp:lastModifiedBy>Антон</cp:lastModifiedBy>
  <dcterms:modified xsi:type="dcterms:W3CDTF">2017-11-27T20:29:02Z</dcterms:modified>
  <cp:revision>24</cp:revision>
  <dc:subject/>
  <dc:title>Слайд 1</dc:title>
</cp:coreProperties>
</file>