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26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gif" ContentType="image/gif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286-3CBC-4519-8376-57F29A4F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749-611E-4E89-A660-58FF6A5B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E0B-43E3-4BC9-BABA-D0F9BD06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D3B-52C1-429D-84C5-2592A663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DDF-EEDB-41AD-B2BA-68B3F7B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6907-72B9-42DD-9632-61FC397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9375-C9FB-42E3-9EFE-90548AC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769-826A-4CCC-9EB8-B2154CC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012-9020-414C-9C70-9A90A77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F42-C4DE-4413-ADEB-1496971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330-9574-4C67-8968-6272F2C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318-591A-4F76-AE3C-DED138C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5420-50BF-4F0C-905D-6AE2BDD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9BAA-3B0E-483C-A9B3-0F38E05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985-DE31-480A-BF51-7F10DA9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809C-F545-4B7C-9BBB-E5E794AE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60EF-3276-4525-A276-15465381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4D0A-BEBC-4BE0-99F1-FF667934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E2B0-3156-48DB-B91D-C1BBB6F9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59DF-F168-49C1-8ED6-283F2B86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15E5-72F8-416A-B550-EF41E66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163D-20FB-4F3C-8EC0-2AC225D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8CD-6FE7-437B-A508-DFFA6BB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48DC-131E-494C-A927-8167F46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8A53-EFBD-48CE-86EB-2E2E31C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8087-72EC-4441-A891-70209121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857C-5337-4B3F-BABE-5EF7F44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C27F-11C7-47EB-AC6A-F5412C7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2074-B517-4119-87DB-E1FB541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A3FA-028D-472F-81B2-9435314E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17D6-030C-47DC-A383-D6F2B1E8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E251-FA20-478B-88CE-F70ED21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45D8-8A3D-4D8E-A29D-7D2D3BF8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216-15DF-446D-B5B0-26EA4675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69C8-ABBD-4B6D-B0FB-0B56D17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627B-1598-4EA2-BE8C-21E5AE4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FEC9-906B-4509-B695-ADF02E5B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EDE6-71DD-4EF1-B73E-2932EFF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D821-C8E3-495A-AC39-18E95A8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83BF-290F-42C1-A63B-E357CF8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77FF-BF9D-46EE-8D9E-A6A60E12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D549-E8FB-4C6B-BE24-9064124F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2C3B-FC58-4B71-9790-6874FE93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AD30-CFF6-45E5-88D6-391E3069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A7C-EEE6-422A-A423-8238143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7E45-B4B0-47B6-946A-D993311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C366-9E24-4ABA-B41B-386C408B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55D3-68C2-4091-A3DD-11A0EB1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C52B-95C6-4959-B94A-4C1AE4B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954F-DA6A-4334-A2D3-38FB3C8E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8B0D-A1D7-43D3-9EC1-433BDB9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C827-15B6-4F67-8580-0D4F447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5B9E-4912-413B-8B78-021919E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09AB-0543-4987-AC4E-5A0AF59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350F-009A-4E76-BE4E-13CBF81E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AF5-7D01-445E-AB52-48B25E7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A676-EE08-4FC2-BF67-46CD993A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278-DAAC-4D4B-853F-62C0CF4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234-D5C9-48CB-92F9-6D9EC61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5D7-7171-4E81-AC06-A4416CF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82B3-C773-4D65-949A-69C7724DD5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8343-7389-41DE-8461-24382FE941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F46A-9B9B-4E73-973C-E58C4F02F40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0FB-B557-4C8E-9BB8-1DE3C166A1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CC2-9C66-4EE3-9B86-01A47B8845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Текст 3"/>
          <p:cNvSpPr/>
          <p:nvPr/>
        </p:nvSpPr>
        <p:spPr>
          <a:xfrm>
            <a:off x="1547640" y="6237360"/>
            <a:ext cx="64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 опыта работы  учителя начальных классов МОУ ЗСОШ №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йко Ирины Василье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8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16640" cy="1414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d:\Рабочий стол\Мои документы\фото\ШКОЛА\Новая папка (3)\DSC_0175.JPG"/>
          <p:cNvPicPr/>
          <p:nvPr/>
        </p:nvPicPr>
        <p:blipFill>
          <a:blip r:embed="rId2"/>
          <a:stretch/>
        </p:blipFill>
        <p:spPr>
          <a:xfrm>
            <a:off x="1547640" y="1773360"/>
            <a:ext cx="5942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ловарно-орфографическая рабо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 слова по определённому код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Прямоугольник 4" descr=""/>
          <p:cNvPicPr/>
          <p:nvPr/>
        </p:nvPicPr>
        <p:blipFill>
          <a:blip r:embed="rId1"/>
          <a:stretch/>
        </p:blipFill>
        <p:spPr>
          <a:xfrm>
            <a:off x="-158760" y="969840"/>
            <a:ext cx="9309240" cy="1249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J:\огород.jpeg"/>
          <p:cNvPicPr/>
          <p:nvPr/>
        </p:nvPicPr>
        <p:blipFill>
          <a:blip r:embed="rId2"/>
          <a:stretch/>
        </p:blipFill>
        <p:spPr>
          <a:xfrm>
            <a:off x="457200" y="3962520"/>
            <a:ext cx="3429000" cy="2133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6"/>
          <p:cNvSpPr/>
          <p:nvPr/>
        </p:nvSpPr>
        <p:spPr>
          <a:xfrm>
            <a:off x="4419720" y="4648320"/>
            <a:ext cx="2971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"/>
          <p:cNvSpPr/>
          <p:nvPr/>
        </p:nvSpPr>
        <p:spPr>
          <a:xfrm>
            <a:off x="609480" y="31050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енно уберите глухие согласны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е слово получи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-323640"/>
            <a:ext cx="6870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3771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Тема: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МЯГКИЙ ЗНАК НА КОНЦЕ СЛО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оварно-орфографическая рабо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Unicode MS"/>
              </a:rPr>
              <a:t>Задани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сли расположите  данные прямоугольники в порядке увеличения количества точек в каждом из них, получится новое словарное слов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твет: медвед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0" y="620640"/>
            <a:ext cx="37720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Тема: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ОВА, КОТОРЫЕ ОБОЗНАЧАЮТ ПРЕДМЕТ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оварно-орфографическая рабо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Unicode MS"/>
              </a:rPr>
              <a:t>Задани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-     Если вы внимательно проследите за движением стрелки, то прочитаете слово. Какое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твет: молок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3" descr=""/>
          <p:cNvPicPr/>
          <p:nvPr/>
        </p:nvPicPr>
        <p:blipFill>
          <a:blip r:embed="rId1"/>
          <a:stretch/>
        </p:blipFill>
        <p:spPr>
          <a:xfrm>
            <a:off x="1908000" y="3789360"/>
            <a:ext cx="2686320" cy="190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1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98116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3" descr="bearan"/>
          <p:cNvPicPr/>
          <p:nvPr/>
        </p:nvPicPr>
        <p:blipFill>
          <a:blip r:embed="rId3"/>
          <a:stretch/>
        </p:blipFill>
        <p:spPr>
          <a:xfrm>
            <a:off x="4716360" y="5445000"/>
            <a:ext cx="138132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"/>
                            </p:stCondLst>
                            <p:childTnLst>
                              <p:par>
                                <p:cTn id="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000" y="-36000"/>
            <a:ext cx="763092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9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Тема: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ЗАГЛАВНАЯ БУКВА В КЛИЧКАХ ЖИВОТНЫ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ловарно-орфографическая работ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 Unicode MS"/>
              </a:rPr>
              <a:t>Задани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- Постарайтесь узнать в этой записи новые два слова, с которыми мы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познакомимся на урок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Ответы: корова, собак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WordArt 39"/>
          <p:cNvSpPr txBox="1"/>
          <p:nvPr/>
        </p:nvSpPr>
        <p:spPr>
          <a:xfrm>
            <a:off x="1763640" y="2781360"/>
            <a:ext cx="5829480" cy="93492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СРФХКОРОВАЖДМАСИНЧАППВХЖИСОБАКАХ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011720" cy="89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ff"/>
                </a:solidFill>
                <a:latin typeface="Calibri"/>
              </a:rPr>
              <a:t>ПОИСК ДЕВЯТОГ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Picture 3" descr="Определение недостающей фигуры. Задание 1."/>
          <p:cNvPicPr/>
          <p:nvPr/>
        </p:nvPicPr>
        <p:blipFill>
          <a:blip r:embed="rId1"/>
          <a:stretch/>
        </p:blipFill>
        <p:spPr>
          <a:xfrm>
            <a:off x="324000" y="1341360"/>
            <a:ext cx="2955600" cy="496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Определение недостающей фигуры. Задание 2."/>
          <p:cNvPicPr/>
          <p:nvPr/>
        </p:nvPicPr>
        <p:blipFill>
          <a:blip r:embed="rId2"/>
          <a:stretch/>
        </p:blipFill>
        <p:spPr>
          <a:xfrm>
            <a:off x="4140360" y="1413000"/>
            <a:ext cx="3024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1835280" y="376200"/>
            <a:ext cx="55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нимательный  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11280" y="1125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анном квадрате расставить числа  2, 2, 3, 3, 3 так, чтоб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ложении чисел по строчкам, по столбикам и с угла  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гол всегда получалось число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59"/>
          <p:cNvGrpSpPr/>
          <p:nvPr/>
        </p:nvGrpSpPr>
        <p:grpSpPr>
          <a:xfrm>
            <a:off x="468360" y="2565360"/>
            <a:ext cx="2131920" cy="2131920"/>
            <a:chOff x="468360" y="2565360"/>
            <a:chExt cx="2131920" cy="2131920"/>
          </a:xfrm>
        </p:grpSpPr>
        <p:sp>
          <p:nvSpPr>
            <p:cNvPr id="283" name="Прямоугольник 8"/>
            <p:cNvSpPr/>
            <p:nvPr/>
          </p:nvSpPr>
          <p:spPr>
            <a:xfrm>
              <a:off x="1182600" y="3279600"/>
              <a:ext cx="714240" cy="714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Группа 48"/>
            <p:cNvGrpSpPr/>
            <p:nvPr/>
          </p:nvGrpSpPr>
          <p:grpSpPr>
            <a:xfrm>
              <a:off x="468360" y="2565360"/>
              <a:ext cx="2131920" cy="2131920"/>
              <a:chOff x="468360" y="2565360"/>
              <a:chExt cx="2131920" cy="2131920"/>
            </a:xfrm>
          </p:grpSpPr>
          <p:sp>
            <p:nvSpPr>
              <p:cNvPr id="285" name="Прямоугольник 4"/>
              <p:cNvSpPr/>
              <p:nvPr/>
            </p:nvSpPr>
            <p:spPr>
              <a:xfrm>
                <a:off x="468360" y="3983040"/>
                <a:ext cx="7142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Прямоугольник 5"/>
              <p:cNvSpPr/>
              <p:nvPr/>
            </p:nvSpPr>
            <p:spPr>
              <a:xfrm>
                <a:off x="468360" y="3273120"/>
                <a:ext cx="714240" cy="716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Прямоугольник 6"/>
              <p:cNvSpPr/>
              <p:nvPr/>
            </p:nvSpPr>
            <p:spPr>
              <a:xfrm>
                <a:off x="468360" y="2565360"/>
                <a:ext cx="7142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Прямоугольник 7"/>
              <p:cNvSpPr/>
              <p:nvPr/>
            </p:nvSpPr>
            <p:spPr>
              <a:xfrm>
                <a:off x="1176120" y="3983040"/>
                <a:ext cx="7160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Прямоугольник 9"/>
              <p:cNvSpPr/>
              <p:nvPr/>
            </p:nvSpPr>
            <p:spPr>
              <a:xfrm>
                <a:off x="1176120" y="2565360"/>
                <a:ext cx="7160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Прямоугольник 10"/>
              <p:cNvSpPr/>
              <p:nvPr/>
            </p:nvSpPr>
            <p:spPr>
              <a:xfrm>
                <a:off x="1886040" y="3983040"/>
                <a:ext cx="7142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Прямоугольник 11"/>
              <p:cNvSpPr/>
              <p:nvPr/>
            </p:nvSpPr>
            <p:spPr>
              <a:xfrm>
                <a:off x="1886040" y="3273120"/>
                <a:ext cx="714240" cy="716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Прямоугольник 12"/>
              <p:cNvSpPr/>
              <p:nvPr/>
            </p:nvSpPr>
            <p:spPr>
              <a:xfrm>
                <a:off x="1886040" y="2565360"/>
                <a:ext cx="714240" cy="714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Группа 28"/>
          <p:cNvGrpSpPr/>
          <p:nvPr/>
        </p:nvGrpSpPr>
        <p:grpSpPr>
          <a:xfrm>
            <a:off x="4284720" y="2492280"/>
            <a:ext cx="3672000" cy="2665440"/>
            <a:chOff x="4284720" y="2492280"/>
            <a:chExt cx="3672000" cy="2665440"/>
          </a:xfrm>
        </p:grpSpPr>
        <p:grpSp>
          <p:nvGrpSpPr>
            <p:cNvPr id="294" name="Группа 66"/>
            <p:cNvGrpSpPr/>
            <p:nvPr/>
          </p:nvGrpSpPr>
          <p:grpSpPr>
            <a:xfrm>
              <a:off x="4284720" y="2492280"/>
              <a:ext cx="3672000" cy="2665440"/>
              <a:chOff x="4284720" y="2492280"/>
              <a:chExt cx="3672000" cy="2665440"/>
            </a:xfrm>
          </p:grpSpPr>
          <p:grpSp>
            <p:nvGrpSpPr>
              <p:cNvPr id="295" name="Группа 65"/>
              <p:cNvGrpSpPr/>
              <p:nvPr/>
            </p:nvGrpSpPr>
            <p:grpSpPr>
              <a:xfrm>
                <a:off x="4284720" y="2492280"/>
                <a:ext cx="3672000" cy="2665440"/>
                <a:chOff x="4284720" y="2492280"/>
                <a:chExt cx="3672000" cy="2665440"/>
              </a:xfrm>
            </p:grpSpPr>
            <p:sp>
              <p:nvSpPr>
                <p:cNvPr id="296" name="Прямоугольник 50"/>
                <p:cNvSpPr/>
                <p:nvPr/>
              </p:nvSpPr>
              <p:spPr>
                <a:xfrm>
                  <a:off x="4284720" y="4265640"/>
                  <a:ext cx="123012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d0d0d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Прямоугольник 51"/>
                <p:cNvSpPr/>
                <p:nvPr/>
              </p:nvSpPr>
              <p:spPr>
                <a:xfrm>
                  <a:off x="4284720" y="3377880"/>
                  <a:ext cx="1230120" cy="893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Прямоугольник 52"/>
                <p:cNvSpPr/>
                <p:nvPr/>
              </p:nvSpPr>
              <p:spPr>
                <a:xfrm>
                  <a:off x="4284720" y="2492280"/>
                  <a:ext cx="123012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Прямоугольник 53"/>
                <p:cNvSpPr/>
                <p:nvPr/>
              </p:nvSpPr>
              <p:spPr>
                <a:xfrm>
                  <a:off x="5504040" y="4265640"/>
                  <a:ext cx="123336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d0d0d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оугольник 54"/>
                <p:cNvSpPr/>
                <p:nvPr/>
              </p:nvSpPr>
              <p:spPr>
                <a:xfrm>
                  <a:off x="5504040" y="2492280"/>
                  <a:ext cx="123336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оугольник 55"/>
                <p:cNvSpPr/>
                <p:nvPr/>
              </p:nvSpPr>
              <p:spPr>
                <a:xfrm>
                  <a:off x="6726600" y="4265640"/>
                  <a:ext cx="123012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оугольник 56"/>
                <p:cNvSpPr/>
                <p:nvPr/>
              </p:nvSpPr>
              <p:spPr>
                <a:xfrm>
                  <a:off x="6726600" y="3377880"/>
                  <a:ext cx="1230120" cy="893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d0d0d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Прямоугольник 57"/>
                <p:cNvSpPr/>
                <p:nvPr/>
              </p:nvSpPr>
              <p:spPr>
                <a:xfrm>
                  <a:off x="6726600" y="2492280"/>
                  <a:ext cx="1230120" cy="892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d0d0d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Прямоугольник 58"/>
              <p:cNvSpPr/>
              <p:nvPr/>
            </p:nvSpPr>
            <p:spPr>
              <a:xfrm>
                <a:off x="5504040" y="3377880"/>
                <a:ext cx="1222200" cy="764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b53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Прямоугольник 63"/>
            <p:cNvSpPr/>
            <p:nvPr/>
          </p:nvSpPr>
          <p:spPr>
            <a:xfrm>
              <a:off x="4284720" y="24922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AutoShape 33"/>
          <p:cNvSpPr/>
          <p:nvPr/>
        </p:nvSpPr>
        <p:spPr>
          <a:xfrm>
            <a:off x="2916360" y="3284640"/>
            <a:ext cx="1224000" cy="630000"/>
          </a:xfrm>
          <a:prstGeom prst="rightArrow">
            <a:avLst>
              <a:gd name="adj1" fmla="val 50000"/>
              <a:gd name="adj2" fmla="val 4857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404640"/>
            <a:ext cx="74768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Поиск  закономерностей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7045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1)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0, 2, 4, 6, 8…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0" y="15573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4, 7, 10,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291636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3995640" y="907920"/>
            <a:ext cx="45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4, 7, 11,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7020000" y="836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67280" y="170028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8, 12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6715080" y="15573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25"/>
          <p:cNvGrpSpPr/>
          <p:nvPr/>
        </p:nvGrpSpPr>
        <p:grpSpPr>
          <a:xfrm>
            <a:off x="179280" y="2924280"/>
            <a:ext cx="1857600" cy="1285920"/>
            <a:chOff x="179280" y="2924280"/>
            <a:chExt cx="1857600" cy="1285920"/>
          </a:xfrm>
        </p:grpSpPr>
        <p:sp>
          <p:nvSpPr>
            <p:cNvPr id="316" name="Овал 12"/>
            <p:cNvSpPr/>
            <p:nvPr/>
          </p:nvSpPr>
          <p:spPr>
            <a:xfrm>
              <a:off x="179280" y="292428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Овал 17"/>
            <p:cNvSpPr/>
            <p:nvPr/>
          </p:nvSpPr>
          <p:spPr>
            <a:xfrm>
              <a:off x="1108080" y="299556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Овал 18"/>
            <p:cNvSpPr/>
            <p:nvPr/>
          </p:nvSpPr>
          <p:spPr>
            <a:xfrm>
              <a:off x="608040" y="342432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26"/>
          <p:cNvGrpSpPr/>
          <p:nvPr/>
        </p:nvGrpSpPr>
        <p:grpSpPr>
          <a:xfrm>
            <a:off x="1908000" y="3933720"/>
            <a:ext cx="1857600" cy="1285920"/>
            <a:chOff x="1908000" y="3933720"/>
            <a:chExt cx="1857600" cy="1285920"/>
          </a:xfrm>
        </p:grpSpPr>
        <p:sp>
          <p:nvSpPr>
            <p:cNvPr id="320" name="Овал 19"/>
            <p:cNvSpPr/>
            <p:nvPr/>
          </p:nvSpPr>
          <p:spPr>
            <a:xfrm>
              <a:off x="1908000" y="393372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20"/>
            <p:cNvSpPr/>
            <p:nvPr/>
          </p:nvSpPr>
          <p:spPr>
            <a:xfrm>
              <a:off x="2836800" y="393372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Овал 21"/>
            <p:cNvSpPr/>
            <p:nvPr/>
          </p:nvSpPr>
          <p:spPr>
            <a:xfrm>
              <a:off x="2408040" y="443376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7"/>
          <p:cNvGrpSpPr/>
          <p:nvPr/>
        </p:nvGrpSpPr>
        <p:grpSpPr>
          <a:xfrm>
            <a:off x="3708360" y="2997360"/>
            <a:ext cx="1857240" cy="1285560"/>
            <a:chOff x="3708360" y="2997360"/>
            <a:chExt cx="1857240" cy="1285560"/>
          </a:xfrm>
        </p:grpSpPr>
        <p:sp>
          <p:nvSpPr>
            <p:cNvPr id="324" name="Овал 22"/>
            <p:cNvSpPr/>
            <p:nvPr/>
          </p:nvSpPr>
          <p:spPr>
            <a:xfrm>
              <a:off x="3708360" y="2997360"/>
              <a:ext cx="928800" cy="785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Овал 23"/>
            <p:cNvSpPr/>
            <p:nvPr/>
          </p:nvSpPr>
          <p:spPr>
            <a:xfrm>
              <a:off x="4637160" y="2997360"/>
              <a:ext cx="928440" cy="785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Овал 24"/>
            <p:cNvSpPr/>
            <p:nvPr/>
          </p:nvSpPr>
          <p:spPr>
            <a:xfrm>
              <a:off x="4208400" y="3497400"/>
              <a:ext cx="928440" cy="785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29"/>
          <p:cNvGrpSpPr/>
          <p:nvPr/>
        </p:nvGrpSpPr>
        <p:grpSpPr>
          <a:xfrm>
            <a:off x="5651640" y="3573360"/>
            <a:ext cx="1857240" cy="1285920"/>
            <a:chOff x="5651640" y="3573360"/>
            <a:chExt cx="1857240" cy="1285920"/>
          </a:xfrm>
        </p:grpSpPr>
        <p:sp>
          <p:nvSpPr>
            <p:cNvPr id="328" name="Овал 13"/>
            <p:cNvSpPr/>
            <p:nvPr/>
          </p:nvSpPr>
          <p:spPr>
            <a:xfrm>
              <a:off x="5651640" y="357336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Овал 15"/>
            <p:cNvSpPr/>
            <p:nvPr/>
          </p:nvSpPr>
          <p:spPr>
            <a:xfrm>
              <a:off x="6580440" y="3573360"/>
              <a:ext cx="92844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Овал 28"/>
            <p:cNvSpPr/>
            <p:nvPr/>
          </p:nvSpPr>
          <p:spPr>
            <a:xfrm>
              <a:off x="6080040" y="407340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Группа 33"/>
          <p:cNvGrpSpPr/>
          <p:nvPr/>
        </p:nvGrpSpPr>
        <p:grpSpPr>
          <a:xfrm>
            <a:off x="5580000" y="5229360"/>
            <a:ext cx="1857600" cy="1411200"/>
            <a:chOff x="5580000" y="5229360"/>
            <a:chExt cx="1857600" cy="1411200"/>
          </a:xfrm>
        </p:grpSpPr>
        <p:sp>
          <p:nvSpPr>
            <p:cNvPr id="332" name="Овал 30"/>
            <p:cNvSpPr/>
            <p:nvPr/>
          </p:nvSpPr>
          <p:spPr>
            <a:xfrm>
              <a:off x="5580000" y="522936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Овал 31"/>
            <p:cNvSpPr/>
            <p:nvPr/>
          </p:nvSpPr>
          <p:spPr>
            <a:xfrm>
              <a:off x="6508800" y="5229360"/>
              <a:ext cx="928800" cy="7858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Овал 32"/>
            <p:cNvSpPr/>
            <p:nvPr/>
          </p:nvSpPr>
          <p:spPr>
            <a:xfrm>
              <a:off x="6008400" y="5818320"/>
              <a:ext cx="928800" cy="8222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AutoShape 31"/>
          <p:cNvSpPr/>
          <p:nvPr/>
        </p:nvSpPr>
        <p:spPr>
          <a:xfrm>
            <a:off x="6300720" y="4365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00486 -0.41343 E">
                                      <p:cBhvr>
                                        <p:cTn id="2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 на логи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7" name="Рисунок 4" descr="Рисунок26.jpg"/>
          <p:cNvPicPr/>
          <p:nvPr/>
        </p:nvPicPr>
        <p:blipFill>
          <a:blip r:embed="rId1"/>
          <a:stretch/>
        </p:blipFill>
        <p:spPr>
          <a:xfrm>
            <a:off x="1763640" y="1197000"/>
            <a:ext cx="1459080" cy="2643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1257480" cy="20714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1714680" y="3857760"/>
            <a:ext cx="150012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3429000" y="3857760"/>
            <a:ext cx="1500120" cy="500040"/>
          </a:xfrm>
          <a:prstGeom prst="rect">
            <a:avLst/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1"/>
          <p:cNvSpPr/>
          <p:nvPr/>
        </p:nvSpPr>
        <p:spPr>
          <a:xfrm>
            <a:off x="5148360" y="3933720"/>
            <a:ext cx="150012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5" descr="Рисунок3.jpg"/>
          <p:cNvPicPr/>
          <p:nvPr/>
        </p:nvPicPr>
        <p:blipFill>
          <a:blip r:embed="rId3"/>
          <a:stretch/>
        </p:blipFill>
        <p:spPr>
          <a:xfrm>
            <a:off x="4932360" y="549360"/>
            <a:ext cx="2104920" cy="34480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1"/>
          <p:cNvSpPr/>
          <p:nvPr/>
        </p:nvSpPr>
        <p:spPr>
          <a:xfrm>
            <a:off x="684360" y="479736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-были три девочки: Таня, Лена и Даш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я выше Лены, Лена выше Д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о из них как зову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Найди животных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жно найти в них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вания живот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ЕЛЬ + ГАЗ              ГАЗЕЛ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684e"/>
                </a:solidFill>
                <a:latin typeface="Constantia"/>
              </a:rPr>
              <a:t>     </a:t>
            </a:r>
            <a:r>
              <a:rPr b="0" lang="ru-RU" sz="3600" spc="-1" strike="noStrike">
                <a:solidFill>
                  <a:srgbClr val="08684e"/>
                </a:solidFill>
                <a:latin typeface="Constantia"/>
              </a:rPr>
              <a:t>ЛИРА + ГОЛ             ГОРИЛЛ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b5395"/>
                </a:solidFill>
                <a:latin typeface="Constantia"/>
              </a:rPr>
              <a:t>ЛИПА + НОТА             АНТИЛОП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«Лесные жалобы»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адать, от  кого поступила жалоб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х, и не любят меня люди. Голос им не нравится, и глаза у меня большие. Считают, что я беду приношу. Все это неправда. Польза от меня большая. Урожай я сохраняю. Кто я? (Со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9b74"/>
                </a:solidFill>
                <a:latin typeface="Constantia"/>
              </a:rPr>
              <a:t>А меня все боятся, поэтому столько небылиц про меня рассказывают . Не нравится им, что я темноту люблю и отдыхаю вниз головой. Не похожа я ни на птицу, ни на зверя, но я друг человеку, а не враг. Кто я? (Летучая мышь)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734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d:\Рабочий стол\1665764.jpg"/>
          <p:cNvPicPr/>
          <p:nvPr/>
        </p:nvPicPr>
        <p:blipFill>
          <a:blip r:embed="rId2"/>
          <a:stretch/>
        </p:blipFill>
        <p:spPr>
          <a:xfrm>
            <a:off x="5537160" y="0"/>
            <a:ext cx="3606840" cy="4941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d:\Рабочий стол\1665751.jpg"/>
          <p:cNvPicPr/>
          <p:nvPr/>
        </p:nvPicPr>
        <p:blipFill>
          <a:blip r:embed="rId3"/>
          <a:stretch/>
        </p:blipFill>
        <p:spPr>
          <a:xfrm>
            <a:off x="1116000" y="0"/>
            <a:ext cx="3554280" cy="486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d:\Рабочий стол\1665746.jpg"/>
          <p:cNvPicPr/>
          <p:nvPr/>
        </p:nvPicPr>
        <p:blipFill>
          <a:blip r:embed="rId4"/>
          <a:stretch/>
        </p:blipFill>
        <p:spPr>
          <a:xfrm>
            <a:off x="0" y="2421000"/>
            <a:ext cx="3002040" cy="3971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d:\Рабочий стол\1665761.jpg"/>
          <p:cNvPicPr/>
          <p:nvPr/>
        </p:nvPicPr>
        <p:blipFill>
          <a:blip r:embed="rId5"/>
          <a:stretch/>
        </p:blipFill>
        <p:spPr>
          <a:xfrm>
            <a:off x="3924360" y="2781360"/>
            <a:ext cx="277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57120" y="9140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дна из актуальных проблем на современном этап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учения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ктивизация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звитие  самостоятельности, активности, инициативности, творческого подхода к делу –  это требования самой жизни, определяющие во многом то направление, в котором  следует совершенствовать учебно-воспитательный процесс. Поиски путей развития активизации познавательной деятельности у младших школьников, развитие их познавательных способностей и самостоятельности – задача, которую призваны решать многие педагоги, психологи, методисты и учите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ою работу я стараюсь строить с опорой на 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ринципы личностно-ориентированного развивающего обучен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обращение к субъектному опыту учащихс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опора на индивидуальные возможности дете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стремление к созданию ситуации успеха для каждого учени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самореализация школьников в учебных отношениях (в качестве консультантов урока и т. д.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рефлексия деятельности и поведения на урок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эмпатия, соучастие в проблемах школьни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  знание личностных особенностей ребе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Таким образом, в основе моей работы лежат идеи педагогики сотрудничества, важнейшее место в которой занимают отношения “учитель - ученик”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логом успешного обучения становится принцип личной значимости с ориентировкой на творческую деятельность. Смысл заключается в том, что мои ребятишки выполняют ту работу, получают те знания, которые нужны им в нашей тяжёлой жизни. Ученику очень важно чувство - "я сам решил!" А еще важнее - поддержка учителя в этих первых самостоятельных поисках исти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71680" y="571320"/>
            <a:ext cx="8286480" cy="60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определению Л.Г. Вятки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ознавательная самостоятельность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свойство психики характеризуется внутренней потребностью человека в знаниях, умением их приобретать из различных источников и творчески использовать на практике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амостоятельность проявляется в стремлении и умении самостоятельно мыслить, способности без посторонней помощи приобретать информацию из разных источников. Познавательная самостоятельность предполагает един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ллектуальных и волевых характеристик личности, позволяющее овладевать общими и специальными знаниями, умениями и навыками, а также способами приобретения зна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57120" y="500040"/>
            <a:ext cx="850104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Познавательная самостоятельность как черта личности предполагае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владение целым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мплексом познавательных процессов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уществление планирования своей самостоятельной работы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иск ответа на все непонятное, неясное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циональная организация своего рабочего места, обеспечивая необходимые условия для эффективного умственного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хождение материалов для доказательства определенных положени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тавление плана, тезисов прочитанного, оформление выписок, других видов записей, необходимых для полного уяснения учебного материал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мысливание результатов своего учения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уществление планирования и систематизации учебного материал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готовка к очередному занятию, воспроизведение содержания предыдущего матери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2"/>
          <p:cNvSpPr/>
          <p:nvPr/>
        </p:nvSpPr>
        <p:spPr>
          <a:xfrm>
            <a:off x="571680" y="785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 познавательной самостоятельности младших школьников требует от учителя такой организации условий  процесса обучения, где бы было возможным целенаправленно приобщать учащихся к добыванию знаний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тому  для  себя  я определила тему  педагогической системы: «Развитие познавательной самостоятельности  младших школьников средствами инновационной деятель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езультате работы над темой я выделила цель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Цель: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ть условия для развития познавательной самостоятельности учащихся начальной школы средствами иннов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28760" y="-233280"/>
            <a:ext cx="77151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стижение поставленной  цели   предусматривает  реализацию следующих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здание теоретической базы для изучения  психофизиологических особенностей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здание индивидуальных карт изучения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здание единого образовательного пространства путём сотрудничества всех участников образовательного процесса (ученик-родитель-педаг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недрение в практику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зработка и реализация  программы школьного научного общества «Почемуч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пособствовать вовлечению учащихся в систему дополните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ализация школьной программы «Одарённые дет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-323280"/>
            <a:ext cx="6870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571320"/>
            <a:ext cx="81043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решения поставленных задач мною был использован комплекс теоретических и эмпирических методов исследования. Теоретический метод: моделирование педагогической системы, теоретическое обобщение результатов исследования. Эмпирический метод: включенное наблюдение, интервьюирование, беседы с учителями, родителями, учащимися, анкетирование, изучение и анализ творческих работ учащих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d:\Рабочий стол\Мои документы\фото\ШКОЛА\2 класс\DSC00208.JPG"/>
          <p:cNvPicPr/>
          <p:nvPr/>
        </p:nvPicPr>
        <p:blipFill>
          <a:blip r:embed="rId1"/>
          <a:stretch/>
        </p:blipFill>
        <p:spPr>
          <a:xfrm>
            <a:off x="468360" y="4081320"/>
            <a:ext cx="3700440" cy="2776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d:\Рабочий стол\Мои документы\фото\ШКОЛА\2 класс\1 cент 2класс\S7003434.JPG"/>
          <p:cNvPicPr/>
          <p:nvPr/>
        </p:nvPicPr>
        <p:blipFill>
          <a:blip r:embed="rId2"/>
          <a:srcRect l="0" t="22339" r="0" b="0"/>
          <a:stretch/>
        </p:blipFill>
        <p:spPr>
          <a:xfrm>
            <a:off x="5435640" y="3814920"/>
            <a:ext cx="293832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нципы системы интеллектуального развит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1557000"/>
            <a:ext cx="79948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ринцип разностороннего развивающего воздействия на интеллект  ребенка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ринцип действенного подхода к обучению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buClr>
                <a:srgbClr val="ffff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ринцип  обоснованного ответа.  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buClr>
                <a:srgbClr val="ffff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ринцип сотрудничества, делового партнерства учителя и учащихся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:\Рабочий стол\0983862.jpg"/>
          <p:cNvPicPr/>
          <p:nvPr/>
        </p:nvPicPr>
        <p:blipFill>
          <a:blip r:embed="rId1"/>
          <a:stretch/>
        </p:blipFill>
        <p:spPr>
          <a:xfrm>
            <a:off x="468360" y="476280"/>
            <a:ext cx="3456000" cy="508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:\Рабочий стол\0366618.jpg"/>
          <p:cNvPicPr/>
          <p:nvPr/>
        </p:nvPicPr>
        <p:blipFill>
          <a:blip r:embed="rId2"/>
          <a:stretch/>
        </p:blipFill>
        <p:spPr>
          <a:xfrm>
            <a:off x="4932360" y="549360"/>
            <a:ext cx="3594240" cy="5045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d:\Рабочий стол\0510615.jpg"/>
          <p:cNvPicPr/>
          <p:nvPr/>
        </p:nvPicPr>
        <p:blipFill>
          <a:blip r:embed="rId3"/>
          <a:stretch/>
        </p:blipFill>
        <p:spPr>
          <a:xfrm>
            <a:off x="2685960" y="2708280"/>
            <a:ext cx="3254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3:24:06Z</dcterms:created>
  <dc:creator>admin</dc:creator>
  <dc:description/>
  <dc:language>en-US</dc:language>
  <cp:lastModifiedBy>User</cp:lastModifiedBy>
  <dcterms:modified xsi:type="dcterms:W3CDTF">2017-12-18T19:52:59Z</dcterms:modified>
  <cp:revision>107</cp:revision>
  <dc:subject/>
  <dc:title>Слайд 1</dc:title>
</cp:coreProperties>
</file>