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5D9-CA9C-4944-88AC-5681EE0C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6D4-7C83-47F9-8A22-332AD03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350-0F40-4648-B61E-BCFBAF2E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92D-5180-48F7-9435-D4A0AA7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B96-E3A5-4603-B4D5-6F12808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BD9-150E-4AAE-807A-3AEFF2ED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863-7AEB-436D-8774-5609890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316-516C-4137-82A4-FF85F40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CF8-9936-4F54-B46C-1346023B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8DE-644D-4E67-811B-02758B08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5C0-797D-4B2E-8234-1767C050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E5F-5754-42F4-8E4F-ED485B0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A2E-D0E8-4921-BA96-A32281D98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-762120" y="469800"/>
            <a:ext cx="11087280" cy="8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Albina: 27 мая - Календарь Истории."/>
          <p:cNvPicPr/>
          <p:nvPr/>
        </p:nvPicPr>
        <p:blipFill>
          <a:blip r:embed="rId2"/>
          <a:stretch/>
        </p:blipFill>
        <p:spPr>
          <a:xfrm>
            <a:off x="1258920" y="1197000"/>
            <a:ext cx="6667560" cy="424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995640" y="573264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Автор презентации: Кузьмина Т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гел – флюгер</a:t>
            </a:r>
            <a:br>
              <a:rPr sz="29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умал, видно, ангел улететь -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от застыл…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му на город весело глядеть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вершины Петропавловского шпиля.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 ним течет красавица Нева,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олны омывают пляж знакомый.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в невских водах - неба синева.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всё своё. Он в Петербурге - дома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Дерзкий бейс- прыжок со шпиля Петропавловского собора (видео) - SPOX.ru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298764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тропавловс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о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ор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ща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Петропавловский собор.Санкт-Петербург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ww.etoretro.ru/pic13673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namangan.ucoz.ru/forum/13-60-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alkspb.ru/zd/petrop_sobor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fotki.yandex.ru/users/olgano2008/view/256265/?page=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spb-excursion.ru/petropavl_krepost2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ww.beiaardschool.be/royal%20carillon%20school/ru-internet-rr-01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ww.decorbells.ru/pictures/carillon_n/P1010824psh_n.jp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ww.promalp-extra.ru/text/petr-telushkin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ttp://www.clir.ru/novosti/cerkov/imperator-vserosiiskii-nikolai-ii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Ефимовский Е.С. Путешествие в Санкт-Петербург.-Изд. 2-е, испр. и доп./ Е.Ефимовский; худож. В.А.Травин.-СПб.: Тригон, 2003.-96c.: и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6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бор этот выше других и старей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Здесь усыпальница русских царей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далека виден шпиль золотой,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ысится он над стеной крепостной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Ангел под самыми облаками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Город Петра осеняет крылами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Е. Ефимов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ravmir.ru/wp-content/uploads/2013/02/0_224f8_f0d71174_XL_11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348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ревянный собор Петра и Павла в Петропавловской крепо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Деревянный собор Петра и Павла в Петропавловской крепости. Гравюра из «Описания Петербурга» издания 1779 года, закладка, Петропавловская крепость, Петропавловский собор, Правление Петра I, церкви и соборы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Петропавловский собор, Казань, Достопримечательности России,…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392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ОСНОВАНИЕ ГОРОД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Царь остров в устье указал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И поднялись за валом вал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Шесть бастионов над реко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арышкин, Зотов, Трубецкой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Головкин, Меншиков, один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Был Государев. Шесть куртин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Сковали крепко островок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Теперь врагов и на порог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е пустит русская река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ускай смирят свирепость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Узнав, что встала на века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Здесь … (Петропавловская крепость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381636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етропавловский собор начали строить с колокольни, так повелел Пётр I. Во-первых, она была необходима в то время как смотровая площадка, откуда бы можно было увидеть приближение шведских войск. Во-вторых, колокольня должна была стать доминантой, утвердить возвращение приневских земель Росс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олокольня Петропавловского собора советы и вопросы туристов - информация для туриста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Часы-куранты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путешествия по Европе Пётр I обратил внимание на часы-куранты имевшиеся на некоторых европейских храмах. Такие же Пётр захотел иметь и в Росс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ание царя видеть часы в деле было так велико, что под его давлением куранты установили ещё на недостроенную колокольн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арильон колокольни собора.</a:t>
            </a:r>
            <a:br>
              <a:rPr sz="24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1 году, благодаря усилиям директора Королевской школы карильона бельгийского города Мехелен - Йозефа Хаазена, в колокольне Петропавловского собора был восстановлен уникальный музыкальный инструмент – карильон. Начиная с петровских времен все часы – куранты собора были снабжены карильоном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936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91 колокол</a:t>
            </a:r>
            <a:br>
              <a:rPr sz="28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Теперь на колокольне Петропавловского собора три уровня звона: новый фламандский карильон, 18 сохранившихся колоколов старого голландского карильона XVIII века (они будут "работать" как куранты) и православная звонница из 22-х колоколов, всего 91 колокол!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1830 году ураганный ветер повредил фигуру ангела на шпиле. Средств на возведение лесов вокруг шпиля в казне не оказалось. Кровельщик Пётр Телушкин вызвался без страховки, удерживаясь только пальцами, забраться на яблоко шпиля и отремонтировать флюгер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18:13:26Z</dcterms:created>
  <dc:creator>Igor Kuzmin</dc:creator>
  <dc:description/>
  <dc:language>en-US</dc:language>
  <cp:lastModifiedBy>Microsoft Office User</cp:lastModifiedBy>
  <dcterms:modified xsi:type="dcterms:W3CDTF">2019-04-14T15:19:26Z</dcterms:modified>
  <cp:revision>8</cp:revision>
  <dc:subject/>
  <dc:title>Слайд 1</dc:title>
</cp:coreProperties>
</file>