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805-64D0-4177-8608-F72CE466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93C-76AE-4C0B-B527-5578F557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7C2-8E2A-44BE-A446-A4F7D215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445-09D1-4109-A941-DB3C2DF6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8D3-2240-47DB-8B9E-2746A8F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428-3242-4CA8-83D4-303FE621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247-680C-4960-833C-63DB27E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BA4-4E09-44F2-A560-FBA55A6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BE0-BFEB-4131-B346-D41764E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D7A-9605-408D-B1C8-5483084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3E5-45BF-4D99-8BEA-154B24D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E38-1A97-4909-9C2F-4CE9009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C53-8AF9-4C70-B86C-7117AAF9D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Сариева Тамара Азретали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флексия своей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 меня получа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рудности у меня бы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работой на уроке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MCj04244440000[1]"/>
          <p:cNvPicPr/>
          <p:nvPr/>
        </p:nvPicPr>
        <p:blipFill>
          <a:blip r:embed="rId1"/>
          <a:stretch/>
        </p:blipFill>
        <p:spPr>
          <a:xfrm>
            <a:off x="0" y="4876920"/>
            <a:ext cx="1809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914400" y="4419720"/>
            <a:ext cx="2133720" cy="603000"/>
          </a:xfrm>
          <a:prstGeom prst="wedgeEllipseCallout">
            <a:avLst>
              <a:gd name="adj1" fmla="val -45481"/>
              <a:gd name="adj2" fmla="val 142226"/>
            </a:avLst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цени себ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а част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20570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лан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вторить применение свойств действ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ешать задачи: самостоятельно, вместе и в па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ценить свою работ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ёт и вычисления – основа порядка в го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5 ⋅ 76 ⋅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⋅ 6 ⋅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6 ⋅ 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45 + 134 +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37 + 85 + 63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9 ⋅ 72 – 29 ⋅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8 ⋅ 64 + 64 ⋅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200400" y="1219320"/>
                <a:ext cx="1943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7600</m:t>
                          </m:r>
                        </m:e>
                        <m:e>
                          <m:r>
                            <m:t xml:space="preserve">И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00400" y="1752480"/>
                <a:ext cx="194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6000</m:t>
                          </m:r>
                        </m:e>
                        <m:e>
                          <m:r>
                            <m:t xml:space="preserve">Д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2819520" y="2362320"/>
                <a:ext cx="18446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656</m:t>
                          </m:r>
                        </m:e>
                        <m:e>
                          <m:r>
                            <m:t xml:space="preserve">У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4038480" y="2895480"/>
                <a:ext cx="1616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34</m:t>
                          </m:r>
                        </m:e>
                        <m:e>
                          <m:r>
                            <m:t xml:space="preserve">З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4648320" y="3505320"/>
                <a:ext cx="1647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</m:e>
                        <m:e>
                          <m:r>
                            <m:t xml:space="preserve">А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9"/>
              <p:cNvSpPr txBox="1"/>
              <p:nvPr/>
            </p:nvSpPr>
            <p:spPr>
              <a:xfrm>
                <a:off x="4343400" y="4114800"/>
                <a:ext cx="18781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7200</m:t>
                          </m:r>
                        </m:e>
                        <m:e>
                          <m:r>
                            <m:t xml:space="preserve">Ч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0"/>
              <p:cNvSpPr txBox="1"/>
              <p:nvPr/>
            </p:nvSpPr>
            <p:spPr>
              <a:xfrm>
                <a:off x="4191120" y="4724280"/>
                <a:ext cx="1844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6400</m:t>
                          </m:r>
                        </m:e>
                        <m:e>
                          <m:r>
                            <m:t xml:space="preserve">А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6"/>
              <p:cNvSpPr txBox="1"/>
              <p:nvPr/>
            </p:nvSpPr>
            <p:spPr>
              <a:xfrm>
                <a:off x="1371600" y="5334120"/>
                <a:ext cx="6777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56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00</m:t>
                                </m:r>
                              </m:e>
                            </m:mr>
                          </m:m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4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2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60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7"/>
              <p:cNvSpPr txBox="1"/>
              <p:nvPr/>
            </p:nvSpPr>
            <p:spPr>
              <a:xfrm>
                <a:off x="3541680" y="6095880"/>
                <a:ext cx="1990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 Д А Ч 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умайте и ответьте: какие два важных момента должны выполняться при решении задач на ча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244440000[1]"/>
          <p:cNvPicPr/>
          <p:nvPr/>
        </p:nvPicPr>
        <p:blipFill>
          <a:blip r:embed="rId1"/>
          <a:stretch/>
        </p:blipFill>
        <p:spPr>
          <a:xfrm>
            <a:off x="609480" y="5029200"/>
            <a:ext cx="1581120" cy="16207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1905120" y="4572000"/>
            <a:ext cx="2119320" cy="603360"/>
          </a:xfrm>
          <a:prstGeom prst="wedgeEllipseCallout">
            <a:avLst>
              <a:gd name="adj1" fmla="val -45481"/>
              <a:gd name="adj2" fmla="val 142226"/>
            </a:avLst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4038480" y="3505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 Изобразить сх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4114800" y="41148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) Узнать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ходится на од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38080" y="456840"/>
            <a:ext cx="792504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приготовления гречневой каши надо взять 2 части крупы и 3 части воды. Сколько потребуется воды, если в кастрюлю положили 300 г кру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071000" y="289548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147680" y="3429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2209680" y="3200400"/>
            <a:ext cx="16002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3886200" y="3200400"/>
            <a:ext cx="16002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2209680" y="3657600"/>
            <a:ext cx="16002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3886200" y="3657600"/>
            <a:ext cx="16002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5562720" y="3657600"/>
            <a:ext cx="16002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rc 16"/>
          <p:cNvSpPr/>
          <p:nvPr/>
        </p:nvSpPr>
        <p:spPr>
          <a:xfrm flipV="1">
            <a:off x="2209680" y="2894400"/>
            <a:ext cx="3276720" cy="381240"/>
          </a:xfrm>
          <a:custGeom>
            <a:avLst/>
            <a:gdLst>
              <a:gd name="textAreaLeft" fmla="*/ 0 w 3276720"/>
              <a:gd name="textAreaRight" fmla="*/ 3277080 w 327672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34290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7"/>
          <p:cNvSpPr/>
          <p:nvPr/>
        </p:nvSpPr>
        <p:spPr>
          <a:xfrm flipV="1" rot="10800000">
            <a:off x="2209320" y="3580200"/>
            <a:ext cx="4930920" cy="381240"/>
          </a:xfrm>
          <a:custGeom>
            <a:avLst/>
            <a:gdLst>
              <a:gd name="textAreaLeft" fmla="*/ 0 w 4930920"/>
              <a:gd name="textAreaRight" fmla="*/ 4931280 w 493092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4270680" y="40384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6"/>
          <p:cNvSpPr/>
          <p:nvPr/>
        </p:nvSpPr>
        <p:spPr>
          <a:xfrm>
            <a:off x="639720" y="4724280"/>
            <a:ext cx="76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300 : 2 = 150 (г) – приходится на  одну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7"/>
          <p:cNvSpPr/>
          <p:nvPr/>
        </p:nvSpPr>
        <p:spPr>
          <a:xfrm>
            <a:off x="685800" y="5334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50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450 (г) – потребуется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8"/>
          <p:cNvSpPr/>
          <p:nvPr/>
        </p:nvSpPr>
        <p:spPr>
          <a:xfrm>
            <a:off x="702720" y="5943600"/>
            <a:ext cx="34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50 грам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спортивного клуба купили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ейбольных и баскетбольных мя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чём волейбольных в 4 раза боль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м баскетбольных. 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ейбольных мячей куп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ейб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мя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скетбольные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1 = 5 (ч.) –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: 5 = 16 (м.) приходится на одну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(м.) – волейбо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3200400" y="4800600"/>
            <a:ext cx="914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3200400" y="3962520"/>
            <a:ext cx="914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4191120" y="3962520"/>
            <a:ext cx="914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5181480" y="3962520"/>
            <a:ext cx="914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6172200" y="3962520"/>
            <a:ext cx="914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7391520" y="3809880"/>
            <a:ext cx="207720" cy="990720"/>
          </a:xfrm>
          <a:custGeom>
            <a:avLst/>
            <a:gdLst>
              <a:gd name="textAreaLeft" fmla="*/ 0 w 207720"/>
              <a:gd name="textAreaRight" fmla="*/ 74880 w 20772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2"/>
                  <a:pt x="10800" y="1283"/>
                </a:cubicBezTo>
                <a:lnTo>
                  <a:pt x="10800" y="9517"/>
                </a:lnTo>
                <a:cubicBezTo>
                  <a:pt x="10800" y="10159"/>
                  <a:pt x="16200" y="10800"/>
                  <a:pt x="21600" y="10800"/>
                </a:cubicBezTo>
                <a:cubicBezTo>
                  <a:pt x="16200" y="10800"/>
                  <a:pt x="10800" y="11442"/>
                  <a:pt x="10800" y="12083"/>
                </a:cubicBezTo>
                <a:lnTo>
                  <a:pt x="10800" y="20317"/>
                </a:lnTo>
                <a:cubicBezTo>
                  <a:pt x="10800" y="2095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ем вме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ик  на стр. 92  № 353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м возраст дочки за одну часть. Сколько частей составляет возраст мамы, возраст бабу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всего частей составляют 98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лет приходиться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лет каж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ем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материал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стр. 46  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женое содержит 5 частей воды, 2 части молочного жира и 3 части сахара. Сколько надо взять воды, молочного жира и сахара, чтобы приготовить 1 кг мороже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ведение итог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838080" y="2057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лан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вторить применение свойств действ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ешать задачи: самостоятельно, вместе и в па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ценить свою работ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кинат</dc:creator>
  <dc:description/>
  <dc:language>en-US</dc:language>
  <cp:lastModifiedBy>Секинат</cp:lastModifiedBy>
  <dcterms:modified xsi:type="dcterms:W3CDTF">2017-12-30T11:31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