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A42D-3867-4CD7-BE8B-554BC33E0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5723-C2A7-452E-B69F-FE495AD13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2714-E39C-4494-955C-F2044B837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7D26-C78E-489B-A905-4628B8E55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41228-3DF3-415A-8700-95D61DCA0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E444C-5F15-4FDF-9E22-F1EB362FB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7429C-35D3-45C8-9E85-CB2C54DB5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EF970-C508-4410-83FD-A49658D70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D3987-975F-481A-B854-0412B19FC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44C8E-6E5B-4D51-92B6-65DE4E088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BA5A7-837C-495B-9D16-6215D121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5B0B-C510-491B-8F48-7F1BB5FD7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23344-ABCF-416C-B059-3A2C7E9A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BF2B6-388E-4399-874C-7A35D80D8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842F8-73DE-411C-A4F8-9A4886C03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1421E-5A7E-478C-A513-9234C7574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8DDB8-3768-4312-BDD7-4FFC3257E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1D9C-3BE5-4A4D-A64A-6A98849A4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4712-723D-450F-8FD4-AC663AD3E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0CA6-20C5-46E4-8EB1-B9D7CD4B4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D308-E2B6-43AA-8C9C-516E27387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AA43-4647-4DD0-B1EC-E6ED1522C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4D57-1C0C-48AC-81A4-5429D74AE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C819-CEF7-4B6B-813D-7FD2E923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FAFC5-C43A-4D7E-9CD3-F79261EFE74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1B611-906F-410F-A567-C9DDC2C9863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teoretmeh.ru/" TargetMode="External"/><Relationship Id="rId2" Type="http://schemas.openxmlformats.org/officeDocument/2006/relationships/hyperlink" Target="http://www.toehelp.ru/theory/sopromat/" TargetMode="External"/><Relationship Id="rId3" Type="http://schemas.openxmlformats.org/officeDocument/2006/relationships/hyperlink" Target="http://www.toehelp.ru/theory/sopromat/" TargetMode="External"/><Relationship Id="rId4" Type="http://schemas.openxmlformats.org/officeDocument/2006/relationships/hyperlink" Target="http://www.toehelp.ru/theory/sopromat/" TargetMode="External"/><Relationship Id="rId5" Type="http://schemas.openxmlformats.org/officeDocument/2006/relationships/hyperlink" Target="http://www.toehelp.ru/theory/sopromat/" TargetMode="External"/><Relationship Id="rId6" Type="http://schemas.openxmlformats.org/officeDocument/2006/relationships/hyperlink" Target="http://www.toehelp.ru/theory/sopromat/" TargetMode="External"/><Relationship Id="rId7" Type="http://schemas.openxmlformats.org/officeDocument/2006/relationships/hyperlink" Target="http://www.toehelp.ru/theory/sopromat/" TargetMode="External"/><Relationship Id="rId8" Type="http://schemas.openxmlformats.org/officeDocument/2006/relationships/hyperlink" Target="http://www.toehelp.ru/theory/sopromat/" TargetMode="External"/><Relationship Id="rId9" Type="http://schemas.openxmlformats.org/officeDocument/2006/relationships/hyperlink" Target="http://www.toehelp.ru/theory/sopromat/" TargetMode="External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Механика в нашей жизни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ЧАСТЬ. 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50920" y="2492280"/>
            <a:ext cx="637992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аконы Архимеда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FOREV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99ff"/>
                </a:solidFill>
                <a:latin typeface="Arial"/>
              </a:rPr>
              <a:t>Клин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 вбиваемый в полено, действует на него сверху вниз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Он раздвигает образующиеся половинки влево и вправо, </a:t>
            </a:r>
            <a:r>
              <a:rPr b="0" i="1" lang="en-US" sz="2000" spc="-1" strike="noStrike">
                <a:solidFill>
                  <a:srgbClr val="cc99ff"/>
                </a:solidFill>
                <a:latin typeface="Arial"/>
              </a:rPr>
              <a:t>т.е.клин изменяет направлени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99ff"/>
                </a:solidFill>
                <a:latin typeface="Arial"/>
              </a:rPr>
              <a:t>Сила,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cc99ff"/>
                </a:solidFill>
                <a:latin typeface="Arial"/>
              </a:rPr>
              <a:t>с которой клин раздвигает половинки бревна, больше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силы, с которой молот действует на клин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580000" y="2362320"/>
            <a:ext cx="2087640" cy="20764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580000" y="4019400"/>
            <a:ext cx="2448000" cy="20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аконы Архимеда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FOREV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Спортивные парусные суда не могут обойтись без </a:t>
            </a:r>
            <a:r>
              <a:rPr b="0" lang="en-US" sz="2400" spc="-1" strike="noStrike">
                <a:solidFill>
                  <a:srgbClr val="cc99ff"/>
                </a:solidFill>
                <a:latin typeface="Arial"/>
              </a:rPr>
              <a:t>блоков,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при постановке парусов и управлении им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Современным судам нужны </a:t>
            </a:r>
            <a:r>
              <a:rPr b="0" lang="en-US" sz="2400" spc="-1" strike="noStrike">
                <a:solidFill>
                  <a:srgbClr val="cc99ff"/>
                </a:solidFill>
                <a:latin typeface="Arial"/>
              </a:rPr>
              <a:t>блоки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для подъёма сигналов, шлюпок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427640" y="2673360"/>
            <a:ext cx="453708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аконы Архимеда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FOREV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На любой строительной площадке работают башенные подъемные краны – это сочетание </a:t>
            </a:r>
            <a:r>
              <a:rPr b="0" lang="en-US" sz="2000" spc="-1" strike="noStrike">
                <a:solidFill>
                  <a:srgbClr val="cc99ff"/>
                </a:solidFill>
                <a:latin typeface="Arial"/>
              </a:rPr>
              <a:t>рычагов, блоков, воротов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Грузоподъемность таких кранов 20….400 кн. Скорость подъема 1 м/с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500720" y="2427120"/>
            <a:ext cx="439236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аконы Архимеда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FOREV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Лебедка, конструкция, состоящая из двух </a:t>
            </a:r>
            <a:r>
              <a:rPr b="0" lang="en-US" sz="2400" spc="-1" strike="noStrike">
                <a:solidFill>
                  <a:srgbClr val="cc99ff"/>
                </a:solidFill>
                <a:latin typeface="Arial"/>
              </a:rPr>
              <a:t>воротов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с промежуточными передачами в механизме привод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Грузоподъемность современных лебедок может быть 100 кн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500720" y="2816280"/>
            <a:ext cx="446400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Загадк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Два кольца, два конца, а по середине гвоздик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Две сестры качались, правды добивались, а когда добились, то остановились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Кланяется, кланяется, придет домой – растянется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Два братца пошли в воду купаться, два купаются, а третий на берегу валяется. Искупались вышли на третьем повисл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Ответы на загадк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464080" y="4300560"/>
            <a:ext cx="2363760" cy="17859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555920" y="4300560"/>
            <a:ext cx="2334960" cy="1785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5475240" y="2362320"/>
            <a:ext cx="2341440" cy="17859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1465200" y="2362320"/>
            <a:ext cx="25146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еханика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REV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822400" y="2362320"/>
            <a:ext cx="372456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Используемая литератур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1. Аркуша Л.И. Техническая механика.-М: Высшая школа, 2000 г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www.teoretmeh.ru/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://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4"/>
              </a:rPr>
              <a:t>www.toehelp.ru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5"/>
              </a:rPr>
              <a:t>/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6"/>
              </a:rPr>
              <a:t>theory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7"/>
              </a:rPr>
              <a:t>/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8"/>
              </a:rPr>
              <a:t>sopromat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9"/>
              </a:rPr>
              <a:t>/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Архимед, как один из основоположников механики</a:t>
            </a:r>
            <a:br>
              <a:rPr sz="3200"/>
            </a:b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(287 г – 212 г  до н.э.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030480" y="2362320"/>
            <a:ext cx="330696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ростые механизмы древних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Цитата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«Я землю бы мог повернуть рычагом, лишь дайте мне точку опоры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                          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                                             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Архимед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340000" y="4149720"/>
            <a:ext cx="216216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Механика Архимед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Архимед сделал множество открытий и изобретени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Он первым описал простые механизм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Первый механизм – это </a:t>
            </a:r>
            <a:r>
              <a:rPr b="1" i="1" lang="en-US" sz="2400" spc="-1" strike="noStrike">
                <a:solidFill>
                  <a:srgbClr val="cc99ff"/>
                </a:solidFill>
                <a:latin typeface="Arial"/>
              </a:rPr>
              <a:t>рычаг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102280" y="2714760"/>
            <a:ext cx="308592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Рычаг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Рычаг был известен и до Архимеда, но лишь Архимед изложил его полную теорию и успешно применял её на практик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003640" y="4300560"/>
            <a:ext cx="3456000" cy="2394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997520" y="2362320"/>
            <a:ext cx="329724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Архимедов винт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Архимедом изобретен бесконечный винт для вычерпывания воды, </a:t>
            </a:r>
            <a:r>
              <a:rPr b="1" i="1" lang="ru-RU" sz="2400" spc="-1" strike="noStrike">
                <a:solidFill>
                  <a:srgbClr val="cc99ff"/>
                </a:solidFill>
                <a:latin typeface="Arial"/>
              </a:rPr>
              <a:t>который перемещает воду по трубе на высоту до 4 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403280" y="3844800"/>
            <a:ext cx="705636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Блок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Архимед первый придумал устройство </a:t>
            </a:r>
            <a:r>
              <a:rPr b="1" i="1" lang="en-US" sz="2400" spc="-1" strike="noStrike">
                <a:solidFill>
                  <a:srgbClr val="cc99ff"/>
                </a:solidFill>
                <a:latin typeface="Arial"/>
              </a:rPr>
              <a:t>блока,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изучил его механические свойства и применил его на практик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6000" y="3618000"/>
            <a:ext cx="777708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аконы Архимеда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FOREV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Различные </a:t>
            </a:r>
            <a:r>
              <a:rPr b="0" i="1" lang="en-US" sz="2400" spc="-1" strike="noStrike">
                <a:solidFill>
                  <a:srgbClr val="cc99ff"/>
                </a:solidFill>
                <a:latin typeface="Arial"/>
              </a:rPr>
              <a:t>простые механизмы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которые нас окружают позволяют получить выигрыш в силе или расстоянии, и делают нашу жизнь удобне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778360" y="2289240"/>
            <a:ext cx="2249640" cy="15699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568840" y="4029120"/>
            <a:ext cx="325116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аконы Архимеда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FOREV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При помощи рычага можно маленькой силой уравновесить большую силу, например подъем ведра из колодца. </a:t>
            </a:r>
            <a:r>
              <a:rPr b="0" lang="en-US" sz="2400" spc="-1" strike="noStrike">
                <a:solidFill>
                  <a:srgbClr val="cc99ff"/>
                </a:solidFill>
                <a:latin typeface="Arial"/>
              </a:rPr>
              <a:t>Рычаг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– колодезный воро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788000" y="2773440"/>
            <a:ext cx="3456000" cy="31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30T11:05:50Z</dcterms:created>
  <dc:creator>uzer</dc:creator>
  <dc:description/>
  <dc:language>en-US</dc:language>
  <cp:lastModifiedBy>uzer</cp:lastModifiedBy>
  <dcterms:modified xsi:type="dcterms:W3CDTF">2017-10-30T15:00:38Z</dcterms:modified>
  <cp:revision>22</cp:revision>
  <dc:subject/>
  <dc:title>Механика в нашей жизни</dc:title>
</cp:coreProperties>
</file>