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7.jpeg" ContentType="image/jpeg"/>
  <Override PartName="/ppt/media/image50.jpeg" ContentType="image/jpeg"/>
  <Override PartName="/ppt/media/image13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6.png" ContentType="image/png"/>
  <Override PartName="/ppt/media/image30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1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CB2-638F-4204-8FF4-972AE3EC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C1E-0C8C-402F-89FF-06B1669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D35-8C7A-4FA2-BCA2-5D141551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618-77E7-4A15-9FCD-34EF0643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3ED0-35A7-4851-B318-288BBB5C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C5E-248D-4EF1-8F35-45A22CBC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5C9-F4DA-4A87-8C0E-E1D8D40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F9F-91B7-4E42-90CD-C5B7BEB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5431-FC0B-4F00-8487-4058F932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BF9C-15D2-4ABA-B9F3-D570873E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2F3D-EE29-4582-9F7A-DFE3385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441-AA8F-4FB7-BEF4-3CBEA668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A6EF-D3D5-4710-88F6-41BF561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22E-B5B9-4FC1-AA63-688DB0E7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55B-B972-4C60-B7D3-C0E45F84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60DA-81F5-4DC7-A5DB-57CF4F17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7B45-0B8A-47B3-B7AE-F8685A67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073D-AECF-4F1F-99D5-3781A0BD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5C12-72A8-4A30-866C-C072E8C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5565-C5C8-4205-BDA8-8079DA66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5E07-1543-4C2D-B589-1C08FE0E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EAC0-936A-4BEC-9DD6-CA8B13C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CF6-60E7-40A8-BC76-191341F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9FE5-0E28-4CCA-A37B-8CB99DC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7AF8D-04A9-4F6C-AF8D-A594434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E701-7D6F-4511-AE1C-1F3E735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D71B-556A-4151-8D87-45BB391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C57F-9F96-4129-8DAA-8C24DB14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3DFA-822E-4319-A61C-6A3F9D1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CC81-7CD2-45AA-A0DA-7C7EF6C2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138E-9DBC-4830-9DE5-EE6B8907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972D-BB2A-43E4-B262-53603720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2632-F3CB-4710-AA4C-70D4845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BC9-847E-4C2F-8178-055C46A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0EA1-96D9-4A06-AD7D-99BD764A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3851-A306-4931-B44A-9F71135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5718-857A-4BA9-B392-3BEEDEC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6E87-898B-426E-89F7-7B470F5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FB4B-A6FB-4421-855B-7C12A4A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6DA05-A0E4-4EE9-A14C-C8615EF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FEAB-5364-443C-BEFC-778D7887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8858-7CB4-47AE-A6D7-62586D81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9300-1C6B-42A9-8FB7-F45017B9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BB5-A7BD-4BF3-ACE0-27F31F0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8DE-158C-4473-ABBA-F2A58DA9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38E-6CCC-4588-BA10-F258FB5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69C-FFA4-479D-83C4-9AFD503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5BB-5CCE-4A24-9F45-3C7BEBD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9677-E5EC-410C-811D-87C09578376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8C6C-F1C8-4152-BB9B-26D3C997D56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EC4-B32D-4A47-95B1-1AC29F2A41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7C44-2688-4C61-9E83-D2A30D5039B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fotki.yandex.ru/users/lubov-sever/view/47439/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fotki.yandex.ru/users/serega-morgan/view/23100/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fotki.yandex.ru/users/vlad-bragin/view/113020/" TargetMode="External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hyperlink" Target="http://fotki.yandex.ru/users/ismay11/view/130860/" TargetMode="External"/><Relationship Id="rId10" Type="http://schemas.openxmlformats.org/officeDocument/2006/relationships/image" Target="../media/image40.jpeg"/><Relationship Id="rId11" Type="http://schemas.openxmlformats.org/officeDocument/2006/relationships/hyperlink" Target="http://www.divephotos.ru/gallerys/divephotos.ru/foto/x_dd244d0e.jpg" TargetMode="External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image" Target="../media/image43.jpeg"/><Relationship Id="rId15" Type="http://schemas.openxmlformats.org/officeDocument/2006/relationships/image" Target="../media/image44.jpeg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image" Target="../media/image47.jpe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925880" y="1219320"/>
            <a:ext cx="4046760" cy="2457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окунеобразные"/>
          <p:cNvPicPr/>
          <p:nvPr/>
        </p:nvPicPr>
        <p:blipFill>
          <a:blip r:embed="rId2"/>
          <a:stretch/>
        </p:blipFill>
        <p:spPr>
          <a:xfrm>
            <a:off x="250920" y="260280"/>
            <a:ext cx="4468680" cy="641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7" name="Text Box 6"/>
          <p:cNvSpPr/>
          <p:nvPr/>
        </p:nvSpPr>
        <p:spPr>
          <a:xfrm>
            <a:off x="5292720" y="47242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148360" y="472428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БОУ «СОШ № 3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»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Реутов Московской обла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шков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да Владимировн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КЛАСС ХРЯЩЕВЫЕ РЫБЫ 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Скелет состоит из хрящ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Костная ткань отсутствуе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Кожа покрыта «кожными зубам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Есть челюсти, они вооружены зуб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По бокам головы 5–7 жаберных щелей (у акул — открытых, а у химер — прикрытых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КЛАСС КОСТНЫЕ РЫБЫ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Дышат они с помощью жаб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Скелет состоит, как правило, из к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Кожа покрыта тонкими налегающими, как черепица, одна на другую костными чешуйк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Есть челюсти, они обычно вооружены зуб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Жабры покрыты подвижными жаберными крышк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</a:rPr>
              <a:t>У хрящевых ганоидов (например, осетровых) скелет из хряща, а тело покрыто отдельными «бляшками» из кост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826920" y="18900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Times New Roman"/>
              </a:rPr>
              <a:t>Костные рыбы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Picture 5" descr="угреобразные"/>
          <p:cNvPicPr/>
          <p:nvPr/>
        </p:nvPicPr>
        <p:blipFill>
          <a:blip r:embed="rId1"/>
          <a:stretch/>
        </p:blipFill>
        <p:spPr>
          <a:xfrm>
            <a:off x="4067280" y="1989000"/>
            <a:ext cx="4667040" cy="2362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углобрюхие"/>
          <p:cNvPicPr/>
          <p:nvPr/>
        </p:nvPicPr>
        <p:blipFill>
          <a:blip r:embed="rId2"/>
          <a:stretch/>
        </p:blipFill>
        <p:spPr>
          <a:xfrm>
            <a:off x="250920" y="1341360"/>
            <a:ext cx="3476520" cy="206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камбалообразные"/>
          <p:cNvPicPr/>
          <p:nvPr/>
        </p:nvPicPr>
        <p:blipFill>
          <a:blip r:embed="rId3"/>
          <a:stretch/>
        </p:blipFill>
        <p:spPr>
          <a:xfrm>
            <a:off x="324000" y="3860640"/>
            <a:ext cx="3095640" cy="2111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сарганообразные"/>
          <p:cNvPicPr/>
          <p:nvPr/>
        </p:nvPicPr>
        <p:blipFill>
          <a:blip r:embed="rId4"/>
          <a:stretch/>
        </p:blipFill>
        <p:spPr>
          <a:xfrm>
            <a:off x="3780000" y="5084640"/>
            <a:ext cx="51717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Box 2" descr=""/>
          <p:cNvPicPr/>
          <p:nvPr/>
        </p:nvPicPr>
        <p:blipFill>
          <a:blip r:embed="rId1"/>
          <a:stretch/>
        </p:blipFill>
        <p:spPr>
          <a:xfrm>
            <a:off x="208080" y="146160"/>
            <a:ext cx="9015120" cy="1012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Надежда\Pictures\рыбы\еж.jpg"/>
          <p:cNvPicPr/>
          <p:nvPr/>
        </p:nvPicPr>
        <p:blipFill>
          <a:blip r:embed="rId2"/>
          <a:stretch/>
        </p:blipFill>
        <p:spPr>
          <a:xfrm>
            <a:off x="1143000" y="1523880"/>
            <a:ext cx="281448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Users\Надежда\Pictures\ф.jpg"/>
          <p:cNvPicPr/>
          <p:nvPr/>
        </p:nvPicPr>
        <p:blipFill>
          <a:blip r:embed="rId4"/>
          <a:stretch/>
        </p:blipFill>
        <p:spPr>
          <a:xfrm>
            <a:off x="5181480" y="4114800"/>
            <a:ext cx="2754360" cy="228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Надежда\Pictures\рыбы\3605208614_9f2da8a9bb.jpg"/>
          <p:cNvPicPr/>
          <p:nvPr/>
        </p:nvPicPr>
        <p:blipFill>
          <a:blip r:embed="rId5"/>
          <a:stretch/>
        </p:blipFill>
        <p:spPr>
          <a:xfrm>
            <a:off x="5181480" y="144792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НООБРАЗИЕ ФОРМ ТЕЛА РЫБ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5" name="Picture 6" descr="формы тела рыб"/>
          <p:cNvPicPr/>
          <p:nvPr/>
        </p:nvPicPr>
        <p:blipFill>
          <a:blip r:embed="rId1"/>
          <a:stretch/>
        </p:blipFill>
        <p:spPr>
          <a:xfrm>
            <a:off x="826920" y="1125360"/>
            <a:ext cx="7417080" cy="1511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уникальные формы рыб"/>
          <p:cNvPicPr/>
          <p:nvPr/>
        </p:nvPicPr>
        <p:blipFill>
          <a:blip r:embed="rId2"/>
          <a:stretch/>
        </p:blipFill>
        <p:spPr>
          <a:xfrm>
            <a:off x="539640" y="5157720"/>
            <a:ext cx="813600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обтекаемая форма"/>
          <p:cNvPicPr/>
          <p:nvPr/>
        </p:nvPicPr>
        <p:blipFill>
          <a:blip r:embed="rId3"/>
          <a:stretch/>
        </p:blipFill>
        <p:spPr>
          <a:xfrm>
            <a:off x="900000" y="2708280"/>
            <a:ext cx="7782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</a:rPr>
              <a:t>Тело веретеновидное, чуть сплюснутое с боков.</a:t>
            </a:r>
            <a:r>
              <a:rPr b="0" lang="ru-RU" sz="2600" spc="-1" strike="noStrike">
                <a:solidFill>
                  <a:srgbClr val="02303e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</a:rPr>
              <a:t>Но, приспосабливая форму тела к какому-либо особому образу жизни, естественный отбор создал много рыб причудливой форм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303e"/>
                </a:solidFill>
                <a:latin typeface="Times New Roman"/>
              </a:rPr>
              <a:t>Форма тела зависит от образа жизни и влияет на скорость плава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303e"/>
                </a:solidFill>
                <a:latin typeface="Times New Roman"/>
              </a:rPr>
              <a:t>Эти три вида рыб гоняются за добычей в океане. Они всю жизнь стремительно мчатся в воде. Тело у них веретеновидное, обтекаемое.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</a:rPr>
              <a:t>Эти рыбы питаются, медленно плавая. Тело их укорочено и сплющено с боков. Оно не позволяет плавать быстр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рыб-луна"/>
          <p:cNvPicPr/>
          <p:nvPr/>
        </p:nvPicPr>
        <p:blipFill>
          <a:blip r:embed="rId1"/>
          <a:stretch/>
        </p:blipFill>
        <p:spPr>
          <a:xfrm>
            <a:off x="1619280" y="3068640"/>
            <a:ext cx="6154560" cy="3598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НООБРАЗИЕ ФОРМ ТЕЛА РЫБ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93464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</a:rPr>
              <a:t>Эти рыбы питаются тоже медленно плавая, но тело у них вытянуто и сплющено с боков. Оно тоже не позволяет плавать быстр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4" descr="вьюны"/>
          <p:cNvPicPr/>
          <p:nvPr/>
        </p:nvPicPr>
        <p:blipFill>
          <a:blip r:embed="rId1"/>
          <a:stretch/>
        </p:blipFill>
        <p:spPr>
          <a:xfrm>
            <a:off x="1187280" y="3933720"/>
            <a:ext cx="6753240" cy="2400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НООБРАЗИЕ ФОРМ ТЕЛА РЫБ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</a:rPr>
              <a:t>Тело этих рыб приспособлено для жизни на дне, плавают они медленн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рыбы ерши"/>
          <p:cNvPicPr/>
          <p:nvPr/>
        </p:nvPicPr>
        <p:blipFill>
          <a:blip r:embed="rId1"/>
          <a:stretch/>
        </p:blipFill>
        <p:spPr>
          <a:xfrm>
            <a:off x="468360" y="3573360"/>
            <a:ext cx="8232840" cy="2374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НООБРАЗИЕ ФОРМ ТЕЛА РЫБ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Снаружи кожа рыб покрыта чешуёй – тонкими полупрозрачными пластинками. Чешуи своими концами налегают друг на друга, располагаясь черепицеобразн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Это обеспечивает прочную защиту тела и вместе с тем не создает препятствий движен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Чешуи образуются специальными клетками кожи. Размер чешуек бывает разный: от микроскопических у </a:t>
            </a:r>
            <a:r>
              <a:rPr b="0" i="1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угрей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до нескольких сантиметров у </a:t>
            </a:r>
            <a:r>
              <a:rPr b="0" i="1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индийского усача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Наблюдается большое разнообразие чешуи: по форме, прочности, составу, количеству и некоторым другим характеристик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КРОВЫ ТЕ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95280" y="907920"/>
            <a:ext cx="835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Цель урока</a:t>
            </a:r>
            <a:r>
              <a:rPr b="1" i="1" lang="ru-RU" sz="2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Garamond"/>
              </a:rPr>
              <a:t>Познакомить учащихся с представителями нового класса животных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Задачи урока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Дать представление об отличительных чертах внешнего строения рыб и о их образе жизни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9d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Познакомить с представителями этого класс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9d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Учить распознавать их и отличать от представителей других классов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оррекционно-развивающие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buClr>
                <a:srgbClr val="009d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Работать над развитием мышления, внимания, понимания материала, способности осмысления полученной информации, способности проводить сравнения, т. е. развития мышления на основе зрительного, слухового и тактильного восприятия 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buClr>
                <a:srgbClr val="009d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Развивать речь, обогащать активный словарный запас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оспитательны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buClr>
                <a:srgbClr val="009dd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Формировать бережное отношению к природ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buClr>
                <a:srgbClr val="009dd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dd9"/>
                </a:solidFill>
                <a:latin typeface="Garamond"/>
              </a:rPr>
              <a:t>Формировать основы экологического созна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КРОВЫ ТЕ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КРОВЫ ТЕ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324000" y="17208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Наверное, всем приходилось слышать выражение «скользкий, как рыба». В нём подмечена такая особенность кожи рыб, как наличие большого количества слизи. Слизь облегчает скольжение в воде, предотвращает попадание в организм паразитов и бактерий, ускоряет заживление в случаях ранений, способствует выведению веществ из организма, регулирует проникновение воды и солей, осаждает муть и выделяет специфический видовой запах, необходимый для узнавания особей своего вида</a:t>
            </a:r>
            <a:r>
              <a:rPr b="0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КРОВЫ ТЕ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468360" y="1557360"/>
            <a:ext cx="8424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В коже залегают </a:t>
            </a:r>
            <a:r>
              <a:rPr b="1" i="1" lang="ru-RU" sz="2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пигментные клетки – хроматофоры</a:t>
            </a:r>
            <a:r>
              <a:rPr b="1" lang="ru-RU" sz="2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: при их расширении пигментные зёрна растекаются на большее пространство и окраска тела становится яркой. Если хроматофоры сокращаются, пигментные зёрна скапливаются в центре, оставляя большую часть клетки неокрашенной, и окраска тела бледнеет. Если пигментные зёрна всех цветов равномерно распределены внутри хроматофоров – рыба имеет яркую окраску; если пигментные зёрна собраны в центрах клеток – рыба становится почти бесцветной, прозрачной; если же только жёлтые пигментные зёрна распределены по своим хроматофорам – рыба меняет окраску на светло-жёлтую</a:t>
            </a:r>
            <a:r>
              <a:rPr b="0" lang="ru-RU" sz="2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КРОВЫ ТЕ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395280" y="148428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Хроматофоры определяют всё разнообразие окраски рыб, особенно яркой в тропиках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Таким образом, кожа рыб выполняет функцию наружной защиты. Она защищает тело от механических повреждений, облегчает скольжение, определяет цвет рыбы, осуществляет связь с внешней средой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В коже расположены органы, воспринимающие температуру и химический состав вод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НАЧЕНИЕ ОКРАС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843280" y="1413000"/>
            <a:ext cx="59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Пелагические рыбы часто имеют тёмную «спинку» и светлое «брюшко», как эта рыба </a:t>
            </a:r>
            <a:r>
              <a:rPr b="1" i="1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абадехо</a:t>
            </a:r>
            <a:r>
              <a:rPr b="0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семейства тресков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592360" cy="16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Прямоугольник 7"/>
          <p:cNvSpPr/>
          <p:nvPr/>
        </p:nvSpPr>
        <p:spPr>
          <a:xfrm>
            <a:off x="324000" y="3429000"/>
            <a:ext cx="56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Индийский </a:t>
            </a:r>
            <a:r>
              <a:rPr b="1" i="1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стеклянный сом</a:t>
            </a:r>
            <a:r>
              <a:rPr b="0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может служить    пособием по изучению анатом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3780000" y="4437000"/>
            <a:ext cx="496872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WordArt 4" descr=""/>
          <p:cNvPicPr/>
          <p:nvPr/>
        </p:nvPicPr>
        <p:blipFill>
          <a:blip r:embed="rId1"/>
          <a:stretch/>
        </p:blipFill>
        <p:spPr>
          <a:xfrm>
            <a:off x="1017720" y="195120"/>
            <a:ext cx="7156440" cy="6955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5"/>
          <p:cNvSpPr txBox="1"/>
          <p:nvPr/>
        </p:nvSpPr>
        <p:spPr>
          <a:xfrm>
            <a:off x="762120" y="9144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ищ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8" name="WordArt 7"/>
          <p:cNvSpPr txBox="1"/>
          <p:nvPr/>
        </p:nvSpPr>
        <p:spPr>
          <a:xfrm>
            <a:off x="5486400" y="914400"/>
            <a:ext cx="25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равоя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13" descr="0_b94c_2534ef68_L">
            <a:hlinkClick r:id="rId2"/>
          </p:cNvPr>
          <p:cNvPicPr/>
          <p:nvPr/>
        </p:nvPicPr>
        <p:blipFill>
          <a:blip r:embed="rId3"/>
          <a:srcRect l="0" t="0" r="0" b="8240"/>
          <a:stretch/>
        </p:blipFill>
        <p:spPr>
          <a:xfrm>
            <a:off x="685800" y="2438280"/>
            <a:ext cx="3505320" cy="22129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0" name="Picture 15" descr="0_4ea0_d03a7a4f_-1-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819520" cy="21146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1" name="Picture 19" descr="0_1b97b_14bea878_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4876920"/>
            <a:ext cx="3760920" cy="16621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2" name="Picture 21" descr="i?id=2864062&amp;tov=8"/>
          <p:cNvPicPr/>
          <p:nvPr/>
        </p:nvPicPr>
        <p:blipFill>
          <a:blip r:embed="rId8"/>
          <a:stretch/>
        </p:blipFill>
        <p:spPr>
          <a:xfrm>
            <a:off x="6705720" y="2413080"/>
            <a:ext cx="1904760" cy="12445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3" name="Picture 23" descr="0_1ff2b_5a1b13f9_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320" y="5116680"/>
            <a:ext cx="2590560" cy="15890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4" name="Picture 27" descr="Картинка 2 из 173">
            <a:hlinkClick r:id="rId11"/>
          </p:cNvPr>
          <p:cNvPicPr/>
          <p:nvPr/>
        </p:nvPicPr>
        <p:blipFill>
          <a:blip r:embed="rId12"/>
          <a:srcRect l="0" t="8399" r="0" b="0"/>
          <a:stretch/>
        </p:blipFill>
        <p:spPr>
          <a:xfrm>
            <a:off x="2819520" y="5133960"/>
            <a:ext cx="2286000" cy="15717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5" name="Picture 31" descr="0_b7d4_18097447_L"/>
          <p:cNvPicPr/>
          <p:nvPr/>
        </p:nvPicPr>
        <p:blipFill>
          <a:blip r:embed="rId13"/>
          <a:srcRect l="0" t="45355" r="0" b="7559"/>
          <a:stretch/>
        </p:blipFill>
        <p:spPr>
          <a:xfrm>
            <a:off x="152280" y="1654200"/>
            <a:ext cx="4610160" cy="1627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6" name="Picture 32" descr="i?id=93900300&amp;tov=5"/>
          <p:cNvPicPr/>
          <p:nvPr/>
        </p:nvPicPr>
        <p:blipFill>
          <a:blip r:embed="rId14"/>
          <a:stretch/>
        </p:blipFill>
        <p:spPr>
          <a:xfrm>
            <a:off x="4876920" y="2286000"/>
            <a:ext cx="1828800" cy="24382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7" name="Picture 33" descr="i?id=1038976&amp;tov=3"/>
          <p:cNvPicPr/>
          <p:nvPr/>
        </p:nvPicPr>
        <p:blipFill>
          <a:blip r:embed="rId15"/>
          <a:srcRect l="0" t="21097" r="0" b="0"/>
          <a:stretch/>
        </p:blipFill>
        <p:spPr>
          <a:xfrm>
            <a:off x="6705720" y="3733920"/>
            <a:ext cx="1904760" cy="9284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278" name="Text Box 34"/>
          <p:cNvSpPr/>
          <p:nvPr/>
        </p:nvSpPr>
        <p:spPr>
          <a:xfrm>
            <a:off x="572400" y="41911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ирань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2068560" y="613404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кул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80" name="Picture 9" descr="0_816f_f6718731_L"/>
          <p:cNvPicPr/>
          <p:nvPr/>
        </p:nvPicPr>
        <p:blipFill>
          <a:blip r:embed="rId16"/>
          <a:srcRect l="0" t="6472" r="0" b="6472"/>
          <a:stretch/>
        </p:blipFill>
        <p:spPr>
          <a:xfrm>
            <a:off x="457200" y="3352680"/>
            <a:ext cx="4038480" cy="17398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81" name="Picture 28" descr="i?id=31747002&amp;tov=2"/>
          <p:cNvPicPr/>
          <p:nvPr/>
        </p:nvPicPr>
        <p:blipFill>
          <a:blip r:embed="rId17"/>
          <a:srcRect l="0" t="0" r="0" b="18574"/>
          <a:stretch/>
        </p:blipFill>
        <p:spPr>
          <a:xfrm>
            <a:off x="76320" y="5105520"/>
            <a:ext cx="2590560" cy="16570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82" name="Picture 29" descr="Картинка 28 из 598"/>
          <p:cNvPicPr/>
          <p:nvPr/>
        </p:nvPicPr>
        <p:blipFill>
          <a:blip r:embed="rId18"/>
          <a:stretch/>
        </p:blipFill>
        <p:spPr>
          <a:xfrm>
            <a:off x="2743200" y="5105520"/>
            <a:ext cx="2362320" cy="16365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283" name="Text Box 36"/>
          <p:cNvSpPr/>
          <p:nvPr/>
        </p:nvSpPr>
        <p:spPr>
          <a:xfrm>
            <a:off x="572040" y="26290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осётр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498240" y="4572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щук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118800" y="6353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2694960" y="628668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горбуш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5715000" y="4267080"/>
            <a:ext cx="91440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5555520" y="4229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арас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225040" y="59817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сельд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Text Box 44"/>
          <p:cNvSpPr/>
          <p:nvPr/>
        </p:nvSpPr>
        <p:spPr>
          <a:xfrm>
            <a:off x="6577920" y="32385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лин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Text Box 45"/>
          <p:cNvSpPr/>
          <p:nvPr/>
        </p:nvSpPr>
        <p:spPr>
          <a:xfrm>
            <a:off x="6486480" y="438156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лотв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4"/>
          <p:cNvSpPr/>
          <p:nvPr/>
        </p:nvSpPr>
        <p:spPr>
          <a:xfrm>
            <a:off x="2286000" y="31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www.youtube.com/watch?v=JLOn10cSiLE&amp;feature=player_detailpage#t=288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97964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посмотрим видеофильм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4"/>
          <p:cNvSpPr/>
          <p:nvPr/>
        </p:nvSpPr>
        <p:spPr>
          <a:xfrm>
            <a:off x="4140360" y="5229360"/>
            <a:ext cx="45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http://files.school-collection.edu.ru/dlrstore/000007e6-1000-4ddd-d9d9-3b00475d4f0b/56_26.jp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1476360" y="18900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чение ры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403280" y="1268280"/>
            <a:ext cx="662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егулируют численность водных организмо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орм для животных и птиц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тходы рыбной промышленности – корм для скот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Источник питания люд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бъект промысл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7" name="Picture 22" descr="Gymnocephalus_cernuus"/>
          <p:cNvPicPr/>
          <p:nvPr/>
        </p:nvPicPr>
        <p:blipFill>
          <a:blip r:embed="rId1"/>
          <a:stretch/>
        </p:blipFill>
        <p:spPr>
          <a:xfrm>
            <a:off x="684360" y="3860640"/>
            <a:ext cx="1828800" cy="1211400"/>
          </a:xfrm>
          <a:prstGeom prst="rect">
            <a:avLst/>
          </a:prstGeom>
          <a:ln w="12600">
            <a:solidFill>
              <a:srgbClr val="ff9933"/>
            </a:solidFill>
            <a:miter/>
          </a:ln>
        </p:spPr>
      </p:pic>
      <p:pic>
        <p:nvPicPr>
          <p:cNvPr id="298" name="Picture 21" descr="Картинка 107 из 767"/>
          <p:cNvPicPr/>
          <p:nvPr/>
        </p:nvPicPr>
        <p:blipFill>
          <a:blip r:embed="rId2"/>
          <a:stretch/>
        </p:blipFill>
        <p:spPr>
          <a:xfrm>
            <a:off x="1908000" y="4941720"/>
            <a:ext cx="1828800" cy="1219320"/>
          </a:xfrm>
          <a:prstGeom prst="rect">
            <a:avLst/>
          </a:prstGeom>
          <a:ln w="12600">
            <a:solidFill>
              <a:srgbClr val="ff9933"/>
            </a:solidFill>
            <a:miter/>
          </a:ln>
        </p:spPr>
      </p:pic>
      <p:pic>
        <p:nvPicPr>
          <p:cNvPr id="299" name="Picture 20" descr="fs_00000121"/>
          <p:cNvPicPr/>
          <p:nvPr/>
        </p:nvPicPr>
        <p:blipFill>
          <a:blip r:embed="rId3"/>
          <a:stretch/>
        </p:blipFill>
        <p:spPr>
          <a:xfrm>
            <a:off x="3635280" y="3500280"/>
            <a:ext cx="1001880" cy="1209960"/>
          </a:xfrm>
          <a:prstGeom prst="rect">
            <a:avLst/>
          </a:prstGeom>
          <a:ln w="12600">
            <a:solidFill>
              <a:srgbClr val="ff9933"/>
            </a:solidFill>
            <a:miter/>
          </a:ln>
        </p:spPr>
      </p:pic>
      <p:pic>
        <p:nvPicPr>
          <p:cNvPr id="300" name="Picture 17" descr="e825b79b10b5"/>
          <p:cNvPicPr/>
          <p:nvPr/>
        </p:nvPicPr>
        <p:blipFill>
          <a:blip r:embed="rId4"/>
          <a:stretch/>
        </p:blipFill>
        <p:spPr>
          <a:xfrm>
            <a:off x="6372360" y="3789360"/>
            <a:ext cx="1752480" cy="1168560"/>
          </a:xfrm>
          <a:prstGeom prst="rect">
            <a:avLst/>
          </a:prstGeom>
          <a:ln w="12600">
            <a:solidFill>
              <a:srgbClr val="ff9933"/>
            </a:solidFill>
            <a:miter/>
          </a:ln>
        </p:spPr>
      </p:pic>
      <p:pic>
        <p:nvPicPr>
          <p:cNvPr id="301" name="Picture 19" descr="867"/>
          <p:cNvPicPr/>
          <p:nvPr/>
        </p:nvPicPr>
        <p:blipFill>
          <a:blip r:embed="rId5"/>
          <a:stretch/>
        </p:blipFill>
        <p:spPr>
          <a:xfrm>
            <a:off x="4859280" y="2997360"/>
            <a:ext cx="1523880" cy="1218960"/>
          </a:xfrm>
          <a:prstGeom prst="rect">
            <a:avLst/>
          </a:prstGeom>
          <a:ln w="1260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Users\Надежда\Pictures\рыбы\таб готов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.     , р.т. стр.   , доделать таблиц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1" descr=""/>
          <p:cNvPicPr/>
          <p:nvPr/>
        </p:nvPicPr>
        <p:blipFill>
          <a:blip r:embed="rId1"/>
          <a:stretch/>
        </p:blipFill>
        <p:spPr>
          <a:xfrm>
            <a:off x="3413160" y="1006560"/>
            <a:ext cx="2560680" cy="7794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1116000" y="198900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, голова, туловище, хвост, плавники: спинной, грудные, брюшные, анальный, хвостовой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уя, слизь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ерная крышка, боковая линия, одомашненные рыбы, хищники, травояд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1" descr=""/>
          <p:cNvPicPr/>
          <p:nvPr/>
        </p:nvPicPr>
        <p:blipFill>
          <a:blip r:embed="rId1"/>
          <a:stretch/>
        </p:blipFill>
        <p:spPr>
          <a:xfrm>
            <a:off x="2639880" y="938160"/>
            <a:ext cx="3853080" cy="731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1042920" y="1844640"/>
            <a:ext cx="698508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8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нешнее строение рыб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реда обитания рыб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ассы рыб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ы те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кровы тел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начение рыб в природе и жизни челове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З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395280" y="1413000"/>
            <a:ext cx="8191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индивидуальными карточка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ерите из списка общие признаки хордовых животных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скелет наружный, хитиновый или известковый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келет внутренний, хрящевой или костный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животные имеют лучевую симметрию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животные двусторонне-симметричные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кровеносная система замкнутая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кровеносная система замкнутая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) у большинства хорошо развит головной мозг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) сердце расположено на брюшной стороне тел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Picture 4" descr="5fab754faa9cdbe78d0fede6f295479f_600"/>
          <p:cNvPicPr/>
          <p:nvPr/>
        </p:nvPicPr>
        <p:blipFill>
          <a:blip r:embed="rId1"/>
          <a:stretch/>
        </p:blipFill>
        <p:spPr>
          <a:xfrm>
            <a:off x="4716360" y="3716280"/>
            <a:ext cx="4076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Надежда\Pictures\рыбы\наука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Users\Надежда\Pictures\рыбы\внеш стр.png"/>
          <p:cNvPicPr/>
          <p:nvPr/>
        </p:nvPicPr>
        <p:blipFill>
          <a:blip r:embed="rId1"/>
          <a:stretch/>
        </p:blipFill>
        <p:spPr>
          <a:xfrm>
            <a:off x="250920" y="2060640"/>
            <a:ext cx="8677080" cy="453708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 2" descr=""/>
          <p:cNvPicPr/>
          <p:nvPr/>
        </p:nvPicPr>
        <p:blipFill>
          <a:blip r:embed="rId2"/>
          <a:stretch/>
        </p:blipFill>
        <p:spPr>
          <a:xfrm>
            <a:off x="1371600" y="944640"/>
            <a:ext cx="61628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ДРЕВНЕЙШИЕ ИСКОПАЕМЫЕ ПРЕДСТАВИТЕЛИ РЫБООБРАЗНЫХ И РЫБ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280" y="198864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Класс Бесчелюстные Панцирны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Эти рыбообразные животные жили на дне морей и океанов. Тело их было одето в прочный и тяжелый панцирь из кости. Челюстей и парных плавников у них не был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5" name="Picture 12" descr="панцирная рыба"/>
          <p:cNvPicPr/>
          <p:nvPr/>
        </p:nvPicPr>
        <p:blipFill>
          <a:blip r:embed="rId1"/>
          <a:stretch/>
        </p:blipFill>
        <p:spPr>
          <a:xfrm>
            <a:off x="1979640" y="4581360"/>
            <a:ext cx="5684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КЛАССЫ РЫБ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15964"/>
                </a:solidFill>
                <a:latin typeface="Times New Roman"/>
              </a:rPr>
              <a:t>Рыбы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1" lang="ru-RU" sz="2600" spc="-1" strike="noStrike">
                <a:solidFill>
                  <a:srgbClr val="02303e"/>
                </a:solidFill>
                <a:latin typeface="Times New Roman"/>
              </a:rPr>
              <a:t>это первичноводные животные, у которых хотя бы на ранних стадиях развития образуется хор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Times New Roman"/>
              </a:rPr>
              <a:t>У них есть внутренний скелет из кости или хряща, есть челюст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Times New Roman"/>
              </a:rPr>
              <a:t>Дышат они с помощью жаб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Times New Roman"/>
              </a:rPr>
              <a:t>Современные рыбы подразделяются на два самостоятельных класса, родства между которыми не больше, чем между млекопитающими и птиц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8:51Z</dcterms:created>
  <dc:creator>Долгорукова</dc:creator>
  <dc:description/>
  <dc:language>en-US</dc:language>
  <cp:lastModifiedBy>Иванова Н.Ю.</cp:lastModifiedBy>
  <dcterms:modified xsi:type="dcterms:W3CDTF">2018-01-25T16:02:37Z</dcterms:modified>
  <cp:revision>64</cp:revision>
  <dc:subject/>
  <dc:title>Хрящевые и костные рыбы</dc:title>
</cp:coreProperties>
</file>