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390-ED34-4276-89DE-74D746C9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B08-AB28-4C5C-9530-EEBF8EC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25F-8467-4E4B-B6D2-8B7BE407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D9F-9AAE-4755-9C22-AA739E5A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7364-054A-4A01-8BE8-F3693CA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7F18-B2CD-41C7-9E9A-27397D4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0A1-27ED-4A13-85BC-76FA70F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D0A1-47C3-4A39-83E7-E9A5F07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02BE-A235-4D99-8229-0D629BE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F47-B357-4AA0-9828-C64B3A0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2C25-371C-4F85-B2DD-81BF1A70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D98-3338-4CD4-9A6F-9344D92F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D9E2-C3CA-4086-83A5-6D305BF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CA1-7498-444D-92FB-ADB3448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905-92D1-4308-B455-843C00ED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B81-584C-4AED-812A-44610C17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5E65-92B6-4FC3-A94F-CE6BA43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F5C-ACF4-4382-9271-3D6D1727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40F-4FBC-41B7-B046-6248D894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2E3-3388-4C8D-BC3C-396FA4B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3DA-D17C-4C73-82AD-B53B1E7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A9B-4380-48CC-B742-88D11DB8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FEA-EC53-4365-A7D4-104745E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D1E-C2E4-4D3D-A771-411DBD1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E21-5EA8-4966-BDFC-F2B2DEB4B35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73EF-C41C-4466-B22A-F1FF444CB9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3564000" y="1916280"/>
            <a:ext cx="4608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шкин и матема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1600200" cy="2362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4500720" y="476280"/>
            <a:ext cx="450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униципальное образователь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реждение средня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щеобразовательная школа №8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ёлка Катасон Будённовского райо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тавропольского кр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143240" y="5661000"/>
            <a:ext cx="4676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упповой проект учащихся  7 клас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СОШ №8 п. Катасо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математики Кудрявцева Т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114920" y="834120"/>
            <a:ext cx="749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Строго симметричны, композиционно уравновешены в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трагедии не только её периферия, но и всё то, что находитс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внутри этой тройной рамы, все остальные тринадцать сцен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«Бориса Годунова»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1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нал ли Пушкин числа Фибоначчи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560" y="2786040"/>
            <a:ext cx="787572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66"/>
                </a:solidFill>
                <a:uFillTx/>
                <a:latin typeface="comic"/>
              </a:rPr>
              <a:t>ЧИСЛА ФИБОНАЧЧИ</a:t>
            </a:r>
            <a:r>
              <a:rPr b="1" i="1" lang="ru-RU" sz="2400" spc="-1" strike="noStrike">
                <a:solidFill>
                  <a:srgbClr val="003366"/>
                </a:solidFill>
                <a:latin typeface="comic"/>
              </a:rPr>
              <a:t>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лементы числовой последовательности 1,1,2,3,5,8…, в которых каждый последующий член равен сумме двух предыдущ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6048360" cy="3713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332000" y="450864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графике распределения стихотворений А.С. Пушкина по числу строк в них отчетливо выделяется несколько максимумов - наиболее часто встречающихся размеров (см. рисунок). Они явно тяго­теют к числам 5, 8, 13, 21, 34. Причем по мере увеличения размеров стихотворений эти максимумы как бы «размывают­ся», нивелируются. Максимум в области 46-55 строк выражен совсем слаб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40000" y="833040"/>
            <a:ext cx="76356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во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971640" y="2492280"/>
            <a:ext cx="779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ходе работы с источниками, проведения исследования, нами был получен следующий ответ на основополагающий вопрос: разносторонними были интересы А.С.Пушкина. Проявление закономерности золотого сечения обнаружены в поэзии А.С.Пушкина. Последние исследования показали, что закономерности золотой пропорции и чисел Фибоначчи «буквально пронизывают поэзию Пушкина, свидетельствуя, с одной стороны о высокой гармоничности стихотворных произведений, а с другой – о его гениальности с тончайшей интуицией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186280" y="941760"/>
            <a:ext cx="6363000" cy="6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ные ресур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900000" y="2852640"/>
            <a:ext cx="76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работе были использованы следующие Интернет-ресур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52"/>
          <p:cNvSpPr/>
          <p:nvPr/>
        </p:nvSpPr>
        <p:spPr>
          <a:xfrm>
            <a:off x="1258920" y="40827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http://www.litera.ru/stixiya/authors/pushkin/all.html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http://www.hronos.km.ru/biograf/pushkin.html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http://pushkin.novgorod.ru/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http://pushkin.niv.ru/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29520" y="30722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a5c0a"/>
                </a:solidFill>
                <a:latin typeface="Arial"/>
              </a:rPr>
              <a:t>Визитная карточка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втор       проект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щиеся  7 клас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ководитель проекта 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математики МО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Ш №8 Кудрявцева Т.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следования проводились в рамках учебной практ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Творчество А.С. Пушкин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5214960" y="2411280"/>
            <a:ext cx="25988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5800" y="2590920"/>
            <a:ext cx="73915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1a5c0a"/>
                </a:solidFill>
                <a:latin typeface="Times New Roman"/>
              </a:rPr>
              <a:t>Основополагающий вопрос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льзя ли реабилитировать Пушкина      как математик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5c0a"/>
                </a:solidFill>
                <a:latin typeface="Times New Roman"/>
              </a:rPr>
              <a:t>Проблемные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нал ли Пушкин числа Фибоначч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Математический анализ» художественного текста  А.С.Пушкина «Борис Годунов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57760" y="640080"/>
            <a:ext cx="7285680" cy="12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5c0a"/>
                </a:solidFill>
                <a:latin typeface="Arial"/>
              </a:rPr>
              <a:t>Основополагающий  вопрос, проблем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04760" y="437760"/>
            <a:ext cx="7196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5c0a"/>
                </a:solidFill>
                <a:latin typeface="Arial"/>
              </a:rPr>
              <a:t>Гипотеза, предмет и объект исследован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5013360"/>
            <a:ext cx="73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5c0a"/>
                </a:solidFill>
                <a:latin typeface="Times New Roman"/>
              </a:rPr>
              <a:t>Гипотеза:</a:t>
            </a: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изменилось бы в математике, если бы Пушкин стал математико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16920" y="396252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5c0a"/>
                </a:solidFill>
                <a:latin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матика в поэзии Пушк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2920" y="269244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5c0a"/>
                </a:solidFill>
                <a:latin typeface="Times New Roman"/>
              </a:rPr>
              <a:t>Объект исследования:</a:t>
            </a:r>
            <a:r>
              <a:rPr b="0" lang="ru-RU" sz="2800" spc="-1" strike="noStrike">
                <a:solidFill>
                  <a:srgbClr val="dc1e8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тво А.С Пушк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84800" y="1185840"/>
            <a:ext cx="659376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и задачи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38080" y="234936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Цель  работы: Изучение творчества великих писателей с новых пози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20160" y="3505320"/>
            <a:ext cx="780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дачи работы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учить литературу по теме проек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дготовить и провести исследование по пробле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дготовить презентационные материалы по проекту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Шарль Дюпе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ушкинист Б.В. Томашевский установил, что «философическими таблицами Пушкин назвал книгу французского математика, инженера-кораблестроителя и статистика Шарля Дюпена «Производительные и торговые силы Франции», изданную в 1827 году. В этой книге приводятся сравнительные статистические таблицы по экономике некоторых европейских стран, в том числе и России. Сохранились черновые наброски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XXIII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трофы «Евгения Онегина», в которой Дюпен явно указывается как автор таблиц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i?id=11128816&amp;tov=7"/>
          <p:cNvPicPr/>
          <p:nvPr/>
        </p:nvPicPr>
        <p:blipFill>
          <a:blip r:embed="rId2"/>
          <a:stretch/>
        </p:blipFill>
        <p:spPr>
          <a:xfrm>
            <a:off x="6012000" y="2852640"/>
            <a:ext cx="213012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лез Паска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7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 нас дошло следующее изречение Пушкина о великом французском математике и философе Б. Паскале (1623-1662): «Все, что превышает геометрию, превышает нас», - сказал Паскал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1" descr="i?id=17512545&amp;tov=5"/>
          <p:cNvPicPr/>
          <p:nvPr/>
        </p:nvPicPr>
        <p:blipFill>
          <a:blip r:embed="rId2"/>
          <a:stretch/>
        </p:blipFill>
        <p:spPr>
          <a:xfrm>
            <a:off x="4932360" y="2492280"/>
            <a:ext cx="26989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.И.Лобачевск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Бывают странные сближения», - сказал Пушкин в заметке о «Графе Нулине». Убедиться в справедливости своих слов по отношению к Великопольскому ему было не суждено. Дело в том, что через много лет после смерти Пушкина в Чукавине - родовом имении Великопольских, расположенном неподалеку от Старицы -долгое время хранились портреты Пушкина и выдающегося русского математика, основателя неевклидовой геометрии Н.И. Лобачевского (1 792-1856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000292"/>
          <p:cNvPicPr/>
          <p:nvPr/>
        </p:nvPicPr>
        <p:blipFill>
          <a:blip r:embed="rId1"/>
          <a:stretch/>
        </p:blipFill>
        <p:spPr>
          <a:xfrm>
            <a:off x="5867280" y="2924280"/>
            <a:ext cx="2376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териалы исследова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з 106 рассмотренных его стихотворений в 54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встречаются числа 3, 5, 8,13, 21, 34, 55. В 16 произведениях стихи состояли из восьми строк  (3х8, 5х8, 8х8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Обратимся к трагедии А.С.Пушкина «Борис Годунов»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«Линия ограничения» (периферия) «Бориса Годунова» построена в композиционном отношении приёмом тройного ограничения, представляет собой, если это изобразит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графически, как бы три вписанных друг в друга концентрических «круга»: «круг»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народа, замыкаемый тремя начальными и тремя конечными сценами, «круг» Бориса, замыкаемый четвёртыми сценами от начала и от конца и «круг» Самозванца, столь же равномерно замыкаемый пятыми сценами от начала и конц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4" descr="i?id=24808568&amp;tov=5"/>
          <p:cNvPicPr/>
          <p:nvPr/>
        </p:nvPicPr>
        <p:blipFill>
          <a:blip r:embed="rId2"/>
          <a:stretch/>
        </p:blipFill>
        <p:spPr>
          <a:xfrm>
            <a:off x="6300720" y="2492280"/>
            <a:ext cx="2087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3:46:40Z</dcterms:created>
  <dc:creator>Шиварев Павел Васильевич</dc:creator>
  <dc:description/>
  <dc:language>en-US</dc:language>
  <cp:lastModifiedBy>1</cp:lastModifiedBy>
  <dcterms:modified xsi:type="dcterms:W3CDTF">2025-03-30T16:53:40Z</dcterms:modified>
  <cp:revision>26</cp:revision>
  <dc:subject/>
  <dc:title>Образец презентации учащегося</dc:title>
</cp:coreProperties>
</file>