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0B1-5152-48ED-BB34-A5CADDD3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431-A311-4DDA-8696-83EAA66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C7E-4049-4909-B824-80CCAB51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159-C546-4696-B61D-8E0B659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D79F-80D5-4CDC-874D-ACA39477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3EE-4330-4732-B75E-AE206CC0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A58-74AD-464E-94D1-2854654F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952-33EE-4F68-928E-7C9BA7B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4B1-C077-43C2-BEF0-E7709EF5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4060-0A2E-417D-967A-4A0B2C5D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30F7-9D31-4F73-88A3-D5D2630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CE9-520D-488D-9298-5E153792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CD5-4747-4313-ABDA-79423A1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534-1A39-4E89-BBCE-03FB2C6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C737-300E-4973-A6FE-8A89798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AED-ED3C-4775-939C-EC207D50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5F0-0E4A-4FBF-B2DE-F3CCB815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BF1B4-1149-4133-83F2-DB658594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FF86C-B55D-4754-92C4-F3963A4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3B53A-62E6-4865-B3A9-EF605385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27E2C-7E1D-4AE2-AD09-D860C818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BCA1A-AEFC-4505-A6F0-A14BA8D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59C-CA0D-4FBF-8716-578E9D6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94F3A-4EE8-4045-BB60-3FB6EA1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E94F4-B62C-4FAD-8703-EABD5A6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2FA8F-8BE1-4D91-B8D2-972DA277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6701B-7C5A-442D-A198-6F4DF82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786FB-DA80-43A6-80DD-9262D3F4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5CB04-1593-4C83-8228-48A688A1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3CA07-F95E-4852-840F-A4C3C91C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A722-B775-4E51-9C3D-98AC8197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2595-59F6-40A9-8D9F-5E509CD6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AC03-88FB-4CB4-888F-4372BAC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994-1697-4414-8666-086B71C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3B58-0E4A-4A75-88BF-F247007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F1CF-2FBE-4137-80E7-EF604BED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7505-149C-4AEB-94CE-151637C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9131-A6E4-4FC5-8C9B-474B76A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F382-4FA7-4839-873B-2D90DBD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3E44-F974-4FF8-ADAA-8C2F43A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8016-A1A7-4A83-8118-BE28B7C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4214-5C34-44FE-A8EF-B63898FD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5BA1-13CB-4559-BA4E-04263AB9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A4852-6ACE-4117-B69E-A5196E0E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C73-F555-4A35-8856-FAF9A63A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3E8B2-0E17-42D6-BDC6-B72758A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43549-1C51-4D61-9867-F169618B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16AD1-B7F1-443C-B1B4-8A4E26F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66EC5-665D-4D00-97BE-9DE45A3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C1B9C-19D0-4E88-A57E-FB08C23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5CCC6-7FE7-45D1-A73E-2C6462A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2359A-BE26-4038-B593-6240766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26149-8735-4B6D-8CCF-EB975B6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F3B21-741F-459A-BCDE-F3D25BC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7D890-67CD-41D6-B05A-E3A68AB5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C66-DFD3-4A27-8FB3-F7F67254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C4C76-ACEC-4AC9-A7C1-9F5C3E97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408B0-1AE2-4EDC-9C61-D3DEC908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9181B-B5C5-42EC-BD96-2703A257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FC737-C40C-43C8-8934-0FC7685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1C0FE-B00A-490F-9BFA-90AA13E3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B521A-ED39-45F4-B630-733E872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8A36E-4004-4F8D-A076-1740F3AE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A78C3-50B9-40BF-9DC9-823C8AB3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E80AA-D5F6-4769-B596-4546C18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5D2E9-88AD-4A0F-8560-65C6F8C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E3F-9E2A-4BBB-BFB7-38A8956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05A69-936F-40F3-B542-B49E2298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B2B21-4DC4-4468-9760-610064B7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06107-B686-4AD7-B3DB-FE6143B4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E3652-CE19-4846-8BCA-A91DB03C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ECB9B-7198-43B8-B98B-81E910FA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3C40F-40D1-4A89-96DE-1570E0A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96617-61E1-4F46-89D7-2858B182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443B9-7BAB-48C0-8692-9327A05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12B8B-AF13-4648-BBC4-31852AB4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3A93B-7852-4031-8FDE-60BC43E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89B-49A1-412D-95F8-119249E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055CA-B584-4A0E-BBB3-FF949A8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22455-815D-4899-8EE8-1D78090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04E6F-A650-4211-8232-161680E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F2622-E512-4F34-96C9-36BBBF61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FFDA9-9FF7-4E63-929F-E3EC4DBB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4B8-0F81-45F3-9E74-1789956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3499-F8AD-45BB-B772-5160704EB2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AAF-8592-4C5A-9D22-BD6C412094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85AC-45FA-4A2B-833A-08A9364914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E18-18A6-45D8-965B-AB2439DE9D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F9F-7D4E-4435-A5AC-E66227A4AC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661-8ABA-4CF6-864D-63DC53CF07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5D2-D8B9-4D30-B0E7-0D8B30B55C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rporateeventchannel.com/dogbaskets_1867_1066043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womens.ru/uploads/posts/2009-10/1255369653_211001_max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volutsia.com/images/stories/posyda/servirovka/history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56920" y="4642920"/>
            <a:ext cx="6172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ЗДОРОВОЕ ПИТАНИ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1432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лассный час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6" descr="Картинка 9 из 284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67160" y="208080"/>
            <a:ext cx="4462200" cy="38210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7"/>
          <p:cNvSpPr/>
          <p:nvPr/>
        </p:nvSpPr>
        <p:spPr>
          <a:xfrm>
            <a:off x="4857840" y="578628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 4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тенник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714240" y="1857240"/>
            <a:ext cx="714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ЧАСТО ВЫ ЕДИТЕ СВЕЖИЕ ОВОЩИ И ФРУКТЫ, САЛАТЫ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три раза в де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три-четыре раза в недел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дин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1071720" y="214308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ЧАСТО ВЫ ЕДИТЕ ТОРТЫ C КРЕМОМ, ШОКОЛАД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раз в недел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от 1 до 4-х раз в недел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почти каждый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1071720" y="2143080"/>
            <a:ext cx="678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Ы ЛЮБИТЕ ХЛЕБ С МАСЛОМ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почти не прикасаюсь к таким бутерброд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иногда с чаем не отказываю себе в этом скором кушань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чень люблю и балую себя почти каждый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1143000" y="2428920"/>
            <a:ext cx="6357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АЗ В НЕДЕЛЮ ВЫ ЕДИТЕ РЫБУ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два-три раза и больш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один раз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дин раз и реж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000080" y="2214720"/>
            <a:ext cx="650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ЧАСТО ВЫ ЕДИТЕ ХЛЕБ И ХЛЕБОБУЛОЧНЫЕ ИЗДЕЛИЯ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раз в де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два раза в де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три раза и бол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928800" y="2143080"/>
            <a:ext cx="671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ЕЖДЕ ЧЕМ ПРИСТУПИТЬ К ПРИГОТОВЛЕНИЮ МЯСНОГО БЛЮДА, ВЫ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убираете весь жи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убираете часть ж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ставляете весь ж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71720" y="1859040"/>
            <a:ext cx="664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ЧАШЕК ЧАЯ ИЛИ КОФЕ ВЫ ВЫПИВАЕТЕ В ТЕЧЕНИЕ ОДНОГО ДНЯ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одну-д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от трех до пя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шесть и бол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428760" y="1875600"/>
            <a:ext cx="77864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21 до 24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у вас отличный ст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 для беспокойства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6-20 оч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ы умело находите золотую сере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ыборе блю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-15 оч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Пересмотрите свое отношение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ит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-11 оч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о, как вы питаетесь, из рук вон плох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того, существует серьез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асность для вашего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"/>
          <p:cNvSpPr/>
          <p:nvPr/>
        </p:nvSpPr>
        <p:spPr>
          <a:xfrm>
            <a:off x="500040" y="57168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4043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ЧТО ТАКОЕ ОЖИРЕНИЕ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71720" y="4357440"/>
            <a:ext cx="6572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чины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правильный образ жиз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правильное пита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расположенность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к ожирению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://www.medicinfonews.ru/image_news/Sep_09/child_fat.jpg"/>
          <p:cNvPicPr/>
          <p:nvPr/>
        </p:nvPicPr>
        <p:blipFill>
          <a:blip r:embed="rId1"/>
          <a:stretch/>
        </p:blipFill>
        <p:spPr>
          <a:xfrm>
            <a:off x="3071880" y="1285920"/>
            <a:ext cx="4572000" cy="2762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www.pishevayapiramida.ru/images/pic_03.jpg"/>
          <p:cNvPicPr/>
          <p:nvPr/>
        </p:nvPicPr>
        <p:blipFill>
          <a:blip r:embed="rId2"/>
          <a:stretch/>
        </p:blipFill>
        <p:spPr>
          <a:xfrm>
            <a:off x="6357960" y="43578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59292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ЭТО НЕПРАВИЛЬНО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Картинка 265 из 2322"/>
          <p:cNvPicPr/>
          <p:nvPr/>
        </p:nvPicPr>
        <p:blipFill>
          <a:blip r:embed="rId1"/>
          <a:stretch/>
        </p:blipFill>
        <p:spPr>
          <a:xfrm>
            <a:off x="285840" y="0"/>
            <a:ext cx="3857400" cy="2516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Картинка 16 из 1386"/>
          <p:cNvPicPr/>
          <p:nvPr/>
        </p:nvPicPr>
        <p:blipFill>
          <a:blip r:embed="rId2"/>
          <a:stretch/>
        </p:blipFill>
        <p:spPr>
          <a:xfrm>
            <a:off x="4929120" y="0"/>
            <a:ext cx="3714840" cy="271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Картинка 145 из 1386"/>
          <p:cNvPicPr/>
          <p:nvPr/>
        </p:nvPicPr>
        <p:blipFill>
          <a:blip r:embed="rId3"/>
          <a:stretch/>
        </p:blipFill>
        <p:spPr>
          <a:xfrm>
            <a:off x="5929200" y="3071880"/>
            <a:ext cx="2071800" cy="310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Картинка 7 из 1386"/>
          <p:cNvPicPr/>
          <p:nvPr/>
        </p:nvPicPr>
        <p:blipFill>
          <a:blip r:embed="rId4"/>
          <a:stretch/>
        </p:blipFill>
        <p:spPr>
          <a:xfrm>
            <a:off x="214200" y="3378240"/>
            <a:ext cx="39290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928600" y="285840"/>
            <a:ext cx="24001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ЦЕЛЬ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57440" y="1285920"/>
            <a:ext cx="3857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педагогических технологий и методических приёмов для демонстрации учащимся значимости их физического и психического здоровь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7" descr="Картинка 18 из 284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428840"/>
            <a:ext cx="3649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3929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ЧТОБЫ БЫТЬ СПОРТИВНЫМ, НУЖНО ПРАВИЛЬНО ПИТАТЬС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10" descr="C:\Documents and Settings\elena\Рабочий стол\фото по движению\территория здорового образа жизни\futbol.jpg"/>
          <p:cNvPicPr/>
          <p:nvPr/>
        </p:nvPicPr>
        <p:blipFill>
          <a:blip r:embed="rId1"/>
          <a:stretch/>
        </p:blipFill>
        <p:spPr>
          <a:xfrm>
            <a:off x="4357800" y="0"/>
            <a:ext cx="4047840" cy="3036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C:\Documents and Settings\elena\Рабочий стол\фото по движению\территория здорового образа жизни\beguni.jpg"/>
          <p:cNvPicPr/>
          <p:nvPr/>
        </p:nvPicPr>
        <p:blipFill>
          <a:blip r:embed="rId2"/>
          <a:stretch/>
        </p:blipFill>
        <p:spPr>
          <a:xfrm>
            <a:off x="3786120" y="3286080"/>
            <a:ext cx="4322880" cy="2865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C:\Documents and Settings\elena\Рабочий стол\фото по движению\территория здорового образа жизни\slalom.jpg"/>
          <p:cNvPicPr/>
          <p:nvPr/>
        </p:nvPicPr>
        <p:blipFill>
          <a:blip r:embed="rId3"/>
          <a:stretch/>
        </p:blipFill>
        <p:spPr>
          <a:xfrm>
            <a:off x="500040" y="2303640"/>
            <a:ext cx="3143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9000" y="4357440"/>
            <a:ext cx="5286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ДЕ УМИРАЮТ ОТ ГОЛОД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4200" y="4857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и четверти случаев смерти детей происходит в Африке и Юго-Восточной Ази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нутри стран более высокая детская смертность отмечается в сельских районах и в более бедных и менее образованных семья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Улыбающийся мальчик"/>
          <p:cNvPicPr/>
          <p:nvPr/>
        </p:nvPicPr>
        <p:blipFill>
          <a:blip r:embed="rId1"/>
          <a:stretch/>
        </p:blipFill>
        <p:spPr>
          <a:xfrm>
            <a:off x="214200" y="2857680"/>
            <a:ext cx="3095640" cy="204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Ребенок ест готовый к употреблению терапевтический продукт, Малави"/>
          <p:cNvPicPr/>
          <p:nvPr/>
        </p:nvPicPr>
        <p:blipFill>
          <a:blip r:embed="rId2"/>
          <a:stretch/>
        </p:blipFill>
        <p:spPr>
          <a:xfrm>
            <a:off x="6000840" y="0"/>
            <a:ext cx="2643120" cy="350820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8"/>
          <p:cNvSpPr/>
          <p:nvPr/>
        </p:nvSpPr>
        <p:spPr>
          <a:xfrm>
            <a:off x="88560" y="285840"/>
            <a:ext cx="384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ТО ТАКОЕ ГОЛОД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9"/>
          <p:cNvSpPr/>
          <p:nvPr/>
        </p:nvSpPr>
        <p:spPr>
          <a:xfrm>
            <a:off x="214200" y="107172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коло 150 миллионов детей в возрасте до пяти лет во всем мире страдает от тяжелой недостаточности питания, что делает их более уязвимыми перед лицом болезней и ранней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АВИЛА ЗДОРОВОГО ПИТ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блюдай режим питания!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тание в определенные часы улучшает работу органов пищевар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тайся разнообразно!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нообразие питательных веществ и витаминов обеспечивает сбалансированное поступление в твой организм необходимых вещест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щательно пережевывай пищу!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жевывание подготавливает пищу для прохождения по желудочно-кишечному тракту. Измельчённая пища легче переваривает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переедай!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С избытком пищи не справляется пищеварительная система; пища подвергается брожению и гниению, организм отравляет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пеши во время еды!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Продолжительность трапезы должна составлять не менее 20 минут при одном блюде и 30–40 – при двух. Так достигается насыщение без перееда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ЛЕЗНЫЕ И ВРЕДНЫЕ ПРОДУК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13840" y="1571400"/>
            <a:ext cx="4929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езные продукты: хлеб, макаронные изделия (из муки грубого помола), крупы, картофель, овощи, фрук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Берег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(вре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дукты): сахар, чипсы, конфеты, сладости, кондитерские издел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Картинка 23 из 257"/>
          <p:cNvPicPr/>
          <p:nvPr/>
        </p:nvPicPr>
        <p:blipFill>
          <a:blip r:embed="rId1"/>
          <a:stretch/>
        </p:blipFill>
        <p:spPr>
          <a:xfrm>
            <a:off x="5072040" y="1714680"/>
            <a:ext cx="357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ОБВЕДИ ПОЛЕЗНЫЕ ПРОДУКТЫ И ВЫЧЕРКНИ ВРЕДНЫЕ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Содержимое 2" descr=""/>
          <p:cNvPicPr/>
          <p:nvPr/>
        </p:nvPicPr>
        <p:blipFill>
          <a:blip r:embed="rId1"/>
          <a:stretch/>
        </p:blipFill>
        <p:spPr>
          <a:xfrm>
            <a:off x="420840" y="974880"/>
            <a:ext cx="813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99800" y="571680"/>
            <a:ext cx="635796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КРЕПКОГО ЗДОРОВЬЯ ТЕБЕ И ТВОИМ БЛИЗКИМ!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7" descr="Картинка 120 из 1386"/>
          <p:cNvPicPr/>
          <p:nvPr/>
        </p:nvPicPr>
        <p:blipFill>
          <a:blip r:embed="rId1"/>
          <a:stretch/>
        </p:blipFill>
        <p:spPr>
          <a:xfrm>
            <a:off x="3357720" y="2500200"/>
            <a:ext cx="4010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2920" y="4643280"/>
            <a:ext cx="8572320" cy="17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Ещё афинский философ Сократ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(470 - 399 до н.э.)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сказал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Мы живем не для того, чтобы есть, а едим для того, чтобы жить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Картинка 7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214200"/>
            <a:ext cx="4286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ВЕД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ше здоровье – самое ценное, что у вас есть. На всю жизнь человеку даётся только один организм. Если вы небрежно обращаетесь с какими-то предметами, их можно заменить, но заменить свой организм вы не смож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ногие болезни – всего лишь результат неправильного питания. Можно сохранить здоровье, если следить за характером пит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чество жизни можно улучшить благодаря здоровому питан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БЪЯСНИ ПОСЛОВИЦ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хорошо жуёт, тот долго живё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ппетит приходит во время еды. (Французская пословиц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еренное употребление пищи – мать здоровья. (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 Ломонос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-за стола нужно вставать с лёгким чувством гол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жин не нужен, был бы обе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ечневая каша – мать наша, хлебец – кормиле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714240" y="1999800"/>
            <a:ext cx="746784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ЧАСТО В ТЕЧЕНИЕ ОДНОГО ДНЯ ВЫ ПИТАЕТЕСЬ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три раза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два раза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дин раз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42600" y="2071800"/>
            <a:ext cx="74674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Ы ЗАВТРАКАЕТЕ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каждое утро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один-два раза в неделю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очень редко, почти никогд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1071720" y="1928880"/>
            <a:ext cx="650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 ЧЕГО СОСТОИТ ВАШ ЗАВТРАК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из овсяной каши и какого-нибудь напит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из жареной пищ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из одного только напи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928800" y="1928880"/>
            <a:ext cx="671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АСТО ЛИ ВЫ В ТЕЧЕНИЕ ДНЯ ПЕРЕКУСЫВАЕТЕ В ПРОМЕЖУТКАХ МЕЖДУ ЗАВТРАКОМ, ОБЕДОМ И УЖИНОМ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никог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один-два р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три раза и бол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4:31Z</dcterms:created>
  <dc:creator>Веретенникова Татьяна Николаевна</dc:creator>
  <dc:description/>
  <dc:language>en-US</dc:language>
  <cp:lastModifiedBy>user</cp:lastModifiedBy>
  <dcterms:modified xsi:type="dcterms:W3CDTF">2012-12-17T09:51:41Z</dcterms:modified>
  <cp:revision>77</cp:revision>
  <dc:subject/>
  <dc:title>Тема:</dc:title>
</cp:coreProperties>
</file>