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EFB-2770-4839-9114-9E210EC580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C17-FA13-40FC-9885-CAF426B6F47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A46-9FF5-4B52-9C97-2ADD587C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130-7A25-44DF-957D-59561DCF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C90-28F2-4016-A99B-58C8CA6C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D49-5247-48F1-967E-04EF4D06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3522-4000-4550-8579-B5A41909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353-FC10-4F74-B0C7-B4A9B838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C156-87AD-4FE6-9B0E-A73C018E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5BDE-EDDD-4D69-AC54-8955BBD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9F31-B956-4856-BC9E-2FB144D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56B-C345-4CE4-BCCA-268BDE2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43B7-C958-4B35-8095-18421E8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D2A-5EB6-4038-B371-C14C9367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1F06-0C7D-4488-86D7-7A351FD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035B-B395-4779-8033-CDFC807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76C-DCB9-4E4E-B87B-8A0179D8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2142-36D9-47E3-BC5B-C26BFE1E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D61D-3FEF-4DF1-9334-D42C2DED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9471-26E9-465B-A50E-1A883BEC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78F6-4132-4EB9-85EF-14FA7793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5268-D7BE-4A38-9CDF-679E9E3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A348-1404-4235-A66A-BB2DD38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855F-3A09-4F90-B17A-819E7AD6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8B2-AEC4-43B2-AFCD-1D5F23A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F7AC-6782-466F-AC14-BA95BFF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EFEC-0775-463B-BDC6-B19CAE0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32AD-9C30-4DCD-BA83-80200E1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022F-6C94-43B3-B397-A6489220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EF6D-47AD-406D-9396-276E1BF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FA88-C803-48FF-BA76-32367297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D069-7CA9-474F-8A35-1E4F054D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5859-781E-41EA-8378-4F2817B7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62524-3749-4FC1-A422-4878AF3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C770-9D73-4809-AEC0-CF7C2932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CE8-F000-40CD-9035-31EE20C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C8F7-C3A4-4EA6-88FF-11246600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2BBF-B902-4F56-839E-74F6FBB0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61C2-B6D4-4ACE-BC1D-5439897F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522E-9A52-4478-800F-67F9F012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F7F4-7852-4F9E-92E2-AC5A108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CA24-BEB5-489B-914E-DCC75E9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B022-E578-4AD5-B300-1157885A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8899-9897-45B2-85A5-E97C4ADD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9BDD-AF19-4568-A4B6-258D3130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1EC9-D786-4253-8F4C-851A2510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E4C-E332-4854-9E90-C6C08EF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0141-3214-4D0F-8FDF-A4220AC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2436-CE53-4FA7-96A5-64F077F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5194A-3B31-4A22-A1FA-94A78261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9D91-B786-4160-8D44-7577C5D3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215B-F3C6-43BA-9A5D-A50B0A3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4BA2-A18F-43BF-B012-07164DE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B933-E0CB-4E8A-9BEF-17A7730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69DE-48E4-4186-8920-8DA57B6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7EAD-CE4C-4AF0-912F-641DB4B8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EB12-C060-452A-9336-45F0683F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4C9-A8B1-46CB-A8CA-4F0ACCE9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3D9A-D57D-40CF-8E50-0FCFF16D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F2331-5730-4AF4-8A43-A4543346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23B27-6F64-4593-8881-9E83B316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5A89-B4F1-4750-B093-B3A33E43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9F7B-EDA6-49E2-A614-D29608CC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02E7-B586-48D0-9A80-C2A35F9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9991F-ED05-409F-A546-13AF56D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82B6-790A-4801-9105-919DC321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AB53-AE21-4268-ACA5-19BEECC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5E6E-CE18-4B7C-80F2-4893CED9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15C-E7AF-4187-9F51-4EF5C61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E0A0F-DF72-4A44-BC2E-1A05454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88AF9-35C7-4463-B892-E9B86DE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6322-AD09-4ACF-880C-645FE420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8921-6D7E-412C-87F0-537887C2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FDD16-6882-4C49-ADFE-1E88CE2F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F3C44-9CB0-4C9A-A16E-65BEC3B9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E676-9867-4CA7-9FCD-98367C1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08416-249B-4E83-BE7C-F25C814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5A37-DC5C-4D2E-8DBD-454BFEF5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5AAC-902A-4B0D-B795-F63144BF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BE2-CB72-4ACA-927A-393305D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496FD-845B-45C6-ADD9-DAAD6C0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4650-ABC8-4BCF-B8CB-9BFD9A4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8716-E194-48AA-BD28-3613C6BF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A9A1-9015-49EB-BDB3-9B34A315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45CB-89C1-4C3F-B6AC-96BEC3AF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43CC-3D8A-4F81-97CD-E409FA62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ED77-A73A-4068-BD01-8DA494FE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7212-FC52-4419-AA68-DFE5CB57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47E15-349A-4D3C-B9F5-3E7873AA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62FC7-D7F4-4203-BDDE-7FC9EC4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CA4-DAB7-4C8D-9EEA-FF0FBE8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2DD5-E16A-45B9-B246-B140A99D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E36B-B462-4D13-8541-E496B6A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B3CA-DBD8-446E-BFA3-942F92B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111D0-8145-4599-9303-1B49B9A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BA417-B649-44BD-A90A-AF7EDE4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19B1-7E63-482F-8BE2-9642EC29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3C528-6302-4027-9106-7B51F4F8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BD70-567D-4CB6-8945-9D0CE8A1141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8520" y="-15480"/>
            <a:ext cx="1162080" cy="208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F0CF-ED99-4C17-8BD3-E1F8B2A4E8A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6000" y="24120"/>
            <a:ext cx="1164960" cy="209844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2640" y="-86760"/>
            <a:ext cx="2427840" cy="2247840"/>
            <a:chOff x="7172640" y="-86760"/>
            <a:chExt cx="2427840" cy="224784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2640" y="-86760"/>
              <a:ext cx="2427840" cy="2247840"/>
              <a:chOff x="7172640" y="-86760"/>
              <a:chExt cx="2427840" cy="224784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2128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2640" y="-86760"/>
                <a:ext cx="2427840" cy="2247840"/>
                <a:chOff x="7172640" y="-86760"/>
                <a:chExt cx="2427840" cy="224784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720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552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428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106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4084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844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3801960" y="1789200"/>
            <a:ext cx="5348160" cy="5056200"/>
            <a:chOff x="3801960" y="1789200"/>
            <a:chExt cx="5348160" cy="5056200"/>
          </a:xfrm>
        </p:grpSpPr>
        <p:sp>
          <p:nvSpPr>
            <p:cNvPr id="264" name="Rectangle 3"/>
            <p:cNvSpPr/>
            <p:nvPr/>
          </p:nvSpPr>
          <p:spPr>
            <a:xfrm>
              <a:off x="671652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5" name="Oval 4"/>
            <p:cNvSpPr/>
            <p:nvPr/>
          </p:nvSpPr>
          <p:spPr>
            <a:xfrm>
              <a:off x="682596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 rot="994800">
              <a:off x="82645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773424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 rot="91200">
              <a:off x="871200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 rot="20673600">
              <a:off x="895464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 rot="20459400">
              <a:off x="546876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 rot="1114200">
              <a:off x="437832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 rot="254400">
              <a:off x="481968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636264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756108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759924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762768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485748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485748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85748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868500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869472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868500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861840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479088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465912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600048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381132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8" name="Oval 27"/>
            <p:cNvSpPr/>
            <p:nvPr/>
          </p:nvSpPr>
          <p:spPr>
            <a:xfrm>
              <a:off x="388116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89" name="Oval 28"/>
            <p:cNvSpPr/>
            <p:nvPr/>
          </p:nvSpPr>
          <p:spPr>
            <a:xfrm>
              <a:off x="380196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0" name="Oval 29"/>
            <p:cNvSpPr/>
            <p:nvPr/>
          </p:nvSpPr>
          <p:spPr>
            <a:xfrm>
              <a:off x="387648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94360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860904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672912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680868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5" name="AutoShape 34"/>
            <p:cNvSpPr/>
            <p:nvPr/>
          </p:nvSpPr>
          <p:spPr>
            <a:xfrm>
              <a:off x="670068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683712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661968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9D8C-B308-4756-BD3B-3B2B11A09E1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E915-42A0-4BE8-92CA-80CE02440C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383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4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5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387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388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389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392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393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396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399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405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408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41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414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417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42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423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426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42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43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435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43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4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444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447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45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453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7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45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461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464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467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470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473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476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479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482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485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488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0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491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492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501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6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7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8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9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0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1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2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3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4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D04-16B9-45F5-B4B1-64D96C24FBE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5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5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6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Group 18"/>
          <p:cNvGrpSpPr/>
          <p:nvPr/>
        </p:nvGrpSpPr>
        <p:grpSpPr>
          <a:xfrm>
            <a:off x="7798320" y="4318920"/>
            <a:ext cx="978840" cy="1158840"/>
            <a:chOff x="7798320" y="4318920"/>
            <a:chExt cx="978840" cy="1158840"/>
          </a:xfrm>
        </p:grpSpPr>
        <p:sp>
          <p:nvSpPr>
            <p:cNvPr id="568" name="Freeform 19"/>
            <p:cNvSpPr/>
            <p:nvPr/>
          </p:nvSpPr>
          <p:spPr>
            <a:xfrm rot="7320000">
              <a:off x="779292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Freeform 20"/>
            <p:cNvSpPr/>
            <p:nvPr/>
          </p:nvSpPr>
          <p:spPr>
            <a:xfrm rot="7320000">
              <a:off x="776844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1" name="Group 22"/>
            <p:cNvGrpSpPr/>
            <p:nvPr/>
          </p:nvGrpSpPr>
          <p:grpSpPr>
            <a:xfrm>
              <a:off x="7798320" y="4318920"/>
              <a:ext cx="978840" cy="1158840"/>
              <a:chOff x="7798320" y="4318920"/>
              <a:chExt cx="978840" cy="1158840"/>
            </a:xfrm>
          </p:grpSpPr>
          <p:sp>
            <p:nvSpPr>
              <p:cNvPr id="572" name="Freeform 23"/>
              <p:cNvSpPr/>
              <p:nvPr/>
            </p:nvSpPr>
            <p:spPr>
              <a:xfrm rot="7320000">
                <a:off x="791784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Freeform 24"/>
              <p:cNvSpPr/>
              <p:nvPr/>
            </p:nvSpPr>
            <p:spPr>
              <a:xfrm rot="7320000">
                <a:off x="775800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Freeform 25"/>
              <p:cNvSpPr/>
              <p:nvPr/>
            </p:nvSpPr>
            <p:spPr>
              <a:xfrm rot="7320000">
                <a:off x="803628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Freeform 26"/>
              <p:cNvSpPr/>
              <p:nvPr/>
            </p:nvSpPr>
            <p:spPr>
              <a:xfrm rot="7320000">
                <a:off x="851580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Freeform 27"/>
              <p:cNvSpPr/>
              <p:nvPr/>
            </p:nvSpPr>
            <p:spPr>
              <a:xfrm rot="7320000">
                <a:off x="815436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DBFC-BD3E-4EDB-B1A4-39F6AA279A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3801960" y="1789200"/>
            <a:ext cx="5348160" cy="5056200"/>
            <a:chOff x="3801960" y="1789200"/>
            <a:chExt cx="5348160" cy="5056200"/>
          </a:xfrm>
        </p:grpSpPr>
        <p:sp>
          <p:nvSpPr>
            <p:cNvPr id="621" name="Rectangle 3"/>
            <p:cNvSpPr/>
            <p:nvPr/>
          </p:nvSpPr>
          <p:spPr>
            <a:xfrm>
              <a:off x="671652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Oval 4"/>
            <p:cNvSpPr/>
            <p:nvPr/>
          </p:nvSpPr>
          <p:spPr>
            <a:xfrm>
              <a:off x="682596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Rectangle 5"/>
            <p:cNvSpPr/>
            <p:nvPr/>
          </p:nvSpPr>
          <p:spPr>
            <a:xfrm rot="994800">
              <a:off x="826452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Freeform 6"/>
            <p:cNvSpPr/>
            <p:nvPr/>
          </p:nvSpPr>
          <p:spPr>
            <a:xfrm>
              <a:off x="773424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Rectangle 7"/>
            <p:cNvSpPr/>
            <p:nvPr/>
          </p:nvSpPr>
          <p:spPr>
            <a:xfrm rot="91200">
              <a:off x="871200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Rectangle 8"/>
            <p:cNvSpPr/>
            <p:nvPr/>
          </p:nvSpPr>
          <p:spPr>
            <a:xfrm rot="20673600">
              <a:off x="895464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Rectangle 9"/>
            <p:cNvSpPr/>
            <p:nvPr/>
          </p:nvSpPr>
          <p:spPr>
            <a:xfrm rot="20459400">
              <a:off x="546876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Rectangle 10"/>
            <p:cNvSpPr/>
            <p:nvPr/>
          </p:nvSpPr>
          <p:spPr>
            <a:xfrm rot="1114200">
              <a:off x="437832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Rectangle 11"/>
            <p:cNvSpPr/>
            <p:nvPr/>
          </p:nvSpPr>
          <p:spPr>
            <a:xfrm rot="254400">
              <a:off x="481968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>
              <a:off x="636264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Freeform 13"/>
            <p:cNvSpPr/>
            <p:nvPr/>
          </p:nvSpPr>
          <p:spPr>
            <a:xfrm>
              <a:off x="756108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Freeform 14"/>
            <p:cNvSpPr/>
            <p:nvPr/>
          </p:nvSpPr>
          <p:spPr>
            <a:xfrm>
              <a:off x="759924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>
              <a:off x="762768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Freeform 16"/>
            <p:cNvSpPr/>
            <p:nvPr/>
          </p:nvSpPr>
          <p:spPr>
            <a:xfrm>
              <a:off x="485748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Freeform 17"/>
            <p:cNvSpPr/>
            <p:nvPr/>
          </p:nvSpPr>
          <p:spPr>
            <a:xfrm>
              <a:off x="485748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Freeform 18"/>
            <p:cNvSpPr/>
            <p:nvPr/>
          </p:nvSpPr>
          <p:spPr>
            <a:xfrm>
              <a:off x="485748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>
              <a:off x="868500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>
              <a:off x="869472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>
              <a:off x="868500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Freeform 22"/>
            <p:cNvSpPr/>
            <p:nvPr/>
          </p:nvSpPr>
          <p:spPr>
            <a:xfrm>
              <a:off x="861840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Freeform 23"/>
            <p:cNvSpPr/>
            <p:nvPr/>
          </p:nvSpPr>
          <p:spPr>
            <a:xfrm>
              <a:off x="479088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Freeform 24"/>
            <p:cNvSpPr/>
            <p:nvPr/>
          </p:nvSpPr>
          <p:spPr>
            <a:xfrm>
              <a:off x="465912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Freeform 25"/>
            <p:cNvSpPr/>
            <p:nvPr/>
          </p:nvSpPr>
          <p:spPr>
            <a:xfrm>
              <a:off x="600048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381132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Oval 27"/>
            <p:cNvSpPr/>
            <p:nvPr/>
          </p:nvSpPr>
          <p:spPr>
            <a:xfrm>
              <a:off x="388116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Oval 28"/>
            <p:cNvSpPr/>
            <p:nvPr/>
          </p:nvSpPr>
          <p:spPr>
            <a:xfrm>
              <a:off x="380196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Oval 29"/>
            <p:cNvSpPr/>
            <p:nvPr/>
          </p:nvSpPr>
          <p:spPr>
            <a:xfrm>
              <a:off x="387648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Freeform 30"/>
            <p:cNvSpPr/>
            <p:nvPr/>
          </p:nvSpPr>
          <p:spPr>
            <a:xfrm>
              <a:off x="594360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Freeform 31"/>
            <p:cNvSpPr/>
            <p:nvPr/>
          </p:nvSpPr>
          <p:spPr>
            <a:xfrm>
              <a:off x="860904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Rectangle 32"/>
            <p:cNvSpPr/>
            <p:nvPr/>
          </p:nvSpPr>
          <p:spPr>
            <a:xfrm>
              <a:off x="672912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Rectangle 33"/>
            <p:cNvSpPr/>
            <p:nvPr/>
          </p:nvSpPr>
          <p:spPr>
            <a:xfrm>
              <a:off x="680868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AutoShape 34"/>
            <p:cNvSpPr/>
            <p:nvPr/>
          </p:nvSpPr>
          <p:spPr>
            <a:xfrm>
              <a:off x="670068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Freeform 35"/>
            <p:cNvSpPr/>
            <p:nvPr/>
          </p:nvSpPr>
          <p:spPr>
            <a:xfrm>
              <a:off x="683712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Freeform 36"/>
            <p:cNvSpPr/>
            <p:nvPr/>
          </p:nvSpPr>
          <p:spPr>
            <a:xfrm>
              <a:off x="661968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E1A-3B3C-46B9-8FF3-935FC705CCC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8DB-6007-4BE8-9536-CD7428EEC1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xiconoptic.com/" TargetMode="External"/><Relationship Id="rId2" Type="http://schemas.openxmlformats.org/officeDocument/2006/relationships/hyperlink" Target="http://www.kleo.ru/" TargetMode="External"/><Relationship Id="rId3" Type="http://schemas.openxmlformats.org/officeDocument/2006/relationships/hyperlink" Target="http://www.labstend.ru/" TargetMode="External"/><Relationship Id="rId4" Type="http://schemas.openxmlformats.org/officeDocument/2006/relationships/hyperlink" Target="http://www.1september.ru/" TargetMode="Externa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Урок по теме «Геометрическая оптика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Борчаева Фатима Муратовна-учитель физики МКОУ «СОШ№27»г.Нальчик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линза двояковыпуклая, то он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 рассеивает световые лу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не изменяет напр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остранения световых луч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 собирает световые лу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7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оположник корпускулярной теории све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 Гюйген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  Ньют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.  Юн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4" descr="10-02"/>
          <p:cNvPicPr/>
          <p:nvPr/>
        </p:nvPicPr>
        <p:blipFill>
          <a:blip r:embed="rId1"/>
          <a:stretch/>
        </p:blipFill>
        <p:spPr>
          <a:xfrm>
            <a:off x="5435640" y="4005360"/>
            <a:ext cx="273672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зучение нового материа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ёт природа по своим закон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 изучаем их, стремясь поня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очень важно знать и понима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б эти знанья в жизни применя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Преломление параллельного пучка лучей "/>
          <p:cNvPicPr/>
          <p:nvPr/>
        </p:nvPicPr>
        <p:blipFill>
          <a:blip r:embed="rId1"/>
          <a:stretch/>
        </p:blipFill>
        <p:spPr>
          <a:xfrm>
            <a:off x="468360" y="1413000"/>
            <a:ext cx="8353440" cy="45669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5"/>
          <p:cNvSpPr/>
          <p:nvPr/>
        </p:nvSpPr>
        <p:spPr>
          <a:xfrm>
            <a:off x="539640" y="404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вторим основные точки, линии и плоскости линзы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8" descr="optic4"/>
          <p:cNvPicPr/>
          <p:nvPr/>
        </p:nvPicPr>
        <p:blipFill>
          <a:blip r:embed="rId1"/>
          <a:srcRect l="1630" t="15805" r="2389" b="50269"/>
          <a:stretch/>
        </p:blipFill>
        <p:spPr>
          <a:xfrm>
            <a:off x="468360" y="333360"/>
            <a:ext cx="8351640" cy="57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optic4"/>
          <p:cNvPicPr/>
          <p:nvPr/>
        </p:nvPicPr>
        <p:blipFill>
          <a:blip r:embed="rId1"/>
          <a:srcRect l="1965" t="50333" r="2054" b="1807"/>
          <a:stretch/>
        </p:blipFill>
        <p:spPr>
          <a:xfrm>
            <a:off x="468360" y="260280"/>
            <a:ext cx="8280360" cy="58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так, основное свойство линз – способность давать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ображения предмет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Изображения бывают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ямыми и перевернутыми, действительными и мнимыми, увеличенными и уменьшенным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5" descr="linz3"/>
          <p:cNvPicPr/>
          <p:nvPr/>
        </p:nvPicPr>
        <p:blipFill>
          <a:blip r:embed="rId1"/>
          <a:stretch/>
        </p:blipFill>
        <p:spPr>
          <a:xfrm>
            <a:off x="826920" y="4005360"/>
            <a:ext cx="6607440" cy="170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Изображение А</a:t>
            </a:r>
            <a:r>
              <a:rPr b="1" lang="ru-RU" sz="3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ru-RU" sz="3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является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1. действительным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2. уменьшенным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3. перевёрнутым.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Если линза рассеивающая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77" name="Picture 5" descr="linza"/>
          <p:cNvPicPr/>
          <p:nvPr/>
        </p:nvPicPr>
        <p:blipFill>
          <a:blip r:embed="rId1"/>
          <a:srcRect l="0" t="48426" r="51826" b="0"/>
          <a:stretch/>
        </p:blipFill>
        <p:spPr>
          <a:xfrm>
            <a:off x="2411280" y="3295800"/>
            <a:ext cx="3456000" cy="27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то изображение свеч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1. прямое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2. мнимое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3. уменьшенное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79" name="Picture 4" descr="1_2"/>
          <p:cNvPicPr/>
          <p:nvPr/>
        </p:nvPicPr>
        <p:blipFill>
          <a:blip r:embed="rId1"/>
          <a:stretch/>
        </p:blipFill>
        <p:spPr>
          <a:xfrm>
            <a:off x="2195640" y="3062160"/>
            <a:ext cx="51847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ьзуя предложенное вам оборудование получите изображение спирали лампы на экране и охарактеризуйте ег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ройте изображение предмета, находящегося между фокусом и собирающей линз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характеризуйте изображение предмета, находящегося за двойным фокусом рассеивающей линзы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1116000" y="333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Закрепление изученного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1692720" y="522936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Подведение итогов урока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1. выучить записи;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2. прочитать параграфы №94,95;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3. решить задачи из сборника задач №№1436-1442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       НАУКУ ВСЁ ГЛУБЖЕ       ПОСТИГНУТЬ СТРЕМИСЬ!!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             До свидания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693440" y="259920"/>
            <a:ext cx="456588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развивать умение и навыки строить изображение в линзах, решать задач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учить умению характеризовать полученное изображение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родолжить формирование и развитие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умений планировать и проводить эксперимент, анализировать полученные результаты, делать выводы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коммуникативных навыков, способствующих  развитию умений работать в группе, вести дискуссию, отстаивать свою точку зрен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) интереса к изучению физик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axiconoptic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kleo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labstend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www.1septemb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611280" y="404640"/>
            <a:ext cx="61308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c00"/>
                </a:solidFill>
                <a:latin typeface="Garamond"/>
              </a:rPr>
              <a:t>Использованные ресурсы</a:t>
            </a:r>
            <a:endParaRPr b="0" lang="en-US" sz="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771640" y="404640"/>
            <a:ext cx="28195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Аннотац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чаева Фатима Муратовна, учитель физики МКОУ «СОШ №27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на тему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«Геометрическая оптика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вляется методической поддержкой к изучаемой теме дл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щихся 8-х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tima.borchaeva@mail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Мультимедийная тех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источники то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обирающие линз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экра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клю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лампочки на подставк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соединительные пров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од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восстановить опорный конспект по вводному уроку  «Линзы» и рассказать ег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вставить недостающее в следующих выражения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4" descr="nl"/>
          <p:cNvPicPr/>
          <p:nvPr/>
        </p:nvPicPr>
        <p:blipFill>
          <a:blip r:embed="rId1"/>
          <a:stretch/>
        </p:blipFill>
        <p:spPr>
          <a:xfrm>
            <a:off x="6589800" y="2349360"/>
            <a:ext cx="2120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353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нза-это…,ограниченное двум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ферическими поверхностям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линза    ,то она называется…,а если  ,  то-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достатками линз являются…и … аберр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кус линзы действительный, если она…;мнимый, если-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о «линза» в переводе с немецкого означает 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бочных оптических осей у линзы может быть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8532720" y="1341360"/>
            <a:ext cx="216000" cy="574920"/>
          </a:xfrm>
          <a:prstGeom prst="flowChartDelay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AutoShape 4"/>
          <p:cNvSpPr/>
          <p:nvPr/>
        </p:nvSpPr>
        <p:spPr>
          <a:xfrm>
            <a:off x="3132000" y="1484280"/>
            <a:ext cx="28764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ловие  «тонкой» линзы-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кальная плоскость расположена… к…и проходит через …линз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бы  в темной комнате отличить собирающую и рассеивающую линзы, надо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 тонкие» линзы изображаются на рисунках…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метрическая  оптика-это раздел оптики, изучающий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252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решить задач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33480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жидкость с показателем преломления 1,8 помещён точечный источник света. На каком наибольшем расстоянии Н над источником надо поместить диск диаметром 5см., чтобы свет не вышел из жидкости в возду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33480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уч света входит в стеклянную призму под углом 30 градусов и выходит из призмы в воздух под углом 60градусов,причём,пройдя призму, отклоняется от первоначального направления на угол 45градусов.Найдите преломляющий угол приз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85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arenR" startAt="4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ово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птика» в переводе с греческого озна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наука о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 наука о зр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 наука о зв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какое время солнечного летнего дня лучше  поливать клубни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у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в пол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веч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зу, изображённую на рис.                                    можно считать тонко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det14b"/>
          <p:cNvPicPr/>
          <p:nvPr/>
        </p:nvPicPr>
        <p:blipFill>
          <a:blip r:embed="rId1"/>
          <a:stretch/>
        </p:blipFill>
        <p:spPr>
          <a:xfrm>
            <a:off x="6229440" y="2637000"/>
            <a:ext cx="20937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9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 именем какого ученого связано второе рождение подзорной трубы и её превращение в телеско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23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 Евкли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. Снеллиуса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. Галиле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19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е эти приборы объединяет наличие в ни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. собирающих лин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. стеклянных треугольных призм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.  рассеивающих лин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4" descr="12816"/>
          <p:cNvPicPr/>
          <p:nvPr/>
        </p:nvPicPr>
        <p:blipFill>
          <a:blip r:embed="rId1"/>
          <a:srcRect l="0" t="9491" r="0" b="14521"/>
          <a:stretch/>
        </p:blipFill>
        <p:spPr>
          <a:xfrm>
            <a:off x="3348000" y="2924280"/>
            <a:ext cx="2276640" cy="17287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6450"/>
          <p:cNvPicPr/>
          <p:nvPr/>
        </p:nvPicPr>
        <p:blipFill>
          <a:blip r:embed="rId2"/>
          <a:stretch/>
        </p:blipFill>
        <p:spPr>
          <a:xfrm>
            <a:off x="6300720" y="2924280"/>
            <a:ext cx="1806480" cy="18050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7425"/>
          <p:cNvPicPr/>
          <p:nvPr/>
        </p:nvPicPr>
        <p:blipFill>
          <a:blip r:embed="rId3"/>
          <a:stretch/>
        </p:blipFill>
        <p:spPr>
          <a:xfrm>
            <a:off x="900000" y="2852640"/>
            <a:ext cx="17654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6:06:43Z</dcterms:created>
  <dc:creator>user</dc:creator>
  <dc:description/>
  <dc:language>en-US</dc:language>
  <cp:lastModifiedBy>User</cp:lastModifiedBy>
  <dcterms:modified xsi:type="dcterms:W3CDTF">2018-05-18T14:08:46Z</dcterms:modified>
  <cp:revision>23</cp:revision>
  <dc:subject/>
  <dc:title>Урок по теме «Геометрическая оптика»</dc:title>
</cp:coreProperties>
</file>