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DCB-6D6F-4E4C-8914-CB4D75D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183-6BF3-48AF-AB5C-AA37C9FE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B5B-B9C3-483D-B07A-69A5FEA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F8D-218A-4C5F-8840-5635BA33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735A-B1F5-49CB-8109-B2B3705B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9BA3-6319-4B60-8EA2-3BD6E5B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0938-4FED-4825-92F9-9C90B8C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DC0-C042-410A-A59F-1664CC76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ACA-732B-4E4D-B749-E1B2C14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FF12-B84D-4992-A395-329FCAA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5CB1-6739-4681-A6FB-7B40B41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190-D986-49BE-9935-BA1CE92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4B11-3D22-4FE5-8832-D9D30D8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B078-2976-4B16-8503-B30A94D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2BD3-DEF8-4E81-8430-D4ED41E4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2FE-B3A3-4CF6-8EFC-F7D8D5C4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9BC-A17A-423E-9EA9-5AFC7CB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013-5AFD-4AB3-BF86-548C627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670-4970-48E4-BDDB-3F48979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8DC-C5FB-4419-981C-513AA08C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E33-5527-47A0-A813-45EAC00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872-BF34-40F5-83D5-A352B30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D4B-3D93-4329-B07B-86611BF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C4C-3446-4D95-8FAB-4B45D5A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369-9187-4103-A1A5-F29197FB5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2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25E-23FA-49EE-A6F2-0A23F35E722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Спирты. </a:t>
            </a:r>
            <a:br>
              <a:rPr sz="4400"/>
            </a:b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Их значение в биологии и медицине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40200" y="5548320"/>
            <a:ext cx="249084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К №5 ОП №1,ОП №3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Эрендженова Н.Г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устафаева М.Г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4" descr="Копия 3"/>
          <p:cNvPicPr/>
          <p:nvPr/>
        </p:nvPicPr>
        <p:blipFill>
          <a:blip r:embed="rId1"/>
          <a:stretch/>
        </p:blipFill>
        <p:spPr>
          <a:xfrm>
            <a:off x="2484360" y="4437000"/>
            <a:ext cx="27003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849600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имические свойства спиртов определяются присутствием в их молекулах гидроксильной групп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вязи С-О и О- Н сильно полярны и способны к разрыв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азличают два основных типа реакций спиртов с участием функциональной группы 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акции с разрывом связи О-Н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здесь проявляются слабые кислотные свойства спиртов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заимодействие спиртов с щелочными и щелочноземельными металлами с образованием алкоголятов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еакции спиртов с органическими и минеральны­ми кислотами с образованием сложных эфиров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кисление спиртов под действием дихромата или перманганата калия до карбонильных соединен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орость реакций, при которых разрывается связь О-Н, уменьшается в ряду: первичные спирты &gt; вторичные &gt; третичны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04640"/>
            <a:ext cx="7772400" cy="61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акции сопровождающиеся разрывом связи                                   С-О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здесь проявляются слабые основные свойства спиртов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внутримолекулярная дегидратация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 образованием алкено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межмолекулярная дегидратация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: с образованием простых эфиро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взаимодействие с галогеноводородами и их концентрированными растворами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 с образованием алкилгалогенидов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орость реакций, при которых разрывается связь С-О, уменьшается в ряду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етичные спирты &gt; вторичные &gt; первичны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пирты являю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мфотерными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единения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0160" y="90756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слотные свойства спиртов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выражены очень слабо. Низшие спирты бурно реагируют со щелочными металл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С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+ 2K→ 2С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+ 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↑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 увеличением длины углеводородного радикала скорость этой реакции замедляетс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01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акции с разрывом связи О-Н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619280" y="2101680"/>
            <a:ext cx="684036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 присутствии следов влаги соли спиртов (алкоголяты) разлагаются до исходных спиртов: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+ 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О → С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+ KОН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Это доказывает, что спирты — более слабые кислоты, чем вода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42920" y="620640"/>
            <a:ext cx="8101080" cy="64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 Реакция этерификации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ри действии на спирты  органических кислот и минеральных кислот образуются сложные эфир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Образование сложных эфиров протекает по механизму нуклеофильного присоединения-отщепления :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+ С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ОН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     С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ОС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илацетат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34" name="Прямая со стрелкой 3"/>
          <p:cNvCxnSpPr/>
          <p:nvPr/>
        </p:nvCxnSpPr>
        <p:spPr>
          <a:xfrm>
            <a:off x="5076720" y="4149360"/>
            <a:ext cx="50400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  <p:cxnSp>
        <p:nvCxnSpPr>
          <p:cNvPr id="135" name="Прямая со стрелкой 8"/>
          <p:cNvCxnSpPr/>
          <p:nvPr/>
        </p:nvCxnSpPr>
        <p:spPr>
          <a:xfrm flipH="1">
            <a:off x="5218920" y="4292280"/>
            <a:ext cx="36108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2286000" y="275904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Отличительной особенностью  этой реакций является то, что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атом водорода отщепляется от спирта, а группа ОН</a:t>
            </a:r>
            <a:r>
              <a:rPr b="0" i="1" lang="ru-RU" sz="1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- от кислоты.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(Установлено экспериментально методом "меченых атомов" )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016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. Реакции окисле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Спирты окисляются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под действием дихромата или перманганата калия до карбонильных соединений. Первичные спирты окисляются в альдегиды, которые, в свою очередь, могут окисляться в карбоновые кислоты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[O]                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]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-CH</a:t>
            </a:r>
            <a:r>
              <a:rPr b="1" lang="en-US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-OH 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→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  R-CH=O 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   → 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-COOH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спирт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альдегид          карбонова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кислот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52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торичные спирты окисляются в кетоны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ретичные спирты могут окисляться только с разрывом С-С связ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9" name="Picture 15" descr="image004"/>
          <p:cNvPicPr/>
          <p:nvPr/>
        </p:nvPicPr>
        <p:blipFill>
          <a:blip r:embed="rId1"/>
          <a:stretch/>
        </p:blipFill>
        <p:spPr>
          <a:xfrm>
            <a:off x="1547640" y="2924280"/>
            <a:ext cx="72723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47640" y="84420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4. Реакции горение спиртов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547640" y="2238840"/>
            <a:ext cx="759636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          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С</a:t>
            </a:r>
            <a:r>
              <a:rPr b="1" lang="ru-RU" sz="3200" spc="-1" strike="noStrike" baseline="-30000">
                <a:solidFill>
                  <a:srgbClr val="336699"/>
                </a:solidFill>
                <a:latin typeface="Arial"/>
                <a:ea typeface="Calibri"/>
              </a:rPr>
              <a:t>2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Н</a:t>
            </a:r>
            <a:r>
              <a:rPr b="1" lang="ru-RU" sz="3200" spc="-1" strike="noStrike" baseline="-30000">
                <a:solidFill>
                  <a:srgbClr val="336699"/>
                </a:solidFill>
                <a:latin typeface="Arial"/>
                <a:ea typeface="Calibri"/>
              </a:rPr>
              <a:t>5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ОН+ 3О</a:t>
            </a:r>
            <a:r>
              <a:rPr b="1" lang="ru-RU" sz="3200" spc="-1" strike="noStrike" baseline="-30000">
                <a:solidFill>
                  <a:srgbClr val="336699"/>
                </a:solidFill>
                <a:latin typeface="Arial"/>
                <a:ea typeface="Calibri"/>
              </a:rPr>
              <a:t>2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              2СО</a:t>
            </a:r>
            <a:r>
              <a:rPr b="1" lang="ru-RU" sz="3200" spc="-1" strike="noStrike" baseline="-30000">
                <a:solidFill>
                  <a:srgbClr val="336699"/>
                </a:solidFill>
                <a:latin typeface="Arial"/>
                <a:ea typeface="Calibri"/>
              </a:rPr>
              <a:t>2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 + 3Н</a:t>
            </a:r>
            <a:r>
              <a:rPr b="1" lang="ru-RU" sz="3200" spc="-1" strike="noStrike" baseline="-30000">
                <a:solidFill>
                  <a:srgbClr val="336699"/>
                </a:solidFill>
                <a:latin typeface="Arial"/>
                <a:ea typeface="Calibri"/>
              </a:rPr>
              <a:t>2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  <a:ea typeface="Calibri"/>
              </a:rPr>
              <a:t>О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42" name="Прямая со стрелкой 5"/>
          <p:cNvCxnSpPr/>
          <p:nvPr/>
        </p:nvCxnSpPr>
        <p:spPr>
          <a:xfrm>
            <a:off x="4500720" y="2997000"/>
            <a:ext cx="100872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акции с разрывом связ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-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Реакции дегидратации протекают при нагревании спиртов с водоотнимающими веществами. При сильном нагревании происходи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нутримолекулярная дегидратация с образованием алкенов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O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,t &gt;140°С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ОН                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         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СН=С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+ Н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45" name="Прямая со стрелкой 7"/>
          <p:cNvCxnSpPr/>
          <p:nvPr/>
        </p:nvCxnSpPr>
        <p:spPr>
          <a:xfrm>
            <a:off x="5003640" y="4292280"/>
            <a:ext cx="209016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</p:spTree>
  </p:cSld>
  <p:transition spd="slow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51280" y="247680"/>
            <a:ext cx="4968720" cy="20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Спирты</a:t>
            </a:r>
            <a:endParaRPr b="0" lang="en-US" sz="8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3284280"/>
            <a:ext cx="7018200" cy="25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 algn="ctr"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99"/>
                </a:solidFill>
                <a:latin typeface="Arial"/>
              </a:rPr>
              <a:t>Предельные одноатомные спирты</a:t>
            </a:r>
            <a:endParaRPr b="1" lang="en-US" sz="7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3" name="Object 12"/>
          <p:cNvGraphicFramePr/>
          <p:nvPr/>
        </p:nvGraphicFramePr>
        <p:xfrm>
          <a:off x="1835280" y="1557360"/>
          <a:ext cx="172692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557360"/>
                    <a:ext cx="172692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1619280" y="1700280"/>
            <a:ext cx="691344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ри более слабом нагревании происходит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ежмолекулярная дегидратация с образованием простых эфиров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66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,t&lt; 1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0°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</a:t>
            </a:r>
            <a:br>
              <a:rPr sz="2400"/>
            </a:b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2CH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-CH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-OH            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          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-O-C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O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47" name="Прямая со стрелкой 5"/>
          <p:cNvCxnSpPr/>
          <p:nvPr/>
        </p:nvCxnSpPr>
        <p:spPr>
          <a:xfrm>
            <a:off x="4787640" y="3933360"/>
            <a:ext cx="280908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547640" y="1413000"/>
            <a:ext cx="698508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Спирты обратимо реагируют с галогеноводородными кислотами (</a:t>
            </a:r>
            <a:r>
              <a:rPr b="1" i="1" lang="ru-RU" sz="3200" spc="-1" strike="noStrike">
                <a:solidFill>
                  <a:srgbClr val="336699"/>
                </a:solidFill>
                <a:latin typeface="Times New Roman"/>
              </a:rPr>
              <a:t> проявляю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лабые основные свойства спиртов)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 + HCl                   RCl + Н</a:t>
            </a:r>
            <a:r>
              <a:rPr b="1" lang="ru-RU" sz="32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ичные вторичные третичные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величение скорости реакции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49" name="Прямая со стрелкой 3"/>
          <p:cNvCxnSpPr/>
          <p:nvPr/>
        </p:nvCxnSpPr>
        <p:spPr>
          <a:xfrm>
            <a:off x="3924360" y="3573000"/>
            <a:ext cx="129600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  <p:cxnSp>
        <p:nvCxnSpPr>
          <p:cNvPr id="150" name="Прямая со стрелкой 5"/>
          <p:cNvCxnSpPr/>
          <p:nvPr/>
        </p:nvCxnSpPr>
        <p:spPr>
          <a:xfrm flipH="1">
            <a:off x="3924000" y="3644640"/>
            <a:ext cx="1296000" cy="1080"/>
          </a:xfrm>
          <a:prstGeom prst="straightConnector1">
            <a:avLst/>
          </a:prstGeom>
          <a:ln w="9360">
            <a:solidFill>
              <a:srgbClr val="336699"/>
            </a:solidFill>
            <a:miter/>
            <a:tailEnd len="med" type="arrow" w="med"/>
          </a:ln>
        </p:spPr>
      </p:cxnSp>
      <p:sp>
        <p:nvSpPr>
          <p:cNvPr id="151" name="Стрелка вправо 6"/>
          <p:cNvSpPr/>
          <p:nvPr/>
        </p:nvSpPr>
        <p:spPr>
          <a:xfrm>
            <a:off x="1841400" y="4770360"/>
            <a:ext cx="6618240" cy="486000"/>
          </a:xfrm>
          <a:prstGeom prst="rightArrow">
            <a:avLst>
              <a:gd name="adj1" fmla="val 50000"/>
              <a:gd name="adj2" fmla="val 49869"/>
            </a:avLst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луче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280" y="1052280"/>
            <a:ext cx="759492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 Самый общий способ получения спиртов, имеющий промышленное значение, —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идратация алкенов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Реакция идет при пропускании алкена с парами воды над фосфорно­кислым катализатором:   H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PO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1f995d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1f995d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 + Н</a:t>
            </a:r>
            <a:r>
              <a:rPr b="1" lang="ru-RU" sz="2400" spc="-1" strike="noStrike" baseline="-25000">
                <a:solidFill>
                  <a:srgbClr val="1f995d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О    →   СН</a:t>
            </a:r>
            <a:r>
              <a:rPr b="1" lang="ru-RU" sz="2400" spc="-1" strike="noStrike" baseline="-25000">
                <a:solidFill>
                  <a:srgbClr val="1f995d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—СН</a:t>
            </a:r>
            <a:r>
              <a:rPr b="1" lang="ru-RU" sz="2400" spc="-1" strike="noStrike" baseline="-25000">
                <a:solidFill>
                  <a:srgbClr val="1f995d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1f995d"/>
                </a:solidFill>
                <a:latin typeface="Arial"/>
              </a:rPr>
              <a:t>—ОН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з этилена получается этиловый спирт, из пропена — изопропиловый. Присоединение воды ид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авилу Марковникова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поэтому из первичных спиртов по данной реакции можно получить только этиловый спир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1476360" y="1413000"/>
            <a:ext cx="748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 Гидролиз алкилгалогенидов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д действием водных растворов щелочей: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—Br + NaOH→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—OH + 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NaBr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 этой реакции можно получать первичные, вторичные и третичные спирты.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47280" y="764640"/>
            <a:ext cx="759636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 Восстановление карбонильных соединений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- образуются первичные спирты, при восстановлении кетонов (2) — вторичные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—CH=O +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336699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 → R—CH</a:t>
            </a:r>
            <a:r>
              <a:rPr b="1" lang="en-US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—OH,           (1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—CO—R' +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→ R—CH(OH) —R'     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Реакцию проводят, пропуская смесь паров альдегида или кетона и водорода над никелевым катализаторо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547640" y="2276640"/>
            <a:ext cx="705672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. Спиртовое  брожение глюкозы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С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Н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О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   →  2С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Н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ОН + 2СО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↑.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Применение спирто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989000"/>
            <a:ext cx="65149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пирты главным образом используют в промышленности органического синтез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анол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– сильный яд, при приеме внутрь вызывает слепоту, в больших дозах - смерть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9" name="Picture 4" descr="Копия 3"/>
          <p:cNvPicPr/>
          <p:nvPr/>
        </p:nvPicPr>
        <p:blipFill>
          <a:blip r:embed="rId1"/>
          <a:stretch/>
        </p:blipFill>
        <p:spPr>
          <a:xfrm>
            <a:off x="0" y="476280"/>
            <a:ext cx="27003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4"/>
          <p:cNvSpPr/>
          <p:nvPr/>
        </p:nvSpPr>
        <p:spPr>
          <a:xfrm>
            <a:off x="1476360" y="1700280"/>
            <a:ext cx="74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анол</a:t>
            </a: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 - важное сырье пищевой промышленности. В фармации используется для приготовления настоек и экстрактов. В медицине как наружное антисептическое средство для дезинфекции рук и хирургических инструментов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рименение этанол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2" name="Picture 8" descr="учебник 009"/>
          <p:cNvPicPr/>
          <p:nvPr/>
        </p:nvPicPr>
        <p:blipFill>
          <a:blip r:embed="rId1"/>
          <a:stretch/>
        </p:blipFill>
        <p:spPr>
          <a:xfrm>
            <a:off x="1979640" y="1268280"/>
            <a:ext cx="5905440" cy="5064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9000"/>
            <a:ext cx="9144000" cy="7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Тест для закрепления по теме спирт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835280" y="134136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Альтернативный тест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99"/>
                </a:solidFill>
                <a:latin typeface="Arial"/>
              </a:rPr>
              <a:t>Подтвердите или опровергните данные утверждения знаками «+» и «−» соответственно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Arial"/>
              </a:rPr>
              <a:t>Этанол – жидкость  с характерным алкогольным запахом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дноатомные спирты не горят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Arial"/>
              </a:rPr>
              <a:t>Пропанол-1 взаимодействует с бромоводородом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Метанол – газообразное вещество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Arial"/>
              </a:rPr>
              <a:t>У спирта 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1" lang="ru-RU" sz="2500" spc="-1" strike="noStrike" baseline="-25000">
                <a:solidFill>
                  <a:srgbClr val="006633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H</a:t>
            </a:r>
            <a:r>
              <a:rPr b="1" lang="ru-RU" sz="2500" spc="-1" strike="noStrike" baseline="-25000">
                <a:solidFill>
                  <a:srgbClr val="006633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OH</a:t>
            </a:r>
            <a:r>
              <a:rPr b="1" lang="ru-RU" sz="2500" spc="-1" strike="noStrike">
                <a:solidFill>
                  <a:srgbClr val="006633"/>
                </a:solidFill>
                <a:latin typeface="Arial"/>
              </a:rPr>
              <a:t>  существует 4 изомера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Этиленгликоль – одноатомный спирт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щая характеристик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бщая формула гомологического ряда предельных одноатомных спиртов —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n+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зависимости от того, при каком углеродном атоме находится гидроксильная группа, различают спирты первичные (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OH), вторичные (R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H-OH) и третичные (R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ОН). Простейшие спирты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ервичные: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ОН      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ОН      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ОН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метанол        этанол              пропанол-1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         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Эталон ответа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050920" y="3213000"/>
          <a:ext cx="6913800" cy="1744920"/>
        </p:xfrm>
        <a:graphic>
          <a:graphicData uri="http://schemas.openxmlformats.org/drawingml/2006/table">
            <a:tbl>
              <a:tblPr/>
              <a:tblGrid>
                <a:gridCol w="987480"/>
                <a:gridCol w="987480"/>
                <a:gridCol w="987480"/>
                <a:gridCol w="987480"/>
                <a:gridCol w="987480"/>
                <a:gridCol w="988920"/>
                <a:gridCol w="987480"/>
              </a:tblGrid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опрос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−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−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−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−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оменклатур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азвания спиртов образуют, добавляя окончание 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к названию углеводорода с самой длинной углеродной цепью, включающей гидроксильн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умерацию цепи начинают с того края, ближе к которому расположена гидроксильная групп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роме того, широко распространена заместительная номенклатура, по которой название спирта производится от соответствующего углеводородного радикала с добавлением, слова "спирт", например: C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OH — этиловый спир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9" descr="image002"/>
          <p:cNvPicPr/>
          <p:nvPr/>
        </p:nvPicPr>
        <p:blipFill>
          <a:blip r:embed="rId1"/>
          <a:stretch/>
        </p:blipFill>
        <p:spPr>
          <a:xfrm>
            <a:off x="1689120" y="2763720"/>
            <a:ext cx="7345440" cy="1989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1"/>
          <p:cNvSpPr/>
          <p:nvPr/>
        </p:nvSpPr>
        <p:spPr>
          <a:xfrm>
            <a:off x="1465200" y="2459880"/>
            <a:ext cx="74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                                   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2025720" y="4911840"/>
            <a:ext cx="24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пропанол-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4500720" y="4941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буганол-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7020000" y="48690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2-метилпропанол-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241280" y="1557360"/>
            <a:ext cx="7427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вторичные               третичный             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зомерия одноатомных спирто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яется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0160" y="1676520"/>
            <a:ext cx="7772400" cy="398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троением углеродного скелета (например, бутанол-2 и 2-метилпропанол-2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ложением функциональной  группы ОН</a:t>
            </a:r>
            <a:r>
              <a:rPr b="1" lang="ru-RU" sz="3200" spc="-1" strike="noStrike" baseline="30000">
                <a:solidFill>
                  <a:srgbClr val="336699"/>
                </a:solidFill>
                <a:latin typeface="Arial"/>
              </a:rPr>
              <a:t> -       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(пропанол-1 и пропанол-2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изшие спирты (д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15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) — жидкости, высшие — твердые веществ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етанол и этанол смешиваются с водой в любых соотношениях. С ростом молекулярной массы растворимость спиртов в воде падает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о сравнению с соответствующими углеводородами, спирты име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ысокие температуры плавления и кипения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, что объясняется сильной ассоциацией молекул спирта в жидком состоянии за счет образования водородных связей 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бразование водородных связей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0" name="Picture 7" descr="спирт1"/>
          <p:cNvPicPr/>
          <p:nvPr/>
        </p:nvPicPr>
        <p:blipFill>
          <a:blip r:embed="rId1"/>
          <a:stretch/>
        </p:blipFill>
        <p:spPr>
          <a:xfrm>
            <a:off x="1476360" y="1125360"/>
            <a:ext cx="3409920" cy="439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спирт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80000" y="765000"/>
            <a:ext cx="2995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спирт3"/>
          <p:cNvPicPr/>
          <p:nvPr/>
        </p:nvPicPr>
        <p:blipFill>
          <a:blip r:embed="rId3"/>
          <a:stretch/>
        </p:blipFill>
        <p:spPr>
          <a:xfrm>
            <a:off x="5580000" y="3573360"/>
            <a:ext cx="3095640" cy="2662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1531080" y="546732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водородной связи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 молекулами спирта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435640" y="314172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 молекулами воды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716360" y="6308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 молекулами спирта  и воды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5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Химические свойства спиртов</a:t>
            </a:r>
            <a:br>
              <a:rPr sz="4400"/>
            </a:b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7" name="Picture 4" descr="0"/>
          <p:cNvPicPr/>
          <p:nvPr/>
        </p:nvPicPr>
        <p:blipFill>
          <a:blip r:embed="rId1"/>
          <a:stretch/>
        </p:blipFill>
        <p:spPr>
          <a:xfrm>
            <a:off x="1763640" y="2133720"/>
            <a:ext cx="6912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6:55:13Z</dcterms:created>
  <dc:creator>Никита</dc:creator>
  <dc:description/>
  <dc:language>en-US</dc:language>
  <cp:lastModifiedBy>Пользователь</cp:lastModifiedBy>
  <dcterms:modified xsi:type="dcterms:W3CDTF">2019-03-31T16:40:07Z</dcterms:modified>
  <cp:revision>57</cp:revision>
  <dc:subject/>
  <dc:title>Спирты</dc:title>
</cp:coreProperties>
</file>